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5C0-617B-4686-A70E-4EEB910E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355-BB3B-4014-B086-AA7401C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D10-86E4-4EA9-B032-1648BE12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D21-31FC-47BB-853D-34CDD93A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89E-5FD5-4D2C-A667-1817B1D7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D0D-5EB0-48D5-A34A-20FB054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AEC4-27C8-4F92-BE43-353C4DD2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BDA8-89F2-4C49-B2CC-913FC7C6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B4C-E0EF-4820-98B9-1993487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847A-B2B1-4129-A107-8D3A5F35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F56D-6E8B-49C4-AB97-EFBC1E7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457-2B49-4884-BF82-0C578711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CE48-8828-4A82-9FDE-08E8E83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5259-F9D4-4D09-BCEB-918E7039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E34E-01E8-4CC7-B128-3C1B7043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5BC7-1790-4F49-8722-080CCD05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311-2257-4BF7-8CA2-9B6C7243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0F913-8361-465C-84C1-240A514F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D314-03E5-4C22-8B6B-DA1C806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7ABF-AAEA-4FA5-8461-3F5CCAE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CD4B-5EB5-463A-AB67-331BEB4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B33B-225B-4EF3-A987-6AB400E7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8E7-755A-42B2-88FE-6A644F4E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2F10-E21C-40D6-9902-8264320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C108-5394-4EE3-B58B-A86AD33B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2B92-F265-4108-9988-9052E74D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36BF-5DE4-43A0-BAC2-D577F87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A50E-D0FD-4A2F-BA21-131A78C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20625-FAAE-4B26-B384-D4FEEFA3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408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0600" y="18288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408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0600" y="41770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56F3-C81A-425D-8492-BC0B08CE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080-6543-4161-8EFA-9212FA21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705-52E4-4837-8D81-AA2E2B8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71F-3848-43F0-BC67-BF26024A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4CC-59A2-4463-A9C9-04C645E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17708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39C-D4E6-41AE-BB3F-C433BD6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40920"/>
            <a:ext cx="8153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828800"/>
            <a:ext cx="39787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15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251-A58B-4C04-BD19-8EBEFC7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C463-FA4E-4CDF-B464-B06D2FC7B2BF}" type="slidenum">
              <a:rPr b="1" lang="en-US" sz="10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81E-5AFC-4AE7-B703-78E951FE145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2103-A300-44AC-8478-41C17EC1A7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B97-5AD7-4D8E-A0BC-D62C892E178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Pixelram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508040" y="914400"/>
            <a:ext cx="53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国外马赛克图片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8200"/>
          <p:cNvSpPr/>
          <p:nvPr/>
        </p:nvSpPr>
        <p:spPr>
          <a:xfrm>
            <a:off x="533520" y="3276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3931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D252-CF68-43F0-93A4-12D69F5B04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48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