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F684-4340-4E87-9688-9FBB6C6BF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68421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050920" y="3425400"/>
            <a:ext cx="68421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7861-7454-43AD-A066-03D3207A6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56960" y="9810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050920" y="34254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56960" y="34254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C48D-48D1-4317-961E-FE7347084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2202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64280" y="981000"/>
            <a:ext cx="2202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77640" y="981000"/>
            <a:ext cx="2202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050920" y="3425400"/>
            <a:ext cx="2202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64280" y="3425400"/>
            <a:ext cx="2202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77640" y="3425400"/>
            <a:ext cx="2202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5006-EDD8-4E75-9AF4-1143E3C22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AC1D5-789B-4FC7-A2DE-A5B008E0B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050920" y="981000"/>
            <a:ext cx="68421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18C25-67D6-4B34-8231-A6A91A57F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68421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C9637-55FA-4FD8-83DF-9FEAB0D77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3338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56960" y="981000"/>
            <a:ext cx="3338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D5F45-0ABD-4457-A266-0EB2E64F4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2BA32-413D-4F40-BBC5-5CB8B7E9A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050920" y="333000"/>
            <a:ext cx="504216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6CA17-C834-48DE-81E8-84E8D285C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56960" y="981000"/>
            <a:ext cx="3338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050920" y="34254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02369-64DE-4CDA-8642-AF296D66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050920" y="981000"/>
            <a:ext cx="68421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D883-5C32-4E98-A93C-FBB018631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3338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56960" y="9810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56960" y="34254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D8565-3184-4EB5-BAC2-1C9B6E62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56960" y="9810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050920" y="3425400"/>
            <a:ext cx="68421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6B723-AA53-43B7-B8B5-5940A5BA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68421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050920" y="3425400"/>
            <a:ext cx="68421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E161F-CF0A-482E-AA8A-6AE2098EF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56960" y="9810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050920" y="34254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56960" y="34254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16300-B529-4289-A47D-D76D8CA12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2202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64280" y="981000"/>
            <a:ext cx="2202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77640" y="981000"/>
            <a:ext cx="2202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050920" y="3425400"/>
            <a:ext cx="2202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64280" y="3425400"/>
            <a:ext cx="2202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77640" y="3425400"/>
            <a:ext cx="2202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5F24A-CC1A-4678-9F7F-AC3229B3D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CB296-09E5-48FA-AC4D-48D93A6C2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050920" y="981000"/>
            <a:ext cx="68421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5153C-2A52-46D6-9C8F-927D251D4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68421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111DE-0F75-4E57-A58D-0C0989D03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3338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556960" y="981000"/>
            <a:ext cx="3338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5E428-B4AD-49BC-BE62-783E559AE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70EE4-45C8-4624-A7CE-58FE55C33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68421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F455-416E-4C9B-888D-0BCCDE6D7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050920" y="333000"/>
            <a:ext cx="504216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451C3-7943-412E-B720-C4FE7E1D1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556960" y="981000"/>
            <a:ext cx="3338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050920" y="34254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BFFDD-46B1-4593-A0B2-8B27B734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3338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556960" y="9810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556960" y="34254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6EA59-24C9-49BC-886C-D174603B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556960" y="9810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050920" y="3425400"/>
            <a:ext cx="68421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52EB9-2821-4126-9000-A8C2221D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68421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050920" y="3425400"/>
            <a:ext cx="68421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9AF8F-1A86-450D-955A-4247CD27B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556960" y="9810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050920" y="34254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556960" y="34254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F3735-6056-454E-BEAC-F3D37D75F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2202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4280" y="981000"/>
            <a:ext cx="2202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677640" y="981000"/>
            <a:ext cx="2202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050920" y="3425400"/>
            <a:ext cx="2202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364280" y="3425400"/>
            <a:ext cx="2202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677640" y="3425400"/>
            <a:ext cx="2202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498D0-2E1B-4238-BBA2-AD22CEF7D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3338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56960" y="981000"/>
            <a:ext cx="3338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0793-0B2D-4BEB-9F38-B3BDBECC9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A809-CF39-42FE-974A-4E9829CB8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50920" y="333000"/>
            <a:ext cx="504216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45A1-C159-451D-9FFD-B98852C70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56960" y="981000"/>
            <a:ext cx="3338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050920" y="34254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8CB2-5663-4F1E-9AE6-C9334C6ED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3338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56960" y="9810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56960" y="34254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D4AB-55F7-4F9A-8C2F-726A23FE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56960" y="9810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050920" y="3425400"/>
            <a:ext cx="68421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F2C3-314D-42B3-A597-A973FC96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050920" y="981000"/>
            <a:ext cx="68421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457200" indent="457200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2" marL="914400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3" marL="1371600" indent="-457200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4" marL="1828800" indent="-914400">
              <a:spcBef>
                <a:spcPts val="4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050920" y="5877000"/>
            <a:ext cx="22320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27640" y="5876640"/>
            <a:ext cx="4465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5640" y="333000"/>
            <a:ext cx="1657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8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D96BA-3731-4AA2-8C3E-D42A26FB9BF2}" type="slidenum">
              <a:rPr b="1" lang="zh-CN" sz="1400" spc="-1" strike="noStrike">
                <a:solidFill>
                  <a:srgbClr val="8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327A1-DFD9-48A5-A7A7-1FF6BC24808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9F2E9-D8E4-4348-AF2A-025C2897657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3078"/>
          <p:cNvSpPr txBox="1"/>
          <p:nvPr/>
        </p:nvSpPr>
        <p:spPr>
          <a:xfrm>
            <a:off x="1763640" y="1125360"/>
            <a:ext cx="5688000" cy="1582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0033"/>
                </a:solidFill>
                <a:latin typeface="Arial"/>
              </a:rPr>
              <a:t>St. Valentine's Day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990033"/>
              </a:solidFill>
              <a:latin typeface="Arial"/>
              <a:ea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050920" y="981000"/>
            <a:ext cx="68421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457200" indent="457200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2" marL="914400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3" marL="1371600" indent="-457200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4" marL="1828800" indent="-914400">
              <a:spcBef>
                <a:spcPts val="4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17892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2484000" y="6237000"/>
            <a:ext cx="4824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7478640" y="6237000"/>
            <a:ext cx="1486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8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99BF1-B077-4975-9548-6B4BD98B1D5F}" type="slidenum">
              <a:rPr b="1" lang="zh-CN" sz="1400" spc="-1" strike="noStrike">
                <a:solidFill>
                  <a:srgbClr val="8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3851280" y="5516280"/>
            <a:ext cx="511344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5" name="文本框 2051"/>
          <p:cNvSpPr/>
          <p:nvPr/>
        </p:nvSpPr>
        <p:spPr>
          <a:xfrm>
            <a:off x="395280" y="18900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971280" y="44280"/>
            <a:ext cx="6985080" cy="9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国外情人节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模板免费下载</a:t>
            </a:r>
            <a:endParaRPr b="1" lang="en-US" sz="4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B4D3A-EFF7-4946-A3F9-835CBE4DA04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000" spc="-1" strike="noStrike">
              <a:solidFill>
                <a:srgbClr val="800000"/>
              </a:solidFill>
              <a:latin typeface="Arial"/>
              <a:ea typeface="宋体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050920" y="981000"/>
            <a:ext cx="68421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4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7T14:18:5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1:39Z</dcterms:modified>
  <cp:revision>1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