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1255-6A37-4235-848D-72B0342D2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24758-C3EA-46D5-BD60-A3FE7D4EF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2339-C513-41B3-AD9C-5A81ECBB2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796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5628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964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796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5628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B334-8DF2-4B2E-8D3A-A415E2301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AE2A9-1AAE-42F2-95F6-5AD491D1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0175A-D3E9-4A12-9D4C-509DB05C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74123-1865-4100-B57C-FAE614A3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14558-4C55-4620-B8D7-FF22A51F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DC0AC-60C2-4D8E-A6AC-ECDED863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4000" y="135000"/>
            <a:ext cx="84247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9DBE6-32D6-448F-9FB5-122C1245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B4C0B-A90C-4B45-875E-6E934892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C33B-7813-4753-AF28-18CB7EE72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F1504-D667-4597-AD9B-F5F3901E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6453A-AA61-4AA4-8256-983E570E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EB989-6A63-46B2-A07C-EDBB0D2D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AEFF0-53E5-4F6C-9195-7B366A2F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9796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5628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964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9796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5628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32927-E629-4868-A45C-452675A3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9008-2AE1-413B-8195-CF628AC82B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24000" y="135000"/>
            <a:ext cx="84247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9796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56280" y="112536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964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9796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56280" y="3908520"/>
            <a:ext cx="262656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CF77-5361-466C-89B5-2CAD66390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4690-E1FB-4E01-98B0-468D5DCA6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24000" y="135000"/>
            <a:ext cx="84247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0B3B-F169-4FC6-90CA-975C34B02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F3D8-A7D6-4755-A4F9-84F458905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20320" y="390852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2E35-0996-4160-A2DA-0D4D61FE8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127080"/>
            <a:ext cx="8424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0320" y="1125360"/>
            <a:ext cx="39812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640" y="3908520"/>
            <a:ext cx="815832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E809-67B7-4061-8AAD-1E3A5A77C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2397" descr="back_gr"/>
          <p:cNvPicPr/>
          <p:nvPr/>
        </p:nvPicPr>
        <p:blipFill>
          <a:blip r:embed="rId2"/>
          <a:srcRect l="0" t="0" r="26719" b="-795"/>
          <a:stretch/>
        </p:blipFill>
        <p:spPr>
          <a:xfrm>
            <a:off x="36360" y="4248000"/>
            <a:ext cx="9093240" cy="2637000"/>
          </a:xfrm>
          <a:prstGeom prst="rect">
            <a:avLst/>
          </a:prstGeom>
          <a:ln w="0">
            <a:noFill/>
          </a:ln>
        </p:spPr>
      </p:pic>
      <p:sp>
        <p:nvSpPr>
          <p:cNvPr id="1" name="任意多边形 12381"/>
          <p:cNvSpPr/>
          <p:nvPr/>
        </p:nvSpPr>
        <p:spPr>
          <a:xfrm>
            <a:off x="34920" y="1440"/>
            <a:ext cx="9121680" cy="1587600"/>
          </a:xfrm>
          <a:custGeom>
            <a:avLst/>
            <a:gdLst/>
            <a:ahLst/>
            <a:rect l="l" t="t" r="r" b="b"/>
            <a:pathLst>
              <a:path w="5746" h="1000">
                <a:moveTo>
                  <a:pt x="0" y="597"/>
                </a:moveTo>
                <a:cubicBezTo>
                  <a:pt x="314" y="564"/>
                  <a:pt x="1218" y="424"/>
                  <a:pt x="1887" y="400"/>
                </a:cubicBezTo>
                <a:cubicBezTo>
                  <a:pt x="2556" y="376"/>
                  <a:pt x="3514" y="406"/>
                  <a:pt x="4233" y="518"/>
                </a:cubicBezTo>
                <a:cubicBezTo>
                  <a:pt x="4919" y="635"/>
                  <a:pt x="5665" y="919"/>
                  <a:pt x="5738" y="1000"/>
                </a:cubicBezTo>
                <a:lnTo>
                  <a:pt x="5746" y="0"/>
                </a:lnTo>
                <a:lnTo>
                  <a:pt x="1" y="7"/>
                </a:lnTo>
              </a:path>
            </a:pathLst>
          </a:custGeom>
          <a:gradFill rotWithShape="0">
            <a:gsLst>
              <a:gs pos="0">
                <a:srgbClr val="05935d"/>
              </a:gs>
              <a:gs pos="100000">
                <a:srgbClr val="0244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23640" y="6477120"/>
            <a:ext cx="718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C06B-7089-4D8C-9CAA-12A12C78C403}" type="slidenum">
              <a:rPr b="1" lang="ko-KR" sz="12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" name="椭圆 12398"/>
          <p:cNvSpPr/>
          <p:nvPr/>
        </p:nvSpPr>
        <p:spPr>
          <a:xfrm>
            <a:off x="8459640" y="1197000"/>
            <a:ext cx="358920" cy="35892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42b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6" name="椭圆 12399"/>
          <p:cNvSpPr/>
          <p:nvPr/>
        </p:nvSpPr>
        <p:spPr>
          <a:xfrm>
            <a:off x="7956720" y="981000"/>
            <a:ext cx="358560" cy="35892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42b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7" name="椭圆 12400"/>
          <p:cNvSpPr/>
          <p:nvPr/>
        </p:nvSpPr>
        <p:spPr>
          <a:xfrm>
            <a:off x="7426440" y="811080"/>
            <a:ext cx="358560" cy="35892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42b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8" name="组合 12407"/>
          <p:cNvGrpSpPr/>
          <p:nvPr/>
        </p:nvGrpSpPr>
        <p:grpSpPr>
          <a:xfrm>
            <a:off x="0" y="-27000"/>
            <a:ext cx="9140760" cy="6886440"/>
            <a:chOff x="0" y="-27000"/>
            <a:chExt cx="9140760" cy="6886440"/>
          </a:xfrm>
        </p:grpSpPr>
        <p:sp>
          <p:nvSpPr>
            <p:cNvPr id="9" name="任意多边形 12408"/>
            <p:cNvSpPr/>
            <p:nvPr/>
          </p:nvSpPr>
          <p:spPr>
            <a:xfrm>
              <a:off x="0" y="6386400"/>
              <a:ext cx="412920" cy="471600"/>
            </a:xfrm>
            <a:custGeom>
              <a:avLst/>
              <a:gdLst/>
              <a:ahLst/>
              <a:rect l="l" t="t" r="r" b="b"/>
              <a:pathLst>
                <a:path w="260" h="297">
                  <a:moveTo>
                    <a:pt x="260" y="297"/>
                  </a:moveTo>
                  <a:lnTo>
                    <a:pt x="144" y="225"/>
                  </a:lnTo>
                  <a:lnTo>
                    <a:pt x="52" y="137"/>
                  </a:lnTo>
                  <a:lnTo>
                    <a:pt x="0" y="0"/>
                  </a:lnTo>
                  <a:lnTo>
                    <a:pt x="1" y="29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0" name="圆角矩形 12409"/>
            <p:cNvSpPr/>
            <p:nvPr/>
          </p:nvSpPr>
          <p:spPr>
            <a:xfrm>
              <a:off x="41400" y="42840"/>
              <a:ext cx="9063000" cy="67690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1" name="任意多边形 12410"/>
            <p:cNvSpPr/>
            <p:nvPr/>
          </p:nvSpPr>
          <p:spPr>
            <a:xfrm>
              <a:off x="0" y="-27000"/>
              <a:ext cx="539640" cy="530280"/>
            </a:xfrm>
            <a:custGeom>
              <a:avLst/>
              <a:gdLst/>
              <a:ahLst/>
              <a:rect l="l" t="t" r="r" b="b"/>
              <a:pathLst>
                <a:path w="288" h="338">
                  <a:moveTo>
                    <a:pt x="1" y="338"/>
                  </a:moveTo>
                  <a:cubicBezTo>
                    <a:pt x="14" y="302"/>
                    <a:pt x="1" y="244"/>
                    <a:pt x="77" y="122"/>
                  </a:cubicBezTo>
                  <a:cubicBezTo>
                    <a:pt x="153" y="0"/>
                    <a:pt x="288" y="32"/>
                    <a:pt x="275" y="20"/>
                  </a:cubicBez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2" name="任意多边形 12411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3" name="任意多边形 12412"/>
            <p:cNvSpPr/>
            <p:nvPr/>
          </p:nvSpPr>
          <p:spPr>
            <a:xfrm>
              <a:off x="8780400" y="6400800"/>
              <a:ext cx="360360" cy="458640"/>
            </a:xfrm>
            <a:custGeom>
              <a:avLst/>
              <a:gdLst/>
              <a:ahLst/>
              <a:rect l="l" t="t" r="r" b="b"/>
              <a:pathLst>
                <a:path w="227" h="289">
                  <a:moveTo>
                    <a:pt x="0" y="289"/>
                  </a:moveTo>
                  <a:lnTo>
                    <a:pt x="227" y="289"/>
                  </a:lnTo>
                  <a:lnTo>
                    <a:pt x="227" y="17"/>
                  </a:lnTo>
                  <a:cubicBezTo>
                    <a:pt x="211" y="0"/>
                    <a:pt x="210" y="117"/>
                    <a:pt x="129" y="188"/>
                  </a:cubicBezTo>
                  <a:cubicBezTo>
                    <a:pt x="48" y="259"/>
                    <a:pt x="28" y="270"/>
                    <a:pt x="0" y="2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84720" y="6453360"/>
            <a:ext cx="289584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굴림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83CD-BCC4-40A7-A203-BAB1AD02C90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50A5-1829-42ED-A597-BB60B215B2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3408"/>
          <p:cNvSpPr/>
          <p:nvPr/>
        </p:nvSpPr>
        <p:spPr>
          <a:xfrm>
            <a:off x="41400" y="260280"/>
            <a:ext cx="9083520" cy="6264360"/>
          </a:xfrm>
          <a:prstGeom prst="rect">
            <a:avLst/>
          </a:prstGeom>
          <a:gradFill rotWithShape="0">
            <a:gsLst>
              <a:gs pos="0">
                <a:srgbClr val="072b30"/>
              </a:gs>
              <a:gs pos="100000">
                <a:srgbClr val="0f5d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3" name="椭圆 13432"/>
          <p:cNvSpPr/>
          <p:nvPr/>
        </p:nvSpPr>
        <p:spPr>
          <a:xfrm>
            <a:off x="4067280" y="2133720"/>
            <a:ext cx="4610160" cy="4724280"/>
          </a:xfrm>
          <a:prstGeom prst="ellipse">
            <a:avLst/>
          </a:prstGeom>
          <a:gradFill rotWithShape="0">
            <a:gsLst>
              <a:gs pos="0">
                <a:srgbClr val="072b30"/>
              </a:gs>
              <a:gs pos="100000">
                <a:srgbClr val="0f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4" name="任意多边形 13396"/>
          <p:cNvSpPr/>
          <p:nvPr/>
        </p:nvSpPr>
        <p:spPr>
          <a:xfrm>
            <a:off x="19080" y="-934920"/>
            <a:ext cx="9059760" cy="5284800"/>
          </a:xfrm>
          <a:custGeom>
            <a:avLst/>
            <a:gdLst/>
            <a:ahLst/>
            <a:rect l="l" t="t" r="r" b="b"/>
            <a:pathLst>
              <a:path w="5707" h="3329">
                <a:moveTo>
                  <a:pt x="0" y="1248"/>
                </a:moveTo>
                <a:cubicBezTo>
                  <a:pt x="4541" y="0"/>
                  <a:pt x="5513" y="2381"/>
                  <a:pt x="5536" y="3329"/>
                </a:cubicBezTo>
                <a:lnTo>
                  <a:pt x="5699" y="3263"/>
                </a:lnTo>
                <a:lnTo>
                  <a:pt x="5707" y="600"/>
                </a:lnTo>
                <a:lnTo>
                  <a:pt x="0" y="600"/>
                </a:lnTo>
              </a:path>
            </a:pathLst>
          </a:custGeom>
          <a:gradFill rotWithShape="0">
            <a:gsLst>
              <a:gs pos="0">
                <a:srgbClr val="036741"/>
              </a:gs>
              <a:gs pos="100000">
                <a:srgbClr val="0593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pic>
        <p:nvPicPr>
          <p:cNvPr id="95" name="图片 13407" descr="back_g"/>
          <p:cNvPicPr/>
          <p:nvPr/>
        </p:nvPicPr>
        <p:blipFill>
          <a:blip r:embed="rId2"/>
          <a:stretch/>
        </p:blipFill>
        <p:spPr>
          <a:xfrm>
            <a:off x="30240" y="4221000"/>
            <a:ext cx="9075600" cy="260676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3406"/>
          <p:cNvSpPr/>
          <p:nvPr/>
        </p:nvSpPr>
        <p:spPr>
          <a:xfrm>
            <a:off x="7451640" y="476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LOGO</a:t>
            </a:r>
            <a:endParaRPr b="0" lang="en-US" sz="2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7" name="椭圆 13414"/>
          <p:cNvSpPr/>
          <p:nvPr/>
        </p:nvSpPr>
        <p:spPr>
          <a:xfrm>
            <a:off x="6934320" y="1152360"/>
            <a:ext cx="380880" cy="40356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42b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593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8" name="椭圆 13415"/>
          <p:cNvSpPr/>
          <p:nvPr/>
        </p:nvSpPr>
        <p:spPr>
          <a:xfrm>
            <a:off x="7451640" y="1557360"/>
            <a:ext cx="381240" cy="40320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42b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593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99" name="椭圆 13416"/>
          <p:cNvSpPr/>
          <p:nvPr/>
        </p:nvSpPr>
        <p:spPr>
          <a:xfrm>
            <a:off x="7885080" y="2060640"/>
            <a:ext cx="380880" cy="40320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442b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593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100" name="组合 13431"/>
          <p:cNvGrpSpPr/>
          <p:nvPr/>
        </p:nvGrpSpPr>
        <p:grpSpPr>
          <a:xfrm>
            <a:off x="0" y="-27000"/>
            <a:ext cx="9140760" cy="6886440"/>
            <a:chOff x="0" y="-27000"/>
            <a:chExt cx="9140760" cy="6886440"/>
          </a:xfrm>
        </p:grpSpPr>
        <p:sp>
          <p:nvSpPr>
            <p:cNvPr id="101" name="任意多边形 13425"/>
            <p:cNvSpPr/>
            <p:nvPr/>
          </p:nvSpPr>
          <p:spPr>
            <a:xfrm>
              <a:off x="0" y="6386400"/>
              <a:ext cx="412920" cy="471600"/>
            </a:xfrm>
            <a:custGeom>
              <a:avLst/>
              <a:gdLst/>
              <a:ahLst/>
              <a:rect l="l" t="t" r="r" b="b"/>
              <a:pathLst>
                <a:path w="260" h="297">
                  <a:moveTo>
                    <a:pt x="260" y="297"/>
                  </a:moveTo>
                  <a:lnTo>
                    <a:pt x="144" y="225"/>
                  </a:lnTo>
                  <a:lnTo>
                    <a:pt x="52" y="137"/>
                  </a:lnTo>
                  <a:lnTo>
                    <a:pt x="0" y="0"/>
                  </a:lnTo>
                  <a:lnTo>
                    <a:pt x="1" y="29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02" name="圆角矩形 13427"/>
            <p:cNvSpPr/>
            <p:nvPr/>
          </p:nvSpPr>
          <p:spPr>
            <a:xfrm>
              <a:off x="41400" y="42840"/>
              <a:ext cx="9063000" cy="67690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03" name="任意多边形 13428"/>
            <p:cNvSpPr/>
            <p:nvPr/>
          </p:nvSpPr>
          <p:spPr>
            <a:xfrm>
              <a:off x="0" y="-27000"/>
              <a:ext cx="539640" cy="530280"/>
            </a:xfrm>
            <a:custGeom>
              <a:avLst/>
              <a:gdLst/>
              <a:ahLst/>
              <a:rect l="l" t="t" r="r" b="b"/>
              <a:pathLst>
                <a:path w="288" h="338">
                  <a:moveTo>
                    <a:pt x="1" y="338"/>
                  </a:moveTo>
                  <a:cubicBezTo>
                    <a:pt x="14" y="302"/>
                    <a:pt x="1" y="244"/>
                    <a:pt x="77" y="122"/>
                  </a:cubicBezTo>
                  <a:cubicBezTo>
                    <a:pt x="153" y="0"/>
                    <a:pt x="288" y="32"/>
                    <a:pt x="275" y="20"/>
                  </a:cubicBezTo>
                  <a:lnTo>
                    <a:pt x="0" y="2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04" name="任意多边形 13429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105" name="任意多边形 13430"/>
            <p:cNvSpPr/>
            <p:nvPr/>
          </p:nvSpPr>
          <p:spPr>
            <a:xfrm>
              <a:off x="8780400" y="6400800"/>
              <a:ext cx="360360" cy="458640"/>
            </a:xfrm>
            <a:custGeom>
              <a:avLst/>
              <a:gdLst/>
              <a:ahLst/>
              <a:rect l="l" t="t" r="r" b="b"/>
              <a:pathLst>
                <a:path w="227" h="289">
                  <a:moveTo>
                    <a:pt x="0" y="289"/>
                  </a:moveTo>
                  <a:lnTo>
                    <a:pt x="227" y="289"/>
                  </a:lnTo>
                  <a:lnTo>
                    <a:pt x="227" y="17"/>
                  </a:lnTo>
                  <a:cubicBezTo>
                    <a:pt x="211" y="0"/>
                    <a:pt x="210" y="117"/>
                    <a:pt x="129" y="188"/>
                  </a:cubicBezTo>
                  <a:cubicBezTo>
                    <a:pt x="48" y="259"/>
                    <a:pt x="28" y="270"/>
                    <a:pt x="0" y="2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106" name="椭圆 13433"/>
          <p:cNvSpPr/>
          <p:nvPr/>
        </p:nvSpPr>
        <p:spPr>
          <a:xfrm>
            <a:off x="1835280" y="5661000"/>
            <a:ext cx="934920" cy="936720"/>
          </a:xfrm>
          <a:prstGeom prst="ellipse">
            <a:avLst/>
          </a:prstGeom>
          <a:gradFill rotWithShape="0">
            <a:gsLst>
              <a:gs pos="0">
                <a:srgbClr val="05935d"/>
              </a:gs>
              <a:gs pos="100000">
                <a:srgbClr val="023a2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07" name="椭圆 13434"/>
          <p:cNvSpPr/>
          <p:nvPr/>
        </p:nvSpPr>
        <p:spPr>
          <a:xfrm>
            <a:off x="900000" y="5830920"/>
            <a:ext cx="505080" cy="5032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2e3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326e5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f5d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93360" y="3111120"/>
            <a:ext cx="8196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国外企业介绍</a:t>
            </a:r>
            <a:r>
              <a:rPr b="1" lang="en-US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完整版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f5d6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f5d6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f5d6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8A4E-F790-431D-A48B-B1D9A5377DDD}" type="slidenum">
              <a:rPr b="0" lang="zh-CN" sz="1400" spc="-1" strike="noStrike">
                <a:solidFill>
                  <a:srgbClr val="0f5d6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49153"/>
          <p:cNvSpPr txBox="1"/>
          <p:nvPr/>
        </p:nvSpPr>
        <p:spPr>
          <a:xfrm>
            <a:off x="1676520" y="2666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5935d"/>
                    </a:gs>
                    <a:gs pos="100000">
                      <a:srgbClr val="69aab1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5935d"/>
                  </a:gs>
                  <a:gs pos="100000">
                    <a:srgbClr val="69aab1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矩形 49154"/>
          <p:cNvSpPr/>
          <p:nvPr/>
        </p:nvSpPr>
        <p:spPr>
          <a:xfrm>
            <a:off x="1828800" y="3733920"/>
            <a:ext cx="5410080" cy="304560"/>
          </a:xfrm>
          <a:prstGeom prst="rect">
            <a:avLst/>
          </a:prstGeom>
          <a:solidFill>
            <a:srgbClr val="0f5d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Your Company Slogan</a:t>
            </a:r>
            <a:endParaRPr b="0" lang="en-US" sz="14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圆角矩形 35843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442b"/>
              </a:gs>
              <a:gs pos="50000">
                <a:srgbClr val="05935d"/>
              </a:gs>
              <a:gs pos="100000">
                <a:srgbClr val="02442b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. Introduction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50" name="圆角矩形 35844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14f52"/>
              </a:gs>
              <a:gs pos="50000">
                <a:srgbClr val="69aab1"/>
              </a:gs>
              <a:gs pos="100000">
                <a:srgbClr val="314f52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. Strategy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51" name="圆角矩形 35845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. Challenges Forward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52" name="圆角矩形 35846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332b"/>
              </a:gs>
              <a:gs pos="50000">
                <a:srgbClr val="326e5d"/>
              </a:gs>
              <a:gs pos="100000">
                <a:srgbClr val="17332b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f5d67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. Conclusion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  <a:ea typeface="굴림"/>
              </a:rPr>
              <a:t>Competitors 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f5d67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9aa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aab1"/>
                </a:solidFill>
                <a:latin typeface="Arial"/>
                <a:ea typeface="굴림"/>
              </a:rPr>
              <a:t>Strengths</a:t>
            </a:r>
            <a:r>
              <a:rPr b="1" lang="en-US" sz="2800" spc="-1" strike="noStrike">
                <a:solidFill>
                  <a:srgbClr val="0f5d67"/>
                </a:solidFill>
                <a:latin typeface="Arial"/>
                <a:ea typeface="굴림"/>
              </a:rPr>
              <a:t> 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f5d67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f5d6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d67"/>
                </a:solidFill>
                <a:latin typeface="Arial"/>
                <a:ea typeface="굴림"/>
              </a:rPr>
              <a:t>Weaknesses</a:t>
            </a: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d67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f5d67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77960" y="1900080"/>
          <a:ext cx="7524720" cy="3556080"/>
        </p:xfrm>
        <a:graphic>
          <a:graphicData uri="http://schemas.openxmlformats.org/drawingml/2006/table">
            <a:tbl>
              <a:tblPr/>
              <a:tblGrid>
                <a:gridCol w="1504800"/>
                <a:gridCol w="1505160"/>
                <a:gridCol w="1504800"/>
                <a:gridCol w="1505160"/>
                <a:gridCol w="1504800"/>
              </a:tblGrid>
              <a:tr h="51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f52"/>
                        </a:gs>
                        <a:gs pos="100000">
                          <a:srgbClr val="69aab1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f52"/>
                        </a:gs>
                        <a:gs pos="100000">
                          <a:srgbClr val="69aab1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f52"/>
                        </a:gs>
                        <a:gs pos="100000">
                          <a:srgbClr val="69aab1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f52"/>
                        </a:gs>
                        <a:gs pos="100000">
                          <a:srgbClr val="69aab1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f52"/>
                        </a:gs>
                        <a:gs pos="100000">
                          <a:srgbClr val="69aab1"/>
                        </a:gs>
                      </a:gsLst>
                      <a:lin ang="2700000"/>
                    </a:gradFill>
                  </a:tcPr>
                </a:tc>
              </a:tr>
              <a:tr h="75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A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7c4a7"/>
                        </a:gs>
                        <a:gs pos="100000">
                          <a:srgbClr val="05935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57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B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e1eed4"/>
                        </a:gs>
                        <a:gs pos="100000">
                          <a:srgbClr val="c8e0b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C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7e374"/>
                        </a:gs>
                        <a:gs pos="100000">
                          <a:srgbClr val="99cc0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굴림"/>
                        </a:rPr>
                        <a:t>D</a:t>
                      </a:r>
                      <a:endParaRPr b="0" lang="en-US" sz="24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fb0a7"/>
                        </a:gs>
                        <a:gs pos="100000">
                          <a:srgbClr val="326e5d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d6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157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f5d6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9aab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f5d6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f5d67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椭圆 44033"/>
          <p:cNvSpPr/>
          <p:nvPr/>
        </p:nvSpPr>
        <p:spPr>
          <a:xfrm rot="20239200">
            <a:off x="1218960" y="2209320"/>
            <a:ext cx="6519600" cy="3062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59" name="椭圆 44034"/>
          <p:cNvSpPr/>
          <p:nvPr/>
        </p:nvSpPr>
        <p:spPr>
          <a:xfrm rot="20240400">
            <a:off x="1358640" y="241884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44036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e9940b"/>
              </a:gs>
              <a:gs pos="100000">
                <a:srgbClr val="492e0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2" name="椭圆 44037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326e5d"/>
              </a:gs>
              <a:gs pos="100000">
                <a:srgbClr val="11262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3" name="椭圆 44038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69aab1"/>
              </a:gs>
              <a:gs pos="100000">
                <a:srgbClr val="243b3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4" name="椭圆 44039"/>
          <p:cNvSpPr/>
          <p:nvPr/>
        </p:nvSpPr>
        <p:spPr>
          <a:xfrm>
            <a:off x="1828800" y="46483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b4c763"/>
              </a:gs>
              <a:gs pos="100000">
                <a:srgbClr val="4047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5" name="椭圆 44040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374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ext</a:t>
            </a:r>
            <a:endParaRPr b="0" lang="en-US" sz="24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6" name="矩形 44041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d67"/>
                </a:solidFill>
                <a:latin typeface="Arial"/>
                <a:ea typeface="굴림"/>
              </a:rPr>
              <a:t>Add Title</a:t>
            </a:r>
            <a:endParaRPr b="0" lang="en-US" sz="32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圆角矩形 45058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6e5d"/>
              </a:gs>
              <a:gs pos="100000">
                <a:srgbClr val="17332b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69" name="圆角矩形 45059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8e0b0"/>
              </a:gs>
              <a:gs pos="100000">
                <a:srgbClr val="555f4b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0" name="圆角矩形 45060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0"/>
          </a:gra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1" name="燕尾形 45061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5" y="0"/>
                </a:lnTo>
                <a:lnTo>
                  <a:pt x="21600" y="10800"/>
                </a:lnTo>
                <a:lnTo>
                  <a:pt x="18045" y="21600"/>
                </a:lnTo>
                <a:lnTo>
                  <a:pt x="0" y="21600"/>
                </a:lnTo>
                <a:lnTo>
                  <a:pt x="3555" y="10800"/>
                </a:lnTo>
                <a:close/>
              </a:path>
            </a:pathLst>
          </a:custGeom>
          <a:solidFill>
            <a:srgbClr val="99cc00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2" name="燕尾形 45062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69aab1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3" name="燕尾形 45063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7" y="0"/>
                </a:lnTo>
                <a:lnTo>
                  <a:pt x="21600" y="10800"/>
                </a:lnTo>
                <a:lnTo>
                  <a:pt x="17847" y="21600"/>
                </a:lnTo>
                <a:lnTo>
                  <a:pt x="0" y="21600"/>
                </a:lnTo>
                <a:lnTo>
                  <a:pt x="3753" y="10800"/>
                </a:lnTo>
                <a:close/>
              </a:path>
            </a:pathLst>
          </a:custGeom>
          <a:solidFill>
            <a:srgbClr val="326e5d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圆角矩形 47106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6" name="圆角矩形 47107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7" name="圆角矩形 47108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178" name="圆角矩形 47109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179" name="组合 47110"/>
          <p:cNvGrpSpPr/>
          <p:nvPr/>
        </p:nvGrpSpPr>
        <p:grpSpPr>
          <a:xfrm>
            <a:off x="1200600" y="1782360"/>
            <a:ext cx="6437160" cy="1387800"/>
            <a:chOff x="1200600" y="1782360"/>
            <a:chExt cx="6437160" cy="1387800"/>
          </a:xfrm>
        </p:grpSpPr>
        <p:sp>
          <p:nvSpPr>
            <p:cNvPr id="180" name="矩形 47111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326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grpSp>
          <p:nvGrpSpPr>
            <p:cNvPr id="181" name="组合 47112"/>
            <p:cNvGrpSpPr/>
            <p:nvPr/>
          </p:nvGrpSpPr>
          <p:grpSpPr>
            <a:xfrm>
              <a:off x="2375280" y="2179080"/>
              <a:ext cx="931680" cy="131760"/>
              <a:chOff x="2375280" y="2179080"/>
              <a:chExt cx="931680" cy="131760"/>
            </a:xfrm>
          </p:grpSpPr>
          <p:sp>
            <p:nvSpPr>
              <p:cNvPr id="182" name="椭圆 47113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83" name="矩形 47114"/>
              <p:cNvSpPr/>
              <p:nvPr/>
            </p:nvSpPr>
            <p:spPr>
              <a:xfrm>
                <a:off x="246456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84" name="椭圆 47115"/>
              <p:cNvSpPr/>
              <p:nvPr/>
            </p:nvSpPr>
            <p:spPr>
              <a:xfrm>
                <a:off x="316584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85" name="椭圆 47116"/>
              <p:cNvSpPr/>
              <p:nvPr/>
            </p:nvSpPr>
            <p:spPr>
              <a:xfrm>
                <a:off x="32418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</p:grpSp>
        <p:sp>
          <p:nvSpPr>
            <p:cNvPr id="186" name="矩形 47117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c8e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grpSp>
          <p:nvGrpSpPr>
            <p:cNvPr id="187" name="组合 47118"/>
            <p:cNvGrpSpPr/>
            <p:nvPr/>
          </p:nvGrpSpPr>
          <p:grpSpPr>
            <a:xfrm>
              <a:off x="4096800" y="2179080"/>
              <a:ext cx="931680" cy="131760"/>
              <a:chOff x="4096800" y="2179080"/>
              <a:chExt cx="931680" cy="131760"/>
            </a:xfrm>
          </p:grpSpPr>
          <p:sp>
            <p:nvSpPr>
              <p:cNvPr id="188" name="椭圆 47119"/>
              <p:cNvSpPr/>
              <p:nvPr/>
            </p:nvSpPr>
            <p:spPr>
              <a:xfrm>
                <a:off x="409680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89" name="矩形 47120"/>
              <p:cNvSpPr/>
              <p:nvPr/>
            </p:nvSpPr>
            <p:spPr>
              <a:xfrm>
                <a:off x="4186080" y="21801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90" name="椭圆 47121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91" name="椭圆 47122"/>
              <p:cNvSpPr/>
              <p:nvPr/>
            </p:nvSpPr>
            <p:spPr>
              <a:xfrm>
                <a:off x="496332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</p:grpSp>
        <p:sp>
          <p:nvSpPr>
            <p:cNvPr id="192" name="矩形 47123"/>
            <p:cNvSpPr/>
            <p:nvPr/>
          </p:nvSpPr>
          <p:spPr>
            <a:xfrm rot="3418800">
              <a:off x="4781520" y="1941480"/>
              <a:ext cx="924480" cy="1003680"/>
            </a:xfrm>
            <a:prstGeom prst="rect">
              <a:avLst/>
            </a:prstGeom>
            <a:solidFill>
              <a:srgbClr val="326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grpSp>
          <p:nvGrpSpPr>
            <p:cNvPr id="193" name="组合 47124"/>
            <p:cNvGrpSpPr/>
            <p:nvPr/>
          </p:nvGrpSpPr>
          <p:grpSpPr>
            <a:xfrm>
              <a:off x="5817960" y="2179080"/>
              <a:ext cx="1218240" cy="131760"/>
              <a:chOff x="5817960" y="2179080"/>
              <a:chExt cx="1218240" cy="131760"/>
            </a:xfrm>
          </p:grpSpPr>
          <p:sp>
            <p:nvSpPr>
              <p:cNvPr id="194" name="椭圆 47125"/>
              <p:cNvSpPr/>
              <p:nvPr/>
            </p:nvSpPr>
            <p:spPr>
              <a:xfrm>
                <a:off x="5817960" y="21790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95" name="矩形 47126"/>
              <p:cNvSpPr/>
              <p:nvPr/>
            </p:nvSpPr>
            <p:spPr>
              <a:xfrm>
                <a:off x="593460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96" name="椭圆 47127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  <p:sp>
            <p:nvSpPr>
              <p:cNvPr id="197" name="椭圆 47128"/>
              <p:cNvSpPr/>
              <p:nvPr/>
            </p:nvSpPr>
            <p:spPr>
              <a:xfrm>
                <a:off x="695088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f5d67"/>
                  </a:solidFill>
                  <a:latin typeface="Arial"/>
                </a:endParaRPr>
              </a:p>
            </p:txBody>
          </p:sp>
        </p:grpSp>
        <p:sp>
          <p:nvSpPr>
            <p:cNvPr id="198" name="矩形 47129"/>
            <p:cNvSpPr/>
            <p:nvPr/>
          </p:nvSpPr>
          <p:spPr>
            <a:xfrm rot="3418800">
              <a:off x="6502680" y="1941480"/>
              <a:ext cx="924480" cy="1003680"/>
            </a:xfrm>
            <a:prstGeom prst="rect">
              <a:avLst/>
            </a:prstGeom>
            <a:solidFill>
              <a:srgbClr val="c8e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199" name="圆角矩形 47130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00" name="圆角矩形 47131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01" name="圆角矩形 47132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02" name="圆角矩形 47133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hart Doc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内容占位符 37891" descr=""/>
          <p:cNvPicPr/>
          <p:nvPr/>
        </p:nvPicPr>
        <p:blipFill>
          <a:blip r:embed="rId1"/>
          <a:stretch/>
        </p:blipFill>
        <p:spPr>
          <a:xfrm>
            <a:off x="1765440" y="1247760"/>
            <a:ext cx="56386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135000"/>
            <a:ext cx="84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椭圆 48130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07" name="椭圆 48131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0f5d67"/>
              </a:gs>
              <a:gs pos="50000">
                <a:srgbClr val="c5d8da"/>
              </a:gs>
              <a:gs pos="100000">
                <a:srgbClr val="0f5d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08" name="椭圆 48132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436c70"/>
              </a:gs>
              <a:gs pos="100000">
                <a:srgbClr val="69aab1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09" name="任意多边形 48133"/>
          <p:cNvSpPr/>
          <p:nvPr/>
        </p:nvSpPr>
        <p:spPr>
          <a:xfrm rot="20601600">
            <a:off x="4565520" y="298764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3" y="8320"/>
                </a:moveTo>
                <a:cubicBezTo>
                  <a:pt x="17878" y="13250"/>
                  <a:pt x="14049" y="17248"/>
                  <a:pt x="9249" y="19525"/>
                </a:cubicBezTo>
              </a:path>
              <a:path stroke="0" w="19933" h="19523">
                <a:moveTo>
                  <a:pt x="9242" y="19522"/>
                </a:moveTo>
                <a:cubicBezTo>
                  <a:pt x="9243" y="19631"/>
                  <a:pt x="9243" y="19741"/>
                  <a:pt x="9243" y="19851"/>
                </a:cubicBezTo>
                <a:cubicBezTo>
                  <a:pt x="9243" y="20093"/>
                  <a:pt x="9241" y="20333"/>
                  <a:pt x="9238" y="20566"/>
                </a:cubicBezTo>
                <a:lnTo>
                  <a:pt x="19933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10" name="任意多边形 48134"/>
          <p:cNvSpPr/>
          <p:nvPr/>
        </p:nvSpPr>
        <p:spPr>
          <a:xfrm rot="20601600">
            <a:off x="4341960" y="1994040"/>
            <a:ext cx="28494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0"/>
                </a:moveTo>
                <a:cubicBezTo>
                  <a:pt x="19544" y="3813"/>
                  <a:pt x="21600" y="8834"/>
                  <a:pt x="21600" y="14335"/>
                </a:cubicBezTo>
                <a:cubicBezTo>
                  <a:pt x="21600" y="17311"/>
                  <a:pt x="20998" y="20146"/>
                  <a:pt x="19911" y="22723"/>
                </a:cubicBezTo>
              </a:path>
              <a:path stroke="0" w="21600" h="22718">
                <a:moveTo>
                  <a:pt x="19906" y="22718"/>
                </a:moveTo>
                <a:cubicBezTo>
                  <a:pt x="20398" y="18083"/>
                  <a:pt x="21213" y="15054"/>
                  <a:pt x="22135" y="15054"/>
                </a:cubicBezTo>
                <a:cubicBezTo>
                  <a:pt x="23638" y="15054"/>
                  <a:pt x="24856" y="23098"/>
                  <a:pt x="24856" y="33021"/>
                </a:cubicBezTo>
                <a:cubicBezTo>
                  <a:pt x="24856" y="33593"/>
                  <a:pt x="24852" y="34158"/>
                  <a:pt x="24844" y="34711"/>
                </a:cubicBezTo>
                <a:lnTo>
                  <a:pt x="16157" y="0"/>
                </a:lnTo>
                <a:close/>
              </a:path>
            </a:pathLst>
          </a:custGeom>
          <a:solidFill>
            <a:srgbClr val="c8e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11" name="任意多边形 48135"/>
          <p:cNvSpPr/>
          <p:nvPr/>
        </p:nvSpPr>
        <p:spPr>
          <a:xfrm flipH="1" rot="20602200">
            <a:off x="1746720" y="3306240"/>
            <a:ext cx="2876760" cy="163044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0"/>
                </a:moveTo>
                <a:cubicBezTo>
                  <a:pt x="21198" y="2176"/>
                  <a:pt x="21600" y="4515"/>
                  <a:pt x="21600" y="6947"/>
                </a:cubicBezTo>
                <a:cubicBezTo>
                  <a:pt x="21600" y="14141"/>
                  <a:pt x="18083" y="20514"/>
                  <a:pt x="12674" y="24440"/>
                </a:cubicBezTo>
              </a:path>
              <a:path stroke="0" w="21600" h="24439">
                <a:moveTo>
                  <a:pt x="12672" y="24438"/>
                </a:moveTo>
                <a:cubicBezTo>
                  <a:pt x="12673" y="24669"/>
                  <a:pt x="12673" y="24902"/>
                  <a:pt x="12673" y="25136"/>
                </a:cubicBezTo>
                <a:cubicBezTo>
                  <a:pt x="12673" y="25267"/>
                  <a:pt x="12673" y="25397"/>
                  <a:pt x="12673" y="25526"/>
                </a:cubicBezTo>
                <a:lnTo>
                  <a:pt x="20452" y="0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12" name="任意多边形 48136"/>
          <p:cNvSpPr/>
          <p:nvPr/>
        </p:nvSpPr>
        <p:spPr>
          <a:xfrm rot="20601600">
            <a:off x="3600000" y="1730520"/>
            <a:ext cx="2814840" cy="141732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8"/>
                </a:moveTo>
                <a:cubicBezTo>
                  <a:pt x="1553" y="187"/>
                  <a:pt x="3174" y="-1"/>
                  <a:pt x="4839" y="-1"/>
                </a:cubicBezTo>
                <a:cubicBezTo>
                  <a:pt x="11488" y="-1"/>
                  <a:pt x="17435" y="3003"/>
                  <a:pt x="21397" y="7728"/>
                </a:cubicBezTo>
              </a:path>
              <a:path stroke="0" w="21397" h="21600">
                <a:moveTo>
                  <a:pt x="21397" y="7729"/>
                </a:moveTo>
                <a:cubicBezTo>
                  <a:pt x="18811" y="3837"/>
                  <a:pt x="17194" y="-1710"/>
                  <a:pt x="17194" y="-7866"/>
                </a:cubicBezTo>
                <a:cubicBezTo>
                  <a:pt x="17194" y="-19644"/>
                  <a:pt x="23112" y="-29192"/>
                  <a:pt x="30413" y="-29192"/>
                </a:cubicBezTo>
                <a:cubicBezTo>
                  <a:pt x="37714" y="-29192"/>
                  <a:pt x="43632" y="-19644"/>
                  <a:pt x="43632" y="-7866"/>
                </a:cubicBezTo>
                <a:cubicBezTo>
                  <a:pt x="43632" y="-4730"/>
                  <a:pt x="43213" y="-1753"/>
                  <a:pt x="42460" y="926"/>
                </a:cubicBezTo>
                <a:lnTo>
                  <a:pt x="0" y="548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13" name="任意多边形 48137"/>
          <p:cNvSpPr/>
          <p:nvPr/>
        </p:nvSpPr>
        <p:spPr>
          <a:xfrm flipH="1" rot="20602200">
            <a:off x="1561680" y="237456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0"/>
                </a:moveTo>
                <a:cubicBezTo>
                  <a:pt x="12505" y="1681"/>
                  <a:pt x="18923" y="7870"/>
                  <a:pt x="20936" y="15808"/>
                </a:cubicBezTo>
              </a:path>
              <a:path stroke="0" w="20934" h="21142">
                <a:moveTo>
                  <a:pt x="20934" y="15819"/>
                </a:moveTo>
                <a:cubicBezTo>
                  <a:pt x="20723" y="13980"/>
                  <a:pt x="20612" y="12035"/>
                  <a:pt x="20612" y="10026"/>
                </a:cubicBezTo>
                <a:cubicBezTo>
                  <a:pt x="20612" y="-1777"/>
                  <a:pt x="24457" y="-11345"/>
                  <a:pt x="29200" y="-11345"/>
                </a:cubicBezTo>
                <a:cubicBezTo>
                  <a:pt x="33943" y="-11345"/>
                  <a:pt x="37788" y="-1777"/>
                  <a:pt x="37788" y="10026"/>
                </a:cubicBezTo>
                <a:cubicBezTo>
                  <a:pt x="37788" y="11841"/>
                  <a:pt x="37697" y="13604"/>
                  <a:pt x="37526" y="15281"/>
                </a:cubicBezTo>
                <a:lnTo>
                  <a:pt x="4423" y="0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14" name="任意多边形 48138"/>
          <p:cNvSpPr/>
          <p:nvPr/>
        </p:nvSpPr>
        <p:spPr>
          <a:xfrm rot="20601600">
            <a:off x="4681440" y="3236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15" name="任意多边形 48139"/>
          <p:cNvSpPr/>
          <p:nvPr/>
        </p:nvSpPr>
        <p:spPr>
          <a:xfrm rot="20601600">
            <a:off x="4574880" y="2984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f5d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grpSp>
        <p:nvGrpSpPr>
          <p:cNvPr id="216" name="组合 48140"/>
          <p:cNvGrpSpPr/>
          <p:nvPr/>
        </p:nvGrpSpPr>
        <p:grpSpPr>
          <a:xfrm>
            <a:off x="4163400" y="2660760"/>
            <a:ext cx="3251880" cy="2231640"/>
            <a:chOff x="4163400" y="2660760"/>
            <a:chExt cx="3251880" cy="2231640"/>
          </a:xfrm>
        </p:grpSpPr>
        <p:sp>
          <p:nvSpPr>
            <p:cNvPr id="217" name="任意多边形 48141"/>
            <p:cNvSpPr/>
            <p:nvPr/>
          </p:nvSpPr>
          <p:spPr>
            <a:xfrm rot="20712600">
              <a:off x="4276800" y="3015720"/>
              <a:ext cx="2949480" cy="127188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5" y="13336"/>
                    <a:pt x="13997" y="17273"/>
                    <a:pt x="9249" y="19525"/>
                  </a:cubicBezTo>
                </a:path>
                <a:path stroke="0" w="19866" h="19523">
                  <a:moveTo>
                    <a:pt x="9242" y="19522"/>
                  </a:moveTo>
                  <a:cubicBezTo>
                    <a:pt x="9243" y="19634"/>
                    <a:pt x="9243" y="19747"/>
                    <a:pt x="9243" y="19860"/>
                  </a:cubicBezTo>
                  <a:cubicBezTo>
                    <a:pt x="9243" y="20113"/>
                    <a:pt x="9241" y="20363"/>
                    <a:pt x="9237" y="20606"/>
                  </a:cubicBez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218" name="任意多边形 48142"/>
            <p:cNvSpPr/>
            <p:nvPr/>
          </p:nvSpPr>
          <p:spPr>
            <a:xfrm rot="20712600">
              <a:off x="4361040" y="3204720"/>
              <a:ext cx="1377720" cy="153684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  <p:sp>
          <p:nvSpPr>
            <p:cNvPr id="219" name="任意多边形 48143"/>
            <p:cNvSpPr/>
            <p:nvPr/>
          </p:nvSpPr>
          <p:spPr>
            <a:xfrm rot="20712600">
              <a:off x="5736960" y="3373200"/>
              <a:ext cx="1579320" cy="97920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d67"/>
                </a:solidFill>
                <a:latin typeface="Arial"/>
              </a:endParaRPr>
            </a:p>
          </p:txBody>
        </p:sp>
      </p:grpSp>
      <p:sp>
        <p:nvSpPr>
          <p:cNvPr id="220" name="任意多边形 48144"/>
          <p:cNvSpPr/>
          <p:nvPr/>
        </p:nvSpPr>
        <p:spPr>
          <a:xfrm rot="20601600">
            <a:off x="6248160" y="327636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1" name="任意多边形 48145"/>
          <p:cNvSpPr/>
          <p:nvPr/>
        </p:nvSpPr>
        <p:spPr>
          <a:xfrm rot="20539200">
            <a:off x="4800240" y="2895120"/>
            <a:ext cx="2905200" cy="1397160"/>
          </a:xfrm>
          <a:custGeom>
            <a:avLst/>
            <a:gdLst/>
            <a:ahLst/>
            <a:rect l="l" t="t" r="r" b="b"/>
            <a:pathLst>
              <a:path fill="none" w="19866" h="19523">
                <a:moveTo>
                  <a:pt x="19866" y="8479"/>
                </a:moveTo>
                <a:cubicBezTo>
                  <a:pt x="17795" y="13336"/>
                  <a:pt x="13997" y="17273"/>
                  <a:pt x="9249" y="19525"/>
                </a:cubicBezTo>
              </a:path>
              <a:path stroke="0" w="19866" h="19523">
                <a:moveTo>
                  <a:pt x="9242" y="19522"/>
                </a:moveTo>
                <a:cubicBezTo>
                  <a:pt x="9243" y="19634"/>
                  <a:pt x="9243" y="19747"/>
                  <a:pt x="9243" y="19860"/>
                </a:cubicBezTo>
                <a:cubicBezTo>
                  <a:pt x="9243" y="20113"/>
                  <a:pt x="9241" y="20363"/>
                  <a:pt x="9237" y="20606"/>
                </a:cubicBezTo>
                <a:lnTo>
                  <a:pt x="19866" y="8479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2" name="任意多边形 48146"/>
          <p:cNvSpPr/>
          <p:nvPr/>
        </p:nvSpPr>
        <p:spPr>
          <a:xfrm rot="20601600">
            <a:off x="4933440" y="3187440"/>
            <a:ext cx="1359000" cy="159372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f8ed4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3" name="椭圆 48147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69aab1"/>
              </a:gs>
              <a:gs pos="50000">
                <a:srgbClr val="dbeaec"/>
              </a:gs>
              <a:gs pos="100000">
                <a:srgbClr val="69aab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4" name="椭圆 48148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5" name="圆角矩形 48149"/>
          <p:cNvSpPr/>
          <p:nvPr/>
        </p:nvSpPr>
        <p:spPr>
          <a:xfrm>
            <a:off x="2362320" y="2724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1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6" name="圆角矩形 48150"/>
          <p:cNvSpPr/>
          <p:nvPr/>
        </p:nvSpPr>
        <p:spPr>
          <a:xfrm>
            <a:off x="4114800" y="1886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2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7" name="圆角矩形 48151"/>
          <p:cNvSpPr/>
          <p:nvPr/>
        </p:nvSpPr>
        <p:spPr>
          <a:xfrm>
            <a:off x="5715000" y="2343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3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8" name="圆角矩形 48152"/>
          <p:cNvSpPr/>
          <p:nvPr/>
        </p:nvSpPr>
        <p:spPr>
          <a:xfrm>
            <a:off x="5715000" y="333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4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29" name="圆角矩形 48153"/>
          <p:cNvSpPr/>
          <p:nvPr/>
        </p:nvSpPr>
        <p:spPr>
          <a:xfrm>
            <a:off x="2209680" y="3943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6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  <p:sp>
        <p:nvSpPr>
          <p:cNvPr id="230" name="圆角矩形 48154"/>
          <p:cNvSpPr/>
          <p:nvPr/>
        </p:nvSpPr>
        <p:spPr>
          <a:xfrm>
            <a:off x="3886200" y="4172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ext 5</a:t>
            </a:r>
            <a:endParaRPr b="0" lang="en-US" sz="1800" spc="-1" strike="noStrike">
              <a:solidFill>
                <a:srgbClr val="0f5d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8:29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1:08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