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866-7210-4AFE-9A55-62363037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20A-761E-483C-B018-F05F5DDA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188-1BA6-424E-873C-381827CD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E3A-00BB-4A7F-8C14-79D4F57A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52AF-732B-4776-8528-E3E26176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0247-20A1-4A89-8FD6-A9954477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7C58-7270-4F63-B1B6-BB289853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B834-669F-4008-B953-0AB3C120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5B3A-6A1F-4C3D-9B26-95BB80BE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3FB4-0DD0-4A17-8960-B6A2A5B9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EA79-C2FF-4D70-B9D8-581EAAA5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2C1-D3D9-40FD-AD27-9DBC4210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0CEA-D71D-4008-A48F-A0A03F61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1428-0E80-4119-BB2F-2127042D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FD3D-CCBC-4797-AF86-B6F31A1A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FB7B-EBCE-492E-9D6B-7268BC54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645D-22B8-4F04-937E-AB6CF70F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718C5-E7C9-43BC-80D1-E0649F72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2DBDA-14EB-48C2-B96A-0992F0A9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9ECB-2967-41CB-A29D-FB72CAF4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2AF55-4945-4497-99D3-2F453C76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3CC24-1F9F-40F5-9E89-3BF823C8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86B-3E25-4EB1-94A0-1288F459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FC959-C6CD-4C2B-8E9E-53360E36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38FB9-C4C9-4FD3-B88F-2B676EE7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17363-4FCF-41F7-9FCE-8F54E551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BBFA8-9379-4C7D-BB7F-3C03FD7E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33E5B-BA8F-4605-9145-882CE8EC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C14E2-5100-4B5B-ABCB-ED715F2E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BC05-73DA-4F16-A17A-F81BF0E8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F1C-2B98-40AF-88A5-306C637B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9BA-534D-4A9C-AA4D-B0F6FBB7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68E-CEEE-4DB0-B252-D7D6735D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D8B-90A2-481A-A62C-CB753978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383-71FF-47D8-BFFA-FE97DF98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408-2548-4C57-8698-5F2EBD7B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860C-D514-4FD9-8C63-A76432A03422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0597-07D5-4E2B-81EC-3F753D56F52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382C-8DE1-4829-898B-0CF28BAEAE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0873-4962-46F2-B221-53A1D7F98913}" type="slidenum">
              <a:rPr b="1" lang="en-US" sz="8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960" y="4800240"/>
            <a:ext cx="4724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Impact"/>
              </a:rPr>
              <a:t>SOFT BLUE SK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061"/>
          <p:cNvSpPr/>
          <p:nvPr/>
        </p:nvSpPr>
        <p:spPr>
          <a:xfrm>
            <a:off x="76320" y="5943600"/>
            <a:ext cx="4724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Impact"/>
                <a:ea typeface="Arial"/>
              </a:rPr>
              <a:t>YOUR SUB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2016000" y="21337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国外天空太阳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tyle Bold Extended ATT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tyle Bold Extended ATT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563868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tyle Bold Extended ATT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200"/>
          <p:cNvSpPr/>
          <p:nvPr/>
        </p:nvSpPr>
        <p:spPr>
          <a:xfrm>
            <a:off x="2057400" y="48006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8A59-7D0F-4A40-9116-215B371E4E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579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Microstyle Bold Extended ATT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tyle Bold Extended ATT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20:56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26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