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82C-F53C-41A5-8883-6BE45059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351-3B0D-4C10-B456-04ACCD6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F99-F500-4C38-A972-8E9F06D7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CA9-E679-4DFD-B52A-1F0B3417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32E7-80F4-4AE8-8692-09F481F0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7D34-9316-4674-BF61-F1951F0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A8A-DB5C-44CF-911F-79342030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F74-1F10-4C0F-BA44-D67274B3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5A3-532D-4E94-9106-2F06B851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6FD-4E1F-45D7-9536-C5D8C4C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B3DC-3390-4A5A-A64E-BA39316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D8B-1063-47BD-95B7-296ABF3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E37F-91C8-4F79-AEDF-F42D172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FEF-F36C-418F-85BE-0D7A1E3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F702-E1D5-44C4-B96C-B70926F9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0A1-0504-4520-B298-7603FA92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F4A-80C9-413A-B494-69866F77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EB4-C8B9-4C70-844B-8F89CEB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397-3DA5-478C-9C7E-DB6DCDE6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CCB-70F5-40DA-B2AC-CB2AE7C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B26-1F77-48AE-933E-EA1C6769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5D3-0E79-4B5C-9AC7-985E34C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A36-2AA0-4FDB-91E5-FC1CDF1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C59-1316-427F-9882-B77C7C8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53A-97BA-4E24-B990-B385E51B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4F3-15F6-44AF-AEC2-E92CB31CB2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35A2-0CB8-47D0-82B6-B1863D5422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baike.baidu.com/view/4311.htm" TargetMode="External"/><Relationship Id="rId4" Type="http://schemas.openxmlformats.org/officeDocument/2006/relationships/hyperlink" Target="http://baike.baidu.com/view/3995.htm" TargetMode="External"/><Relationship Id="rId5" Type="http://schemas.openxmlformats.org/officeDocument/2006/relationships/hyperlink" Target="http://baike.baidu.com/view/9431.htm" TargetMode="External"/><Relationship Id="rId6" Type="http://schemas.openxmlformats.org/officeDocument/2006/relationships/hyperlink" Target="http://baike.baidu.com/view/146474.htm" TargetMode="External"/><Relationship Id="rId7" Type="http://schemas.openxmlformats.org/officeDocument/2006/relationships/hyperlink" Target="http://baike.baidu.com/view/36833.ht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青藏铁路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616040" y="380880"/>
            <a:ext cx="70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火车的故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685800" y="6400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青藏铁路2"/>
          <p:cNvPicPr/>
          <p:nvPr/>
        </p:nvPicPr>
        <p:blipFill>
          <a:blip r:embed="rId2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457200" y="762120"/>
            <a:ext cx="8305920" cy="295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藏铁路由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青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西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市至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西藏自治区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拉萨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全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里 。青藏铁路建设面临着多年冻土、高寒缺氧、生态脆弱“三大难题”的严峻挑战，工程艰巨，要求很高，难度很大。 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藏铁路是世界上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海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高、线路最长的高原铁路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222720" y="502200"/>
            <a:ext cx="4092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天路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红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我站在青青的牧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神鹰披着那霞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一片祥云飞过蓝天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藏家儿女带来吉祥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一条神奇的天路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人间的温暖送到边疆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此山不再高路不再漫长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族儿女欢聚一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昏我站在高高的山冈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那铁路修到我家乡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条条巨龙翻山越岭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雪域高原送来安康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一条神奇的天路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我们走进人间天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青稞酒酥油茶会更加香甜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幸福的歌声传遍四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幸福的歌声传遍四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990720" y="601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磁悬浮火车"/>
          <p:cNvPicPr/>
          <p:nvPr/>
        </p:nvPicPr>
        <p:blipFill>
          <a:blip r:embed="rId2"/>
          <a:stretch/>
        </p:blipFill>
        <p:spPr>
          <a:xfrm>
            <a:off x="228600" y="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371600" y="4495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23880" y="685800"/>
            <a:ext cx="678204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磁悬浮列车是一种利用磁极吸引力和排斥力的高科技交通工具。简单地说，排斥力使列车悬起来、吸引力让列车开动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车体完全脱离轨道，悬浮在距离轨道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处，腾空行驶，创造了近乎“零高度”空间飞行的奇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F25-02BE-45A8-916A-B42D0C1FEC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762120" y="2286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4920" y="1219320"/>
            <a:ext cx="84582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   排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白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   调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度  快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开  中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改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立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界  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  发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  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5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