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737-4D39-4CF6-8374-BA42B12E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F30-F5C8-47B5-AF20-43924390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37C-1D16-4CF9-A5C1-1C4E2A8F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C7C-3C4F-42AA-9400-65E106F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70DC-9A37-4094-9883-2960B1CE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98C-1ED1-4523-9ADE-EE3AAD0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507-A251-4C54-9B5B-9FC5C6C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9ACC-6C34-46D8-B34C-7A67B8A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DA04-B8E6-445C-B2CD-FADFF9B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263F-547A-4AB5-827F-17345FB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F9E-0F59-4465-995E-9E84B19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3C0-EADA-4DC3-B606-946A198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38C-1873-4E26-8B8B-78F421E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7ABB-6B9E-4EB9-BB8E-07A0E5B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9BA-3733-47EA-B3EC-5AD28DF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CDB-9F31-4B1D-927B-0C5BB83B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837-7DF1-427F-9543-4E7A915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06AD-D6F8-4DCB-8127-81A39C9F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DBA2-F764-4E84-BA5B-4ACFC896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CC31-5490-44B3-86FD-2FCD435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8B14-3DDA-440D-9708-2095321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577E-4E38-4B53-AAA6-26D5AEE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18D-68B7-40D6-87BB-F7D7FCD5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3D13-8637-497B-8C56-E5E5D006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025C-21DC-48F9-821C-C7EC425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3B2D-AC3C-42AE-965D-4D0D71FC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613B-F25D-40F5-8457-10516BA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2151-71EE-450C-886D-49B5C89E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F712-91B8-4A81-87DB-694141A5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8CDB-CD95-4AA7-98FE-55D015ED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5B5-09C5-4EBC-9B08-19A898A5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A9B-7C66-40D2-803A-05DFAB7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5AD-2013-4F0F-A60C-64CD218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191-B492-4826-9E63-266E1DC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F9A-2F83-4DD3-BE5F-56CB575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FFC-7A7F-4B40-A691-6B47EBE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0DE-4C13-4E3A-A8A8-18EAF694E627}" type="datetime">
              <a:rPr b="0" lang="zh-CN" sz="1200" spc="-1" strike="noStrike">
                <a:solidFill>
                  <a:srgbClr val="8a8989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5631-CF99-4C15-8097-EF684E67722D}" type="slidenum">
              <a:rPr b="0" lang="zh-CN" sz="1200" spc="-1" strike="noStrike">
                <a:solidFill>
                  <a:srgbClr val="8a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E7E-98B2-4EEE-A593-E1A2CEB72B15}" type="datetime">
              <a:rPr b="0" lang="zh-CN" sz="1200" spc="-1" strike="noStrike">
                <a:solidFill>
                  <a:srgbClr val="8a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B467-0A76-4E5B-8971-85180B0EB278}" type="slidenum">
              <a:rPr b="0" lang="zh-CN" sz="1200" spc="-1" strike="noStrike">
                <a:solidFill>
                  <a:srgbClr val="8a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5BF-F63F-4999-9CF5-C175A67D8C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9FBF-7D13-4654-8535-A44BAD029C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dobe Caslon Pro"/>
                <a:ea typeface="Adobe 黑体 Std R"/>
              </a:rPr>
              <a:t>Name of presentation</a:t>
            </a:r>
            <a:endParaRPr b="0" lang="en-US" sz="3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85840" y="177120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dobe Caslon Pro"/>
                <a:ea typeface="Adobe 黑体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155320" y="292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火红篮球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dobe Caslon Pro"/>
                <a:ea typeface="Adobe 黑体 Std R"/>
              </a:rPr>
              <a:t>Name of presentation</a:t>
            </a:r>
            <a:endParaRPr b="0" lang="en-US" sz="3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785840" y="177120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dobe Caslon Pro"/>
                <a:ea typeface="Adobe 黑体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27280" y="152280"/>
            <a:ext cx="637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44920" y="12952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Arial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Arial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1044720" y="37180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c0600"/>
                </a:solidFill>
                <a:latin typeface="Calibri"/>
                <a:ea typeface="Calibri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6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E34-3ABA-4FB3-9727-BDD20B657703}" type="slidenum">
              <a:rPr b="0" lang="zh-CN" sz="1400" spc="-1" strike="noStrike">
                <a:solidFill>
                  <a:srgbClr val="0c06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dobe 黑体 Std R"/>
                <a:ea typeface="Adobe 黑体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Arial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Arial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5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