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F0D-5D68-4FAB-8971-4AA2833F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AD7-C315-473B-B9D6-BD41575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744-E616-4FC2-811D-CE25F50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1F1-B0FF-43EA-963B-86D540D8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BEE9-69C8-42F2-B2A0-688E9B80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CDC5-FD9F-4F64-B005-AF3C439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9F9-D576-46DA-AA71-C0365502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8501-0A27-4F39-8675-EEEC684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7F3-9BCF-4EEA-9154-794C391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E770-8094-4430-BA36-AC1DF273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6B9B-B1B7-47C1-83D0-22B1ACE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D2D-07F8-459F-B6CF-68F45CD8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09A-D2D0-40B4-86C6-1CD30D0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2FBC-4585-485D-B19B-E1EC169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7F88-C8B5-4675-B70E-3DD6A0D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D861-A556-48FA-9C77-E76EAA5D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205-BD1D-460E-BDE6-42883BC6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D837-3662-4039-854E-3F3A293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6C17-E255-4775-A33D-41D1642A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381C-0DC1-4883-88CE-39BEF97E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2A57-1C96-4801-8E25-F443B3D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3BEC-E458-4A9D-A856-72AC269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EA3-DA74-434B-9249-20ABB10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E1FF-0840-4345-B2E9-2E80951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1FCC-A498-462A-8B40-BF13717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94C3-01D9-4456-BBBC-04205D4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E5D8-2895-4FAF-9A16-DEAE2A8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9B15-0486-47B3-A123-624FF30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E749-6958-4680-A787-EBBF1662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5FA8-4539-4449-8CF3-8FA62FDD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00C-9FD2-4153-901E-2F16348F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C6A-4A7A-4C1C-B550-B99D6B1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E19-6BB0-4125-89A8-69FA710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58D-FBE3-466F-9425-305CA3D4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AF6-A3C9-4E7C-A1F3-217A029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B7B-4EFC-4938-8AFC-6DC14EC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CCE-F19F-4E5C-AE07-7A9116AE8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3D5-D3C3-49F0-9D92-7577F7EA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132-77E7-4CC9-A1FF-85D8F07CA3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568-D8A0-43DB-AF65-4D32A481D5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pic_6654"/>
          <p:cNvPicPr/>
          <p:nvPr/>
        </p:nvPicPr>
        <p:blipFill>
          <a:blip r:embed="rId1"/>
          <a:srcRect l="9302" t="50005" r="776" b="8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976320" y="5097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家乡课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706770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Oval 3"/>
          <p:cNvSpPr/>
          <p:nvPr/>
        </p:nvSpPr>
        <p:spPr>
          <a:xfrm>
            <a:off x="380880" y="762120"/>
            <a:ext cx="243864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广  鱼虾  脚下  捡起来  贝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原来  奔跑  茂密  马匹  城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高楼  楼房  宝贝  平原   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3BB-242A-40A7-BED4-92407506CA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707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Oval 3"/>
          <p:cNvSpPr/>
          <p:nvPr/>
        </p:nvSpPr>
        <p:spPr>
          <a:xfrm>
            <a:off x="304920" y="0"/>
            <a:ext cx="30477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读读写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1752480"/>
            <a:ext cx="10476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画的海那么蓝，那么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画的平原那么平坦，那么宽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           ，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7000" y="4648320"/>
            <a:ext cx="2590920" cy="360"/>
            <a:chOff x="27000" y="4648320"/>
            <a:chExt cx="2590920" cy="360"/>
          </a:xfrm>
        </p:grpSpPr>
        <p:sp>
          <p:nvSpPr>
            <p:cNvPr id="185" name="Line 5"/>
            <p:cNvSpPr/>
            <p:nvPr/>
          </p:nvSpPr>
          <p:spPr>
            <a:xfrm>
              <a:off x="27000" y="46483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7000" y="46483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4648320"/>
            <a:ext cx="1828800" cy="360"/>
            <a:chOff x="3733920" y="4648320"/>
            <a:chExt cx="1828800" cy="360"/>
          </a:xfrm>
        </p:grpSpPr>
        <p:sp>
          <p:nvSpPr>
            <p:cNvPr id="188" name="Line 6"/>
            <p:cNvSpPr/>
            <p:nvPr/>
          </p:nvSpPr>
          <p:spPr>
            <a:xfrm>
              <a:off x="373392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733920" y="4648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201080" y="4572000"/>
            <a:ext cx="1763640" cy="9360"/>
            <a:chOff x="7201080" y="4572000"/>
            <a:chExt cx="1763640" cy="9360"/>
          </a:xfrm>
        </p:grpSpPr>
        <p:sp>
          <p:nvSpPr>
            <p:cNvPr id="191" name="Line 7"/>
            <p:cNvSpPr/>
            <p:nvPr/>
          </p:nvSpPr>
          <p:spPr>
            <a:xfrm>
              <a:off x="7201080" y="4572000"/>
              <a:ext cx="1763640" cy="9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201080" y="4572000"/>
              <a:ext cx="176364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pic_6654"/>
          <p:cNvPicPr/>
          <p:nvPr/>
        </p:nvPicPr>
        <p:blipFill>
          <a:blip r:embed="rId1"/>
          <a:srcRect l="9302" t="50005" r="776" b="8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涛涛的家乡在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海边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他画的海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蓝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。一艘艘船上装满了鱼和虾。那个在海滩上赤着脚捡贝壳的孩子，就是涛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pic_6655"/>
          <p:cNvPicPr/>
          <p:nvPr/>
        </p:nvPicPr>
        <p:blipFill>
          <a:blip r:embed="rId1">
            <a:lum contrast="36000"/>
          </a:blip>
          <a:srcRect l="7749" t="4083" r="6980" b="70414"/>
          <a:stretch/>
        </p:blipFill>
        <p:spPr>
          <a:xfrm>
            <a:off x="0" y="3049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5791320"/>
            <a:ext cx="9144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pic_6655"/>
          <p:cNvPicPr/>
          <p:nvPr/>
        </p:nvPicPr>
        <p:blipFill>
          <a:blip r:embed="rId1"/>
          <a:srcRect l="7749" t="4083" r="6980" b="704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5791320"/>
            <a:ext cx="9144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山的家乡在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山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他画的山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，水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清。房前屋后都是又高又大的树。画上的山山，提着小竹蓝，正要到树林里去采蘑菇呢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pic_6655"/>
          <p:cNvPicPr/>
          <p:nvPr/>
        </p:nvPicPr>
        <p:blipFill>
          <a:blip r:embed="rId1">
            <a:lum contrast="48000"/>
          </a:blip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8200"/>
          <p:cNvSpPr/>
          <p:nvPr/>
        </p:nvSpPr>
        <p:spPr>
          <a:xfrm>
            <a:off x="1260360" y="11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ic_6655"/>
          <p:cNvPicPr/>
          <p:nvPr/>
        </p:nvPicPr>
        <p:blipFill>
          <a:blip r:embed="rId1">
            <a:lum contrast="48000"/>
          </a:blip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pic_6655"/>
          <p:cNvPicPr/>
          <p:nvPr/>
        </p:nvPicPr>
        <p:blipFill>
          <a:blip r:embed="rId2"/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平的家乡在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平原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。她画的平原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坦，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广。有金黄的稻子，雪白的棉花，还有一大片碧绿的菜地。屋前有鸡、鸭，屋后有翠竹。正在田野上奔跑的小女孩就是平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"/>
          <p:cNvSpPr/>
          <p:nvPr/>
        </p:nvSpPr>
        <p:spPr>
          <a:xfrm>
            <a:off x="0" y="0"/>
            <a:ext cx="2895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读读想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152388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青青的家乡在哪儿？她画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京京的家乡在哪儿？他画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你的家乡在哪儿？准备画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7067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286000" y="304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画家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371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涛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0880" y="2362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山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9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4648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青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80880" y="5638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京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76720" y="5715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城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76720" y="4572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200400" y="3429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352680" y="2286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山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352680" y="1295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海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943600" y="12952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捡贝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94360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采蘑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6019920" y="34290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奔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943600" y="4495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骑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6019920" y="5791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去科技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7067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Oval 3"/>
          <p:cNvSpPr/>
          <p:nvPr/>
        </p:nvSpPr>
        <p:spPr>
          <a:xfrm>
            <a:off x="0" y="380880"/>
            <a:ext cx="2590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09480" y="22399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  虾  脚  捡  贝  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原  奔  密  匹  市  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31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