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41A-8D54-4B82-A390-B2A666FF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1FA-ECC1-4DD7-AE91-C052F251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A7B-5EBD-4EDF-A2DD-893570D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D68-BF56-4709-942B-53D1D4F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01F-5A35-43A1-AEC2-46EA00F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2E9-3955-401F-B9BE-A98F8CC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F1A-B80D-4755-BFFB-691A32B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1877-EB4D-4A3B-AE66-D084272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9DA9-C30C-4D94-AED3-4FD1589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17B3-FC21-4277-929D-B58C9817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D259-1BB9-4843-9A7A-5F79A33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4C1-280E-4DDE-A15F-59FAEC8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68C2-CB06-4DF4-A012-6DD84BC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5C1-DABC-44B5-801F-D57A577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EFBD-E7BF-4411-A4C3-0A09F087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803E-E2B7-4010-B8BC-9A96ABA0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6E7-DA2F-4594-8D1D-0DD45A26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C28-5225-49CE-BCC0-1EF179FD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44E-70BE-4A82-A868-A39596F1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AC9-123E-4619-B335-C5ED99D1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F39-8EC7-4C71-968D-01FBF62B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2E4-EE33-4469-B42A-901B8D2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E64-8EF1-478D-A41B-5BB7702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195-1072-4EB9-B64C-AD65E367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6244920"/>
            <a:ext cx="3648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6B0-30D6-40AA-A35C-7CB2D8D96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DC3-EC20-4C8F-B761-0BD06924AC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89F-489B-4551-A3A4-CB73341619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2130120"/>
            <a:ext cx="9794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8720" y="3886200"/>
            <a:ext cx="8064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863640" y="1847880"/>
            <a:ext cx="979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互联网企业介绍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5"/>
          <p:cNvSpPr/>
          <p:nvPr/>
        </p:nvSpPr>
        <p:spPr>
          <a:xfrm>
            <a:off x="351000" y="1219320"/>
            <a:ext cx="1089648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4797360" y="17524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故事与品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1265400" y="289548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营销推广从故事讲起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管理者的烦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故事—管理者的烦恼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5"/>
          <p:cNvSpPr/>
          <p:nvPr/>
        </p:nvSpPr>
        <p:spPr>
          <a:xfrm>
            <a:off x="4389480" y="1219320"/>
            <a:ext cx="685800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4998960" y="1676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宛西制药是一家大型的浓缩丸生产基地。现已控股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家子公司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个分支机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但是，总部对分支机构管理能力比较弱，引起了公司高层的注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2010519165127323"/>
          <p:cNvPicPr/>
          <p:nvPr/>
        </p:nvPicPr>
        <p:blipFill>
          <a:blip r:embed="rId1"/>
          <a:stretch/>
        </p:blipFill>
        <p:spPr>
          <a:xfrm>
            <a:off x="19836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分析部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1189080" y="388476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什么办法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可以让更多的“宛西制药”进行有效管理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什么办法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把有价值的方法推荐给更多的“宛西制药”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1265400" y="16765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个故事不仅仅发生在宛西制药身上，而是普遍发生在企业这个群体之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故事—管理者的烦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1341360" y="3733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试用金蝶友商在线会计后，他发现不仅操作极为简单、不需要安装，而且只要有网络，随时随地都可以查看并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1265400" y="1676520"/>
            <a:ext cx="937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宛西制药管理者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偶然间”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“财务与会计”杂志上看到了一则广告——金蝶旗下网站友商网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ww.youshang.com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为广大中小企业提供的在线管理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351000" y="914400"/>
            <a:ext cx="94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故事继续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15"/>
          <p:cNvSpPr/>
          <p:nvPr/>
        </p:nvSpPr>
        <p:spPr>
          <a:xfrm>
            <a:off x="1447920" y="1523880"/>
            <a:ext cx="3352680" cy="259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2971800" y="46022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事件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213372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软文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2133720" y="2133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博客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213372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论坛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1676520" y="33066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短信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邮件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7467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次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5075280" y="5516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7848720" y="1630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7467480" y="2209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微博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477120" y="46022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线下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7467480" y="2819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话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5"/>
          <p:cNvSpPr/>
          <p:nvPr/>
        </p:nvSpPr>
        <p:spPr>
          <a:xfrm>
            <a:off x="6629400" y="1523880"/>
            <a:ext cx="3352680" cy="259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4465800" y="266688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长尾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品牌口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377"/>
          <p:cNvSpPr/>
          <p:nvPr/>
        </p:nvSpPr>
        <p:spPr>
          <a:xfrm>
            <a:off x="2484360" y="41767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7"/>
          <p:cNvSpPr/>
          <p:nvPr/>
        </p:nvSpPr>
        <p:spPr>
          <a:xfrm>
            <a:off x="7711920" y="1905120"/>
            <a:ext cx="315468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6"/>
          <p:cNvSpPr/>
          <p:nvPr/>
        </p:nvSpPr>
        <p:spPr>
          <a:xfrm>
            <a:off x="3946680" y="1905120"/>
            <a:ext cx="333828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5"/>
          <p:cNvSpPr/>
          <p:nvPr/>
        </p:nvSpPr>
        <p:spPr>
          <a:xfrm>
            <a:off x="480960" y="1905120"/>
            <a:ext cx="3029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7804080" y="1969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3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894960" y="196992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1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背景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"/>
          <p:cNvSpPr/>
          <p:nvPr/>
        </p:nvSpPr>
        <p:spPr>
          <a:xfrm>
            <a:off x="4317480" y="196992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2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1050840" y="25416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任务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标群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4444920" y="254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族群定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8231040" y="254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怎么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884160" y="4152960"/>
            <a:ext cx="221472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4313160" y="4152960"/>
            <a:ext cx="264312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7754760" y="4152960"/>
            <a:ext cx="288324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8"/>
          <p:cNvSpPr/>
          <p:nvPr/>
        </p:nvSpPr>
        <p:spPr>
          <a:xfrm>
            <a:off x="168912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下箭头 19"/>
          <p:cNvSpPr/>
          <p:nvPr/>
        </p:nvSpPr>
        <p:spPr>
          <a:xfrm>
            <a:off x="530388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下箭头 20"/>
          <p:cNvSpPr/>
          <p:nvPr/>
        </p:nvSpPr>
        <p:spPr>
          <a:xfrm>
            <a:off x="888516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4237200" y="5105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赋予场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835200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1341360" y="50292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分析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——期待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6890400" y="1547640"/>
            <a:ext cx="2192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产品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和受众的点对点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855360" y="4267080"/>
            <a:ext cx="14608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产品“驻”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与受众保持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8657280" y="4191120"/>
            <a:ext cx="2192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受众传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提升受众的人际口碑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7"/>
          <p:cNvSpPr/>
          <p:nvPr/>
        </p:nvSpPr>
        <p:spPr>
          <a:xfrm flipH="1" rot="6051600">
            <a:off x="6439320" y="2715480"/>
            <a:ext cx="863640" cy="1168200"/>
          </a:xfrm>
          <a:custGeom>
            <a:avLst/>
            <a:gdLst/>
            <a:ahLst/>
            <a:rect l="l" t="t" r="r" b="b"/>
            <a:pathLst>
              <a:path w="1475" h="1760">
                <a:moveTo>
                  <a:pt x="595" y="1173"/>
                </a:moveTo>
                <a:lnTo>
                  <a:pt x="593" y="1142"/>
                </a:lnTo>
                <a:lnTo>
                  <a:pt x="592" y="1112"/>
                </a:lnTo>
                <a:lnTo>
                  <a:pt x="585" y="1083"/>
                </a:lnTo>
                <a:lnTo>
                  <a:pt x="581" y="1054"/>
                </a:lnTo>
                <a:lnTo>
                  <a:pt x="575" y="1027"/>
                </a:lnTo>
                <a:lnTo>
                  <a:pt x="567" y="998"/>
                </a:lnTo>
                <a:lnTo>
                  <a:pt x="559" y="969"/>
                </a:lnTo>
                <a:lnTo>
                  <a:pt x="547" y="944"/>
                </a:lnTo>
                <a:lnTo>
                  <a:pt x="537" y="918"/>
                </a:lnTo>
                <a:lnTo>
                  <a:pt x="522" y="891"/>
                </a:lnTo>
                <a:lnTo>
                  <a:pt x="508" y="867"/>
                </a:lnTo>
                <a:lnTo>
                  <a:pt x="494" y="843"/>
                </a:lnTo>
                <a:lnTo>
                  <a:pt x="478" y="822"/>
                </a:lnTo>
                <a:lnTo>
                  <a:pt x="461" y="798"/>
                </a:lnTo>
                <a:lnTo>
                  <a:pt x="440" y="777"/>
                </a:lnTo>
                <a:lnTo>
                  <a:pt x="421" y="756"/>
                </a:lnTo>
                <a:lnTo>
                  <a:pt x="402" y="737"/>
                </a:lnTo>
                <a:lnTo>
                  <a:pt x="380" y="720"/>
                </a:lnTo>
                <a:lnTo>
                  <a:pt x="358" y="702"/>
                </a:lnTo>
                <a:lnTo>
                  <a:pt x="334" y="685"/>
                </a:lnTo>
                <a:lnTo>
                  <a:pt x="312" y="669"/>
                </a:lnTo>
                <a:lnTo>
                  <a:pt x="286" y="657"/>
                </a:lnTo>
                <a:lnTo>
                  <a:pt x="261" y="643"/>
                </a:lnTo>
                <a:lnTo>
                  <a:pt x="237" y="630"/>
                </a:lnTo>
                <a:lnTo>
                  <a:pt x="208" y="622"/>
                </a:lnTo>
                <a:lnTo>
                  <a:pt x="182" y="610"/>
                </a:lnTo>
                <a:lnTo>
                  <a:pt x="153" y="604"/>
                </a:lnTo>
                <a:lnTo>
                  <a:pt x="126" y="598"/>
                </a:lnTo>
                <a:lnTo>
                  <a:pt x="97" y="592"/>
                </a:lnTo>
                <a:lnTo>
                  <a:pt x="66" y="589"/>
                </a:lnTo>
                <a:lnTo>
                  <a:pt x="37" y="588"/>
                </a:lnTo>
                <a:lnTo>
                  <a:pt x="8" y="585"/>
                </a:lnTo>
                <a:lnTo>
                  <a:pt x="7" y="585"/>
                </a:lnTo>
                <a:lnTo>
                  <a:pt x="0" y="0"/>
                </a:lnTo>
                <a:lnTo>
                  <a:pt x="8" y="0"/>
                </a:lnTo>
                <a:lnTo>
                  <a:pt x="37" y="0"/>
                </a:lnTo>
                <a:lnTo>
                  <a:pt x="66" y="0"/>
                </a:lnTo>
                <a:lnTo>
                  <a:pt x="97" y="2"/>
                </a:lnTo>
                <a:lnTo>
                  <a:pt x="127" y="4"/>
                </a:lnTo>
                <a:lnTo>
                  <a:pt x="156" y="8"/>
                </a:lnTo>
                <a:lnTo>
                  <a:pt x="186" y="12"/>
                </a:lnTo>
                <a:lnTo>
                  <a:pt x="214" y="16"/>
                </a:lnTo>
                <a:lnTo>
                  <a:pt x="243" y="21"/>
                </a:lnTo>
                <a:lnTo>
                  <a:pt x="272" y="27"/>
                </a:lnTo>
                <a:lnTo>
                  <a:pt x="299" y="37"/>
                </a:lnTo>
                <a:lnTo>
                  <a:pt x="327" y="44"/>
                </a:lnTo>
                <a:lnTo>
                  <a:pt x="355" y="51"/>
                </a:lnTo>
                <a:lnTo>
                  <a:pt x="384" y="59"/>
                </a:lnTo>
                <a:lnTo>
                  <a:pt x="410" y="70"/>
                </a:lnTo>
                <a:lnTo>
                  <a:pt x="439" y="80"/>
                </a:lnTo>
                <a:lnTo>
                  <a:pt x="465" y="91"/>
                </a:lnTo>
                <a:lnTo>
                  <a:pt x="490" y="102"/>
                </a:lnTo>
                <a:lnTo>
                  <a:pt x="516" y="114"/>
                </a:lnTo>
                <a:lnTo>
                  <a:pt x="541" y="128"/>
                </a:lnTo>
                <a:lnTo>
                  <a:pt x="567" y="141"/>
                </a:lnTo>
                <a:lnTo>
                  <a:pt x="592" y="153"/>
                </a:lnTo>
                <a:lnTo>
                  <a:pt x="616" y="169"/>
                </a:lnTo>
                <a:lnTo>
                  <a:pt x="640" y="182"/>
                </a:lnTo>
                <a:lnTo>
                  <a:pt x="662" y="200"/>
                </a:lnTo>
                <a:lnTo>
                  <a:pt x="686" y="215"/>
                </a:lnTo>
                <a:lnTo>
                  <a:pt x="710" y="233"/>
                </a:lnTo>
                <a:lnTo>
                  <a:pt x="755" y="267"/>
                </a:lnTo>
                <a:lnTo>
                  <a:pt x="798" y="305"/>
                </a:lnTo>
                <a:lnTo>
                  <a:pt x="836" y="341"/>
                </a:lnTo>
                <a:lnTo>
                  <a:pt x="875" y="382"/>
                </a:lnTo>
                <a:lnTo>
                  <a:pt x="911" y="426"/>
                </a:lnTo>
                <a:lnTo>
                  <a:pt x="947" y="469"/>
                </a:lnTo>
                <a:lnTo>
                  <a:pt x="965" y="494"/>
                </a:lnTo>
                <a:lnTo>
                  <a:pt x="979" y="515"/>
                </a:lnTo>
                <a:lnTo>
                  <a:pt x="995" y="538"/>
                </a:lnTo>
                <a:lnTo>
                  <a:pt x="1009" y="563"/>
                </a:lnTo>
                <a:lnTo>
                  <a:pt x="1025" y="588"/>
                </a:lnTo>
                <a:lnTo>
                  <a:pt x="1038" y="613"/>
                </a:lnTo>
                <a:lnTo>
                  <a:pt x="1052" y="636"/>
                </a:lnTo>
                <a:lnTo>
                  <a:pt x="1064" y="662"/>
                </a:lnTo>
                <a:lnTo>
                  <a:pt x="1077" y="690"/>
                </a:lnTo>
                <a:lnTo>
                  <a:pt x="1089" y="716"/>
                </a:lnTo>
                <a:lnTo>
                  <a:pt x="1099" y="741"/>
                </a:lnTo>
                <a:lnTo>
                  <a:pt x="1110" y="767"/>
                </a:lnTo>
                <a:lnTo>
                  <a:pt x="1119" y="796"/>
                </a:lnTo>
                <a:lnTo>
                  <a:pt x="1128" y="822"/>
                </a:lnTo>
                <a:lnTo>
                  <a:pt x="1136" y="850"/>
                </a:lnTo>
                <a:lnTo>
                  <a:pt x="1142" y="879"/>
                </a:lnTo>
                <a:lnTo>
                  <a:pt x="1152" y="907"/>
                </a:lnTo>
                <a:lnTo>
                  <a:pt x="1155" y="934"/>
                </a:lnTo>
                <a:lnTo>
                  <a:pt x="1162" y="963"/>
                </a:lnTo>
                <a:lnTo>
                  <a:pt x="1166" y="994"/>
                </a:lnTo>
                <a:lnTo>
                  <a:pt x="1171" y="1021"/>
                </a:lnTo>
                <a:lnTo>
                  <a:pt x="1175" y="1053"/>
                </a:lnTo>
                <a:lnTo>
                  <a:pt x="1176" y="1082"/>
                </a:lnTo>
                <a:lnTo>
                  <a:pt x="1180" y="1112"/>
                </a:lnTo>
                <a:lnTo>
                  <a:pt x="1180" y="1142"/>
                </a:lnTo>
                <a:lnTo>
                  <a:pt x="1180" y="1173"/>
                </a:lnTo>
                <a:lnTo>
                  <a:pt x="1183" y="1173"/>
                </a:lnTo>
                <a:lnTo>
                  <a:pt x="1475" y="1173"/>
                </a:lnTo>
                <a:lnTo>
                  <a:pt x="889" y="1760"/>
                </a:lnTo>
                <a:lnTo>
                  <a:pt x="302" y="1173"/>
                </a:lnTo>
                <a:lnTo>
                  <a:pt x="595" y="1173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33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9"/>
          <p:cNvSpPr/>
          <p:nvPr/>
        </p:nvSpPr>
        <p:spPr>
          <a:xfrm flipH="1" rot="2965800">
            <a:off x="5022000" y="4959720"/>
            <a:ext cx="970200" cy="1101960"/>
          </a:xfrm>
          <a:custGeom>
            <a:avLst/>
            <a:gdLst/>
            <a:ahLst/>
            <a:rect l="l" t="t" r="r" b="b"/>
            <a:pathLst>
              <a:path w="1471" h="1760">
                <a:moveTo>
                  <a:pt x="881" y="587"/>
                </a:moveTo>
                <a:lnTo>
                  <a:pt x="881" y="617"/>
                </a:lnTo>
                <a:lnTo>
                  <a:pt x="882" y="646"/>
                </a:lnTo>
                <a:lnTo>
                  <a:pt x="886" y="676"/>
                </a:lnTo>
                <a:lnTo>
                  <a:pt x="892" y="705"/>
                </a:lnTo>
                <a:lnTo>
                  <a:pt x="897" y="732"/>
                </a:lnTo>
                <a:lnTo>
                  <a:pt x="906" y="761"/>
                </a:lnTo>
                <a:lnTo>
                  <a:pt x="915" y="790"/>
                </a:lnTo>
                <a:lnTo>
                  <a:pt x="925" y="816"/>
                </a:lnTo>
                <a:lnTo>
                  <a:pt x="936" y="842"/>
                </a:lnTo>
                <a:lnTo>
                  <a:pt x="950" y="867"/>
                </a:lnTo>
                <a:lnTo>
                  <a:pt x="965" y="892"/>
                </a:lnTo>
                <a:lnTo>
                  <a:pt x="980" y="915"/>
                </a:lnTo>
                <a:lnTo>
                  <a:pt x="995" y="937"/>
                </a:lnTo>
                <a:lnTo>
                  <a:pt x="1013" y="958"/>
                </a:lnTo>
                <a:lnTo>
                  <a:pt x="1031" y="980"/>
                </a:lnTo>
                <a:lnTo>
                  <a:pt x="1052" y="1001"/>
                </a:lnTo>
                <a:lnTo>
                  <a:pt x="1072" y="1019"/>
                </a:lnTo>
                <a:lnTo>
                  <a:pt x="1093" y="1040"/>
                </a:lnTo>
                <a:lnTo>
                  <a:pt x="1115" y="1056"/>
                </a:lnTo>
                <a:lnTo>
                  <a:pt x="1140" y="1073"/>
                </a:lnTo>
                <a:lnTo>
                  <a:pt x="1162" y="1087"/>
                </a:lnTo>
                <a:lnTo>
                  <a:pt x="1186" y="1103"/>
                </a:lnTo>
                <a:lnTo>
                  <a:pt x="1211" y="1116"/>
                </a:lnTo>
                <a:lnTo>
                  <a:pt x="1237" y="1128"/>
                </a:lnTo>
                <a:lnTo>
                  <a:pt x="1265" y="1138"/>
                </a:lnTo>
                <a:lnTo>
                  <a:pt x="1291" y="1146"/>
                </a:lnTo>
                <a:lnTo>
                  <a:pt x="1318" y="1154"/>
                </a:lnTo>
                <a:lnTo>
                  <a:pt x="1347" y="1162"/>
                </a:lnTo>
                <a:lnTo>
                  <a:pt x="1376" y="1166"/>
                </a:lnTo>
                <a:lnTo>
                  <a:pt x="1406" y="1171"/>
                </a:lnTo>
                <a:lnTo>
                  <a:pt x="1437" y="1172"/>
                </a:lnTo>
                <a:lnTo>
                  <a:pt x="1467" y="1172"/>
                </a:lnTo>
                <a:lnTo>
                  <a:pt x="1470" y="1172"/>
                </a:lnTo>
                <a:lnTo>
                  <a:pt x="1471" y="1760"/>
                </a:lnTo>
                <a:lnTo>
                  <a:pt x="1467" y="1760"/>
                </a:lnTo>
                <a:lnTo>
                  <a:pt x="1437" y="1760"/>
                </a:lnTo>
                <a:lnTo>
                  <a:pt x="1406" y="1757"/>
                </a:lnTo>
                <a:lnTo>
                  <a:pt x="1376" y="1757"/>
                </a:lnTo>
                <a:lnTo>
                  <a:pt x="1346" y="1753"/>
                </a:lnTo>
                <a:lnTo>
                  <a:pt x="1317" y="1752"/>
                </a:lnTo>
                <a:lnTo>
                  <a:pt x="1287" y="1745"/>
                </a:lnTo>
                <a:lnTo>
                  <a:pt x="1258" y="1741"/>
                </a:lnTo>
                <a:lnTo>
                  <a:pt x="1230" y="1735"/>
                </a:lnTo>
                <a:lnTo>
                  <a:pt x="1202" y="1730"/>
                </a:lnTo>
                <a:lnTo>
                  <a:pt x="1173" y="1723"/>
                </a:lnTo>
                <a:lnTo>
                  <a:pt x="1146" y="1717"/>
                </a:lnTo>
                <a:lnTo>
                  <a:pt x="1117" y="1708"/>
                </a:lnTo>
                <a:lnTo>
                  <a:pt x="1089" y="1698"/>
                </a:lnTo>
                <a:lnTo>
                  <a:pt x="1062" y="1688"/>
                </a:lnTo>
                <a:lnTo>
                  <a:pt x="1036" y="1679"/>
                </a:lnTo>
                <a:lnTo>
                  <a:pt x="1009" y="1668"/>
                </a:lnTo>
                <a:lnTo>
                  <a:pt x="983" y="1658"/>
                </a:lnTo>
                <a:lnTo>
                  <a:pt x="955" y="1644"/>
                </a:lnTo>
                <a:lnTo>
                  <a:pt x="932" y="1632"/>
                </a:lnTo>
                <a:lnTo>
                  <a:pt x="906" y="1619"/>
                </a:lnTo>
                <a:lnTo>
                  <a:pt x="882" y="1604"/>
                </a:lnTo>
                <a:lnTo>
                  <a:pt x="859" y="1590"/>
                </a:lnTo>
                <a:lnTo>
                  <a:pt x="834" y="1574"/>
                </a:lnTo>
                <a:lnTo>
                  <a:pt x="811" y="1560"/>
                </a:lnTo>
                <a:lnTo>
                  <a:pt x="787" y="1544"/>
                </a:lnTo>
                <a:lnTo>
                  <a:pt x="762" y="1527"/>
                </a:lnTo>
                <a:lnTo>
                  <a:pt x="719" y="1492"/>
                </a:lnTo>
                <a:lnTo>
                  <a:pt x="677" y="1456"/>
                </a:lnTo>
                <a:lnTo>
                  <a:pt x="636" y="1415"/>
                </a:lnTo>
                <a:lnTo>
                  <a:pt x="598" y="1375"/>
                </a:lnTo>
                <a:lnTo>
                  <a:pt x="560" y="1333"/>
                </a:lnTo>
                <a:lnTo>
                  <a:pt x="526" y="1288"/>
                </a:lnTo>
                <a:lnTo>
                  <a:pt x="508" y="1266"/>
                </a:lnTo>
                <a:lnTo>
                  <a:pt x="493" y="1241"/>
                </a:lnTo>
                <a:lnTo>
                  <a:pt x="478" y="1219"/>
                </a:lnTo>
                <a:lnTo>
                  <a:pt x="463" y="1194"/>
                </a:lnTo>
                <a:lnTo>
                  <a:pt x="446" y="1171"/>
                </a:lnTo>
                <a:lnTo>
                  <a:pt x="435" y="1146"/>
                </a:lnTo>
                <a:lnTo>
                  <a:pt x="422" y="1120"/>
                </a:lnTo>
                <a:lnTo>
                  <a:pt x="409" y="1096"/>
                </a:lnTo>
                <a:lnTo>
                  <a:pt x="395" y="1070"/>
                </a:lnTo>
                <a:lnTo>
                  <a:pt x="384" y="1044"/>
                </a:lnTo>
                <a:lnTo>
                  <a:pt x="373" y="1018"/>
                </a:lnTo>
                <a:lnTo>
                  <a:pt x="363" y="989"/>
                </a:lnTo>
                <a:lnTo>
                  <a:pt x="355" y="965"/>
                </a:lnTo>
                <a:lnTo>
                  <a:pt x="345" y="936"/>
                </a:lnTo>
                <a:lnTo>
                  <a:pt x="337" y="907"/>
                </a:lnTo>
                <a:lnTo>
                  <a:pt x="330" y="881"/>
                </a:lnTo>
                <a:lnTo>
                  <a:pt x="322" y="852"/>
                </a:lnTo>
                <a:lnTo>
                  <a:pt x="316" y="824"/>
                </a:lnTo>
                <a:lnTo>
                  <a:pt x="311" y="794"/>
                </a:lnTo>
                <a:lnTo>
                  <a:pt x="305" y="765"/>
                </a:lnTo>
                <a:lnTo>
                  <a:pt x="302" y="736"/>
                </a:lnTo>
                <a:lnTo>
                  <a:pt x="298" y="707"/>
                </a:lnTo>
                <a:lnTo>
                  <a:pt x="295" y="676"/>
                </a:lnTo>
                <a:lnTo>
                  <a:pt x="294" y="649"/>
                </a:lnTo>
                <a:lnTo>
                  <a:pt x="294" y="617"/>
                </a:lnTo>
                <a:lnTo>
                  <a:pt x="294" y="587"/>
                </a:lnTo>
                <a:lnTo>
                  <a:pt x="0" y="587"/>
                </a:lnTo>
                <a:lnTo>
                  <a:pt x="587" y="0"/>
                </a:lnTo>
                <a:lnTo>
                  <a:pt x="1173" y="587"/>
                </a:lnTo>
                <a:lnTo>
                  <a:pt x="881" y="587"/>
                </a:lnTo>
                <a:close/>
              </a:path>
            </a:pathLst>
          </a:custGeom>
          <a:gradFill rotWithShape="0">
            <a:gsLst>
              <a:gs pos="0">
                <a:srgbClr val="2f5e76"/>
              </a:gs>
              <a:gs pos="100000">
                <a:srgbClr val="66ccff"/>
              </a:gs>
            </a:gsLst>
            <a:lin ang="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0097-3874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31960" y="4005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2008-04-23_123504"/>
          <p:cNvPicPr/>
          <p:nvPr/>
        </p:nvPicPr>
        <p:blipFill>
          <a:blip r:embed="rId2"/>
          <a:srcRect l="0" t="0" r="-85" b="0"/>
          <a:stretch/>
        </p:blipFill>
        <p:spPr>
          <a:xfrm>
            <a:off x="4689360" y="1752480"/>
            <a:ext cx="151128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0"/>
          <p:cNvGrpSpPr/>
          <p:nvPr/>
        </p:nvGrpSpPr>
        <p:grpSpPr>
          <a:xfrm>
            <a:off x="6442200" y="4114800"/>
            <a:ext cx="1510920" cy="1152000"/>
            <a:chOff x="6442200" y="4114800"/>
            <a:chExt cx="1510920" cy="1152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6442200" y="4453200"/>
              <a:ext cx="1510920" cy="813600"/>
              <a:chOff x="6442200" y="4453200"/>
              <a:chExt cx="1510920" cy="813600"/>
            </a:xfrm>
          </p:grpSpPr>
          <p:sp>
            <p:nvSpPr>
              <p:cNvPr id="219" name="Oval 16"/>
              <p:cNvSpPr/>
              <p:nvPr/>
            </p:nvSpPr>
            <p:spPr>
              <a:xfrm>
                <a:off x="6442200" y="4543560"/>
                <a:ext cx="1510920" cy="72324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b2b2b2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442200" y="4453200"/>
                <a:ext cx="1510920" cy="723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Picture 18" descr="고객아이콘"/>
            <p:cNvPicPr/>
            <p:nvPr/>
          </p:nvPicPr>
          <p:blipFill>
            <a:blip r:embed="rId3"/>
            <a:stretch/>
          </p:blipFill>
          <p:spPr>
            <a:xfrm>
              <a:off x="6442200" y="4297680"/>
              <a:ext cx="57816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9" descr="고객아이콘2"/>
            <p:cNvPicPr/>
            <p:nvPr/>
          </p:nvPicPr>
          <p:blipFill>
            <a:blip r:embed="rId4"/>
            <a:stretch/>
          </p:blipFill>
          <p:spPr>
            <a:xfrm>
              <a:off x="6919920" y="4114800"/>
              <a:ext cx="579960" cy="86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고객아이콘"/>
            <p:cNvPicPr/>
            <p:nvPr/>
          </p:nvPicPr>
          <p:blipFill>
            <a:blip r:embed="rId5"/>
            <a:stretch/>
          </p:blipFill>
          <p:spPr>
            <a:xfrm>
              <a:off x="7297920" y="4297680"/>
              <a:ext cx="577800" cy="85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Freeform 33"/>
          <p:cNvSpPr/>
          <p:nvPr/>
        </p:nvSpPr>
        <p:spPr>
          <a:xfrm flipH="1" rot="16405800">
            <a:off x="3330720" y="2809800"/>
            <a:ext cx="1214640" cy="1090440"/>
          </a:xfrm>
          <a:custGeom>
            <a:avLst/>
            <a:gdLst/>
            <a:ahLst/>
            <a:rect l="l" t="t" r="r" b="b"/>
            <a:pathLst>
              <a:path w="1760" h="1470">
                <a:moveTo>
                  <a:pt x="1173" y="879"/>
                </a:moveTo>
                <a:lnTo>
                  <a:pt x="1143" y="879"/>
                </a:lnTo>
                <a:lnTo>
                  <a:pt x="1112" y="883"/>
                </a:lnTo>
                <a:lnTo>
                  <a:pt x="1082" y="885"/>
                </a:lnTo>
                <a:lnTo>
                  <a:pt x="1053" y="892"/>
                </a:lnTo>
                <a:lnTo>
                  <a:pt x="1024" y="898"/>
                </a:lnTo>
                <a:lnTo>
                  <a:pt x="997" y="905"/>
                </a:lnTo>
                <a:lnTo>
                  <a:pt x="971" y="915"/>
                </a:lnTo>
                <a:lnTo>
                  <a:pt x="943" y="924"/>
                </a:lnTo>
                <a:lnTo>
                  <a:pt x="917" y="937"/>
                </a:lnTo>
                <a:lnTo>
                  <a:pt x="892" y="951"/>
                </a:lnTo>
                <a:lnTo>
                  <a:pt x="868" y="964"/>
                </a:lnTo>
                <a:lnTo>
                  <a:pt x="846" y="979"/>
                </a:lnTo>
                <a:lnTo>
                  <a:pt x="821" y="996"/>
                </a:lnTo>
                <a:lnTo>
                  <a:pt x="799" y="1013"/>
                </a:lnTo>
                <a:lnTo>
                  <a:pt x="778" y="1031"/>
                </a:lnTo>
                <a:lnTo>
                  <a:pt x="758" y="1050"/>
                </a:lnTo>
                <a:lnTo>
                  <a:pt x="737" y="1071"/>
                </a:lnTo>
                <a:lnTo>
                  <a:pt x="719" y="1093"/>
                </a:lnTo>
                <a:lnTo>
                  <a:pt x="701" y="1114"/>
                </a:lnTo>
                <a:lnTo>
                  <a:pt x="686" y="1137"/>
                </a:lnTo>
                <a:lnTo>
                  <a:pt x="671" y="1162"/>
                </a:lnTo>
                <a:lnTo>
                  <a:pt x="656" y="1186"/>
                </a:lnTo>
                <a:lnTo>
                  <a:pt x="642" y="1212"/>
                </a:lnTo>
                <a:lnTo>
                  <a:pt x="631" y="1238"/>
                </a:lnTo>
                <a:lnTo>
                  <a:pt x="621" y="1264"/>
                </a:lnTo>
                <a:lnTo>
                  <a:pt x="612" y="1293"/>
                </a:lnTo>
                <a:lnTo>
                  <a:pt x="603" y="1317"/>
                </a:lnTo>
                <a:lnTo>
                  <a:pt x="598" y="1346"/>
                </a:lnTo>
                <a:lnTo>
                  <a:pt x="592" y="1376"/>
                </a:lnTo>
                <a:lnTo>
                  <a:pt x="588" y="1405"/>
                </a:lnTo>
                <a:lnTo>
                  <a:pt x="587" y="1436"/>
                </a:lnTo>
                <a:lnTo>
                  <a:pt x="587" y="1466"/>
                </a:lnTo>
                <a:lnTo>
                  <a:pt x="587" y="1469"/>
                </a:lnTo>
                <a:lnTo>
                  <a:pt x="0" y="1470"/>
                </a:lnTo>
                <a:lnTo>
                  <a:pt x="0" y="1466"/>
                </a:lnTo>
                <a:lnTo>
                  <a:pt x="0" y="1436"/>
                </a:lnTo>
                <a:lnTo>
                  <a:pt x="0" y="1405"/>
                </a:lnTo>
                <a:lnTo>
                  <a:pt x="1" y="1375"/>
                </a:lnTo>
                <a:lnTo>
                  <a:pt x="4" y="1346"/>
                </a:lnTo>
                <a:lnTo>
                  <a:pt x="8" y="1316"/>
                </a:lnTo>
                <a:lnTo>
                  <a:pt x="11" y="1289"/>
                </a:lnTo>
                <a:lnTo>
                  <a:pt x="17" y="1257"/>
                </a:lnTo>
                <a:lnTo>
                  <a:pt x="21" y="1230"/>
                </a:lnTo>
                <a:lnTo>
                  <a:pt x="28" y="1201"/>
                </a:lnTo>
                <a:lnTo>
                  <a:pt x="36" y="1172"/>
                </a:lnTo>
                <a:lnTo>
                  <a:pt x="43" y="1144"/>
                </a:lnTo>
                <a:lnTo>
                  <a:pt x="51" y="1115"/>
                </a:lnTo>
                <a:lnTo>
                  <a:pt x="61" y="1089"/>
                </a:lnTo>
                <a:lnTo>
                  <a:pt x="69" y="1062"/>
                </a:lnTo>
                <a:lnTo>
                  <a:pt x="79" y="1035"/>
                </a:lnTo>
                <a:lnTo>
                  <a:pt x="90" y="1009"/>
                </a:lnTo>
                <a:lnTo>
                  <a:pt x="101" y="983"/>
                </a:lnTo>
                <a:lnTo>
                  <a:pt x="115" y="957"/>
                </a:lnTo>
                <a:lnTo>
                  <a:pt x="128" y="931"/>
                </a:lnTo>
                <a:lnTo>
                  <a:pt x="141" y="907"/>
                </a:lnTo>
                <a:lnTo>
                  <a:pt x="152" y="881"/>
                </a:lnTo>
                <a:lnTo>
                  <a:pt x="169" y="857"/>
                </a:lnTo>
                <a:lnTo>
                  <a:pt x="184" y="834"/>
                </a:lnTo>
                <a:lnTo>
                  <a:pt x="199" y="810"/>
                </a:lnTo>
                <a:lnTo>
                  <a:pt x="214" y="787"/>
                </a:lnTo>
                <a:lnTo>
                  <a:pt x="232" y="763"/>
                </a:lnTo>
                <a:lnTo>
                  <a:pt x="266" y="719"/>
                </a:lnTo>
                <a:lnTo>
                  <a:pt x="304" y="676"/>
                </a:lnTo>
                <a:lnTo>
                  <a:pt x="342" y="636"/>
                </a:lnTo>
                <a:lnTo>
                  <a:pt x="381" y="598"/>
                </a:lnTo>
                <a:lnTo>
                  <a:pt x="425" y="561"/>
                </a:lnTo>
                <a:lnTo>
                  <a:pt x="468" y="526"/>
                </a:lnTo>
                <a:lnTo>
                  <a:pt x="493" y="509"/>
                </a:lnTo>
                <a:lnTo>
                  <a:pt x="517" y="494"/>
                </a:lnTo>
                <a:lnTo>
                  <a:pt x="537" y="477"/>
                </a:lnTo>
                <a:lnTo>
                  <a:pt x="562" y="464"/>
                </a:lnTo>
                <a:lnTo>
                  <a:pt x="588" y="448"/>
                </a:lnTo>
                <a:lnTo>
                  <a:pt x="612" y="435"/>
                </a:lnTo>
                <a:lnTo>
                  <a:pt x="638" y="420"/>
                </a:lnTo>
                <a:lnTo>
                  <a:pt x="661" y="410"/>
                </a:lnTo>
                <a:lnTo>
                  <a:pt x="689" y="396"/>
                </a:lnTo>
                <a:lnTo>
                  <a:pt x="715" y="385"/>
                </a:lnTo>
                <a:lnTo>
                  <a:pt x="740" y="375"/>
                </a:lnTo>
                <a:lnTo>
                  <a:pt x="768" y="363"/>
                </a:lnTo>
                <a:lnTo>
                  <a:pt x="795" y="355"/>
                </a:lnTo>
                <a:lnTo>
                  <a:pt x="823" y="346"/>
                </a:lnTo>
                <a:lnTo>
                  <a:pt x="852" y="337"/>
                </a:lnTo>
                <a:lnTo>
                  <a:pt x="879" y="328"/>
                </a:lnTo>
                <a:lnTo>
                  <a:pt x="908" y="323"/>
                </a:lnTo>
                <a:lnTo>
                  <a:pt x="936" y="316"/>
                </a:lnTo>
                <a:lnTo>
                  <a:pt x="964" y="312"/>
                </a:lnTo>
                <a:lnTo>
                  <a:pt x="993" y="306"/>
                </a:lnTo>
                <a:lnTo>
                  <a:pt x="1023" y="302"/>
                </a:lnTo>
                <a:lnTo>
                  <a:pt x="1052" y="298"/>
                </a:lnTo>
                <a:lnTo>
                  <a:pt x="1082" y="295"/>
                </a:lnTo>
                <a:lnTo>
                  <a:pt x="1112" y="294"/>
                </a:lnTo>
                <a:lnTo>
                  <a:pt x="1143" y="294"/>
                </a:lnTo>
                <a:lnTo>
                  <a:pt x="1172" y="291"/>
                </a:lnTo>
                <a:lnTo>
                  <a:pt x="1173" y="291"/>
                </a:lnTo>
                <a:lnTo>
                  <a:pt x="1173" y="0"/>
                </a:lnTo>
                <a:lnTo>
                  <a:pt x="1760" y="585"/>
                </a:lnTo>
                <a:lnTo>
                  <a:pt x="1173" y="1172"/>
                </a:lnTo>
                <a:lnTo>
                  <a:pt x="1173" y="87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13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8" descr="(QU6_)RO({A)SAF)2)X3C%M"/>
          <p:cNvPicPr/>
          <p:nvPr/>
        </p:nvPicPr>
        <p:blipFill>
          <a:blip r:embed="rId6"/>
          <a:stretch/>
        </p:blipFill>
        <p:spPr>
          <a:xfrm>
            <a:off x="4827600" y="3352680"/>
            <a:ext cx="1085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63800" y="1069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三个运营维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75240" y="2387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产品生命周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875240" y="462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运营执行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875240" y="3505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运营分析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423120" y="204156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194"/>
          <p:cNvSpPr/>
          <p:nvPr/>
        </p:nvSpPr>
        <p:spPr>
          <a:xfrm>
            <a:off x="1417680" y="167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4F8C-9E40-4D6E-9FF8-442981FA9D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结束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277440" y="1830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简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874880" y="3457440"/>
            <a:ext cx="40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创意改变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401520" y="18288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困难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32280" y="45864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执行改变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0"/>
            <a:ext cx="114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互联网产品运营模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4"/>
          <p:cNvSpPr/>
          <p:nvPr/>
        </p:nvSpPr>
        <p:spPr>
          <a:xfrm>
            <a:off x="0" y="5410080"/>
            <a:ext cx="11171160" cy="0"/>
          </a:xfrm>
          <a:prstGeom prst="line">
            <a:avLst/>
          </a:prstGeom>
          <a:ln w="34920">
            <a:solidFill>
              <a:srgbClr val="000000">
                <a:alpha val="57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8"/>
          <p:cNvSpPr/>
          <p:nvPr/>
        </p:nvSpPr>
        <p:spPr>
          <a:xfrm>
            <a:off x="2484360" y="1598760"/>
            <a:ext cx="0" cy="428616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8"/>
          <p:cNvSpPr/>
          <p:nvPr/>
        </p:nvSpPr>
        <p:spPr>
          <a:xfrm>
            <a:off x="4618080" y="1674720"/>
            <a:ext cx="0" cy="428652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8"/>
          <p:cNvSpPr/>
          <p:nvPr/>
        </p:nvSpPr>
        <p:spPr>
          <a:xfrm>
            <a:off x="6751800" y="1674720"/>
            <a:ext cx="0" cy="428652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8"/>
          <p:cNvSpPr/>
          <p:nvPr/>
        </p:nvSpPr>
        <p:spPr>
          <a:xfrm>
            <a:off x="8809200" y="1598760"/>
            <a:ext cx="0" cy="428616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579600" y="5486400"/>
            <a:ext cx="167616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准备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5"/>
          <p:cNvSpPr/>
          <p:nvPr/>
        </p:nvSpPr>
        <p:spPr>
          <a:xfrm>
            <a:off x="271296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引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5"/>
          <p:cNvSpPr/>
          <p:nvPr/>
        </p:nvSpPr>
        <p:spPr>
          <a:xfrm>
            <a:off x="48466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发展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5"/>
          <p:cNvSpPr/>
          <p:nvPr/>
        </p:nvSpPr>
        <p:spPr>
          <a:xfrm>
            <a:off x="69040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成熟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5"/>
          <p:cNvSpPr/>
          <p:nvPr/>
        </p:nvSpPr>
        <p:spPr>
          <a:xfrm>
            <a:off x="89614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衰退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5"/>
          <p:cNvSpPr/>
          <p:nvPr/>
        </p:nvSpPr>
        <p:spPr>
          <a:xfrm>
            <a:off x="579600" y="2521080"/>
            <a:ext cx="10134360" cy="703440"/>
          </a:xfrm>
          <a:prstGeom prst="rect">
            <a:avLst/>
          </a:prstGeom>
          <a:solidFill>
            <a:srgbClr val="ffcc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竞争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579600" y="1758960"/>
            <a:ext cx="10134360" cy="703440"/>
          </a:xfrm>
          <a:prstGeom prst="rect">
            <a:avLst/>
          </a:prstGeom>
          <a:solidFill>
            <a:srgbClr val="ff99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产品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579600" y="3282840"/>
            <a:ext cx="10134360" cy="703440"/>
          </a:xfrm>
          <a:prstGeom prst="rect">
            <a:avLst/>
          </a:prstGeom>
          <a:solidFill>
            <a:srgbClr val="ff66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合作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5"/>
          <p:cNvSpPr/>
          <p:nvPr/>
        </p:nvSpPr>
        <p:spPr>
          <a:xfrm>
            <a:off x="579600" y="4044960"/>
            <a:ext cx="10134360" cy="703440"/>
          </a:xfrm>
          <a:prstGeom prst="rect">
            <a:avLst/>
          </a:prstGeom>
          <a:solidFill>
            <a:srgbClr val="9933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用户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48"/>
          <p:cNvSpPr/>
          <p:nvPr/>
        </p:nvSpPr>
        <p:spPr>
          <a:xfrm flipH="1">
            <a:off x="6751800" y="2362320"/>
            <a:ext cx="3200400" cy="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047096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一次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10309320" y="3200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二次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市场为运营导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179800" y="31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竞争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79800" y="464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态势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18"/>
          <p:cNvSpPr/>
          <p:nvPr/>
        </p:nvSpPr>
        <p:spPr>
          <a:xfrm>
            <a:off x="2637000" y="255096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18"/>
          <p:cNvSpPr/>
          <p:nvPr/>
        </p:nvSpPr>
        <p:spPr>
          <a:xfrm>
            <a:off x="2637000" y="407520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984320" y="1523880"/>
            <a:ext cx="20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ITTA-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5"/>
          <p:cNvSpPr/>
          <p:nvPr/>
        </p:nvSpPr>
        <p:spPr>
          <a:xfrm>
            <a:off x="4846680" y="1219320"/>
            <a:ext cx="647712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51800" y="29718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消费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580600" y="16002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供应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227560" y="1905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竞争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80200" y="44197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后来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896148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替代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179800" y="3124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竞争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984320" y="1538280"/>
            <a:ext cx="20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ITTA-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608800" y="12952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8123400" y="20574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03880" y="31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i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8352000" y="35812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980400" y="4876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211840" y="4648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态势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913360" y="22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机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8656560" y="22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风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5837400" y="40528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优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8580600" y="40528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劣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194"/>
          <p:cNvSpPr/>
          <p:nvPr/>
        </p:nvSpPr>
        <p:spPr>
          <a:xfrm>
            <a:off x="149400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用户为运营中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91080" y="1496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目标群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199720" y="1219320"/>
            <a:ext cx="16437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满足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完善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提升体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18"/>
          <p:cNvSpPr/>
          <p:nvPr/>
        </p:nvSpPr>
        <p:spPr>
          <a:xfrm>
            <a:off x="2408400" y="2438280"/>
            <a:ext cx="68580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272680" y="3048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用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672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下箭头 18"/>
          <p:cNvSpPr/>
          <p:nvPr/>
        </p:nvSpPr>
        <p:spPr>
          <a:xfrm>
            <a:off x="2408400" y="3886200"/>
            <a:ext cx="68580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4313160" y="1371600"/>
            <a:ext cx="1035000" cy="1089000"/>
            <a:chOff x="4313160" y="1371600"/>
            <a:chExt cx="1035000" cy="1089000"/>
          </a:xfrm>
        </p:grpSpPr>
        <p:pic>
          <p:nvPicPr>
            <p:cNvPr id="143" name="Picture 10" descr="slide0067_image123"/>
            <p:cNvPicPr/>
            <p:nvPr/>
          </p:nvPicPr>
          <p:blipFill>
            <a:blip r:embed="rId1"/>
            <a:stretch/>
          </p:blipFill>
          <p:spPr>
            <a:xfrm>
              <a:off x="4313160" y="137160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1" descr="slide0067_image123"/>
            <p:cNvPicPr/>
            <p:nvPr/>
          </p:nvPicPr>
          <p:blipFill>
            <a:blip r:embed="rId2"/>
            <a:stretch/>
          </p:blipFill>
          <p:spPr>
            <a:xfrm>
              <a:off x="4770360" y="137160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slide0067_image123"/>
            <p:cNvPicPr/>
            <p:nvPr/>
          </p:nvPicPr>
          <p:blipFill>
            <a:blip r:embed="rId3"/>
            <a:stretch/>
          </p:blipFill>
          <p:spPr>
            <a:xfrm>
              <a:off x="4541760" y="1600200"/>
              <a:ext cx="577800" cy="8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3"/>
          <p:cNvGrpSpPr/>
          <p:nvPr/>
        </p:nvGrpSpPr>
        <p:grpSpPr>
          <a:xfrm>
            <a:off x="4313160" y="3048120"/>
            <a:ext cx="1111320" cy="860400"/>
            <a:chOff x="4313160" y="3048120"/>
            <a:chExt cx="1111320" cy="860400"/>
          </a:xfrm>
        </p:grpSpPr>
        <p:pic>
          <p:nvPicPr>
            <p:cNvPr id="147" name="Picture 14" descr="slide0067_image123"/>
            <p:cNvPicPr/>
            <p:nvPr/>
          </p:nvPicPr>
          <p:blipFill>
            <a:blip r:embed="rId4"/>
            <a:stretch/>
          </p:blipFill>
          <p:spPr>
            <a:xfrm>
              <a:off x="4313160" y="304812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5" descr="slide0067_image123"/>
            <p:cNvPicPr/>
            <p:nvPr/>
          </p:nvPicPr>
          <p:blipFill>
            <a:blip r:embed="rId5"/>
            <a:stretch/>
          </p:blipFill>
          <p:spPr>
            <a:xfrm>
              <a:off x="4846680" y="3048120"/>
              <a:ext cx="5778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6" descr="slide0067_image123"/>
          <p:cNvPicPr/>
          <p:nvPr/>
        </p:nvPicPr>
        <p:blipFill>
          <a:blip r:embed="rId6"/>
          <a:stretch/>
        </p:blipFill>
        <p:spPr>
          <a:xfrm>
            <a:off x="4573440" y="4397400"/>
            <a:ext cx="578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26960" y="4343400"/>
            <a:ext cx="1066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数据为运营基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3080" y="914400"/>
            <a:ext cx="240732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户数据</a:t>
            </a: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规模、特性、行为、转化率、反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数据</a:t>
            </a: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访问量、热点分析、性能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市场数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行业报告、竞争对手情况、合作资料列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它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O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数据、满意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94920" y="194328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内功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产品改进、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外功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05:32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9:36Z</dcterms:modified>
  <cp:revision>1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8e05000000000001024140</vt:lpwstr>
  </property>
  <property fmtid="{D5CDD505-2E9C-101B-9397-08002B2CF9AE}" pid="4" name="Version">
    <vt:r8>1</vt:r8>
  </property>
</Properties>
</file>