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351-8BDE-41CE-89CF-961663BD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45B-0EC3-4380-B562-1500A467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5C9-3B3C-48C1-B027-773DFF50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785-8340-4534-B608-FD12CEC4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900B-EB08-4B0D-A935-2E6CAF20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53B1-D329-4892-8E21-F34829DF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0210-E714-46A9-B568-9B8F1ACC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1A33-0326-43EA-87BC-5129B840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C25F-78E3-45C2-8C88-55BC3D44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85E7-BCCC-4D8D-AC6D-BFC97BF3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109C-BF6E-4924-A426-7AB09D62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AA2-3AC1-4FFE-ADC3-4D37A91D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36B0-CC45-4064-94B4-BE116E1C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B4FD-D50D-4811-89CD-047E5626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5446-1998-42D4-A669-BB51565E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D443-AAE8-4335-99E8-5548D802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F90B-C118-40BE-9CA1-9289A866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FE939-7E4A-4F4C-A802-0E12E394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7141-1944-4735-BE67-0ECB05A2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5AA7-7B31-47DD-A04D-74A57105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EC90F-A517-4A99-B32E-7110C6A0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94149-0D60-4E21-B899-72B5CB6A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37F-C4E0-414E-A5EC-919CB145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2F084-5855-452E-9BF7-2CADC8B3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CD8A-CDB8-4818-86FC-64AF645E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87BB-3A69-4AEF-A25B-FF0C4045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C9B48-2E76-4A21-A85E-0CD5FF85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ABE24-FE05-4B93-987D-71270215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1730-3C1F-441A-9D63-BDEA3148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208C6-E8E7-4A19-8FE8-461E0625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499-0934-4AE1-A356-39A9EFF2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C79-3AE8-4BF0-ADF9-FB274F4B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574-8B3A-49E0-B7E7-DA492FBA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7E6-78A8-4B7D-BE36-96713F93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8F8-2DB0-46D0-BCC7-C50A8470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2B0-3B1A-4F1B-B295-149B3FEC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fd8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1" marL="457200" indent="4572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2" marL="91440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3" marL="1371600" indent="-4572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4" marL="1828800" indent="-914400">
              <a:spcBef>
                <a:spcPts val="799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E205-09DB-433E-BF86-A20E87A91DA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CB7C-ADF9-442A-8DC8-4FBD849E4B0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9"/>
          <p:cNvSpPr/>
          <p:nvPr/>
        </p:nvSpPr>
        <p:spPr>
          <a:xfrm>
            <a:off x="4260600" y="6504120"/>
            <a:ext cx="107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浪微博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敌的面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矩形 12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df3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矩形 1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97AE-E525-4F85-85ED-36249762F07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3AC8-F37F-4CC6-BA43-604F4DE5BC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fd8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1" marL="457200" indent="4572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2" marL="91440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3" marL="1371600" indent="-4572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4" marL="1828800" indent="-914400">
              <a:spcBef>
                <a:spcPts val="799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BBBC-A384-4071-A09C-E38351AF18A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DB55-69AD-4FD3-9DF8-F6AA1AAA50A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6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4741560"/>
          </a:xfrm>
          <a:prstGeom prst="rect">
            <a:avLst/>
          </a:prstGeom>
          <a:ln w="0">
            <a:noFill/>
          </a:ln>
        </p:spPr>
      </p:pic>
      <p:sp>
        <p:nvSpPr>
          <p:cNvPr id="127" name="矩形 3"/>
          <p:cNvSpPr/>
          <p:nvPr/>
        </p:nvSpPr>
        <p:spPr>
          <a:xfrm>
            <a:off x="-19080" y="3706920"/>
            <a:ext cx="9182160" cy="3062160"/>
          </a:xfrm>
          <a:custGeom>
            <a:avLst/>
            <a:gdLst/>
            <a:ahLst/>
            <a:rect l="l" t="t" r="r" b="b"/>
            <a:pathLst>
              <a:path w="9182100" h="3329044">
                <a:moveTo>
                  <a:pt x="19050" y="0"/>
                </a:moveTo>
                <a:lnTo>
                  <a:pt x="572664" y="0"/>
                </a:lnTo>
                <a:cubicBezTo>
                  <a:pt x="1535177" y="220234"/>
                  <a:pt x="2978131" y="360040"/>
                  <a:pt x="4591050" y="360040"/>
                </a:cubicBezTo>
                <a:cubicBezTo>
                  <a:pt x="6203970" y="360040"/>
                  <a:pt x="7646923" y="220234"/>
                  <a:pt x="8609436" y="0"/>
                </a:cubicBezTo>
                <a:lnTo>
                  <a:pt x="9163050" y="0"/>
                </a:lnTo>
                <a:lnTo>
                  <a:pt x="9182100" y="3287638"/>
                </a:lnTo>
                <a:lnTo>
                  <a:pt x="0" y="3329044"/>
                </a:lnTo>
                <a:cubicBezTo>
                  <a:pt x="0" y="1826004"/>
                  <a:pt x="19050" y="1503040"/>
                  <a:pt x="1905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3"/>
          <p:cNvSpPr/>
          <p:nvPr/>
        </p:nvSpPr>
        <p:spPr>
          <a:xfrm>
            <a:off x="-19080" y="3789360"/>
            <a:ext cx="9177480" cy="3095640"/>
          </a:xfrm>
          <a:custGeom>
            <a:avLst/>
            <a:gdLst/>
            <a:ahLst/>
            <a:rect l="l" t="t" r="r" b="b"/>
            <a:pathLst>
              <a:path w="9177338" h="3096344">
                <a:moveTo>
                  <a:pt x="23813" y="0"/>
                </a:moveTo>
                <a:lnTo>
                  <a:pt x="577427" y="0"/>
                </a:lnTo>
                <a:cubicBezTo>
                  <a:pt x="1539940" y="202649"/>
                  <a:pt x="2982894" y="331292"/>
                  <a:pt x="4595813" y="331292"/>
                </a:cubicBezTo>
                <a:cubicBezTo>
                  <a:pt x="6208733" y="331292"/>
                  <a:pt x="7651686" y="202649"/>
                  <a:pt x="8614199" y="0"/>
                </a:cubicBezTo>
                <a:lnTo>
                  <a:pt x="9167813" y="0"/>
                </a:lnTo>
                <a:lnTo>
                  <a:pt x="9177338" y="3006080"/>
                </a:lnTo>
                <a:lnTo>
                  <a:pt x="9163050" y="3006169"/>
                </a:lnTo>
                <a:lnTo>
                  <a:pt x="9163050" y="3096344"/>
                </a:lnTo>
                <a:lnTo>
                  <a:pt x="0" y="3096344"/>
                </a:lnTo>
                <a:lnTo>
                  <a:pt x="0" y="2616937"/>
                </a:lnTo>
                <a:lnTo>
                  <a:pt x="5512" y="2616937"/>
                </a:lnTo>
                <a:cubicBezTo>
                  <a:pt x="8979" y="1595320"/>
                  <a:pt x="23813" y="1220431"/>
                  <a:pt x="23813" y="0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df331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400" y="4343400"/>
            <a:ext cx="8929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集团公司安全生产领导幻灯片下载</a:t>
            </a:r>
            <a:endParaRPr b="1" lang="en-US" sz="40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900000" y="54770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依据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华人民共和国安全生产法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川省安全生产条例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2286000" y="60213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3"/>
          <p:cNvSpPr/>
          <p:nvPr/>
        </p:nvSpPr>
        <p:spPr>
          <a:xfrm>
            <a:off x="0" y="1952640"/>
            <a:ext cx="6804000" cy="16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标题 1"/>
          <p:cNvSpPr/>
          <p:nvPr/>
        </p:nvSpPr>
        <p:spPr>
          <a:xfrm>
            <a:off x="144360" y="1952640"/>
            <a:ext cx="644364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依法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面负责公司安全生产管理各项工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5"/>
          <p:cNvSpPr/>
          <p:nvPr/>
        </p:nvSpPr>
        <p:spPr>
          <a:xfrm>
            <a:off x="8459640" y="1952640"/>
            <a:ext cx="627120" cy="16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5508720" y="1389240"/>
            <a:ext cx="1201680" cy="112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3" name="Picture 8" descr="eyesight"/>
          <p:cNvPicPr/>
          <p:nvPr/>
        </p:nvPicPr>
        <p:blipFill>
          <a:blip r:embed="rId2"/>
          <a:srcRect l="29449" t="0" r="0" b="0"/>
          <a:stretch/>
        </p:blipFill>
        <p:spPr>
          <a:xfrm>
            <a:off x="6875640" y="1952640"/>
            <a:ext cx="1520640" cy="1692360"/>
          </a:xfrm>
          <a:prstGeom prst="rect">
            <a:avLst/>
          </a:prstGeom>
          <a:ln w="0">
            <a:noFill/>
          </a:ln>
        </p:spPr>
      </p:pic>
      <p:pic>
        <p:nvPicPr>
          <p:cNvPr id="174" name="TextBox 26" descr=""/>
          <p:cNvPicPr/>
          <p:nvPr/>
        </p:nvPicPr>
        <p:blipFill>
          <a:blip r:embed="rId3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3"/>
          <p:cNvSpPr/>
          <p:nvPr/>
        </p:nvSpPr>
        <p:spPr>
          <a:xfrm>
            <a:off x="1893240" y="5877000"/>
            <a:ext cx="371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公司安全分管领导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十大职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2413080" y="2276640"/>
            <a:ext cx="6751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XXXXXXX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23840" y="1916280"/>
            <a:ext cx="20239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​​ 27"/>
          <p:cNvSpPr/>
          <p:nvPr/>
        </p:nvSpPr>
        <p:spPr>
          <a:xfrm>
            <a:off x="1476360" y="1643040"/>
            <a:ext cx="6264360" cy="2376360"/>
          </a:xfrm>
          <a:prstGeom prst="rect">
            <a:avLst/>
          </a:prstGeom>
          <a:solidFill>
            <a:srgbClr val="f2f2f2"/>
          </a:solidFill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​​ 6"/>
          <p:cNvSpPr/>
          <p:nvPr/>
        </p:nvSpPr>
        <p:spPr>
          <a:xfrm>
            <a:off x="0" y="4883040"/>
            <a:ext cx="9144000" cy="1447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​​ 7"/>
          <p:cNvSpPr/>
          <p:nvPr/>
        </p:nvSpPr>
        <p:spPr>
          <a:xfrm>
            <a:off x="263520" y="4869000"/>
            <a:ext cx="873000" cy="144360"/>
          </a:xfrm>
          <a:prstGeom prst="rect">
            <a:avLst/>
          </a:prstGeom>
          <a:gradFill rotWithShape="0">
            <a:gsLst>
              <a:gs pos="0">
                <a:srgbClr val="ffd03b"/>
              </a:gs>
              <a:gs pos="100000">
                <a:srgbClr val="ffd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​​ 9"/>
          <p:cNvSpPr/>
          <p:nvPr/>
        </p:nvSpPr>
        <p:spPr>
          <a:xfrm>
            <a:off x="25092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接连接符​​ 10"/>
          <p:cNvSpPr/>
          <p:nvPr/>
        </p:nvSpPr>
        <p:spPr>
          <a:xfrm>
            <a:off x="202248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接连接符​​ 11"/>
          <p:cNvSpPr/>
          <p:nvPr/>
        </p:nvSpPr>
        <p:spPr>
          <a:xfrm>
            <a:off x="113652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接连接符​​ 12"/>
          <p:cNvSpPr/>
          <p:nvPr/>
        </p:nvSpPr>
        <p:spPr>
          <a:xfrm>
            <a:off x="289548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​​ 13"/>
          <p:cNvSpPr/>
          <p:nvPr/>
        </p:nvSpPr>
        <p:spPr>
          <a:xfrm>
            <a:off x="376884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​​ 14"/>
          <p:cNvSpPr/>
          <p:nvPr/>
        </p:nvSpPr>
        <p:spPr>
          <a:xfrm>
            <a:off x="464184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47232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135792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7"/>
          <p:cNvSpPr/>
          <p:nvPr/>
        </p:nvSpPr>
        <p:spPr>
          <a:xfrm>
            <a:off x="22377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8"/>
          <p:cNvSpPr/>
          <p:nvPr/>
        </p:nvSpPr>
        <p:spPr>
          <a:xfrm>
            <a:off x="31107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9"/>
          <p:cNvSpPr/>
          <p:nvPr/>
        </p:nvSpPr>
        <p:spPr>
          <a:xfrm>
            <a:off x="39837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22"/>
          <p:cNvSpPr/>
          <p:nvPr/>
        </p:nvSpPr>
        <p:spPr>
          <a:xfrm>
            <a:off x="1606680" y="2325600"/>
            <a:ext cx="613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本公司安全生产工作负组织领导和综合监督管理领导责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接连接符​​ 14"/>
          <p:cNvSpPr/>
          <p:nvPr/>
        </p:nvSpPr>
        <p:spPr>
          <a:xfrm>
            <a:off x="552780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9"/>
          <p:cNvSpPr/>
          <p:nvPr/>
        </p:nvSpPr>
        <p:spPr>
          <a:xfrm>
            <a:off x="486324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接连接符​​ 14"/>
          <p:cNvSpPr/>
          <p:nvPr/>
        </p:nvSpPr>
        <p:spPr>
          <a:xfrm>
            <a:off x="641196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9"/>
          <p:cNvSpPr/>
          <p:nvPr/>
        </p:nvSpPr>
        <p:spPr>
          <a:xfrm>
            <a:off x="574812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接连接符​​ 14"/>
          <p:cNvSpPr/>
          <p:nvPr/>
        </p:nvSpPr>
        <p:spPr>
          <a:xfrm>
            <a:off x="729756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9"/>
          <p:cNvSpPr/>
          <p:nvPr/>
        </p:nvSpPr>
        <p:spPr>
          <a:xfrm>
            <a:off x="66333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接连接符​​ 14"/>
          <p:cNvSpPr/>
          <p:nvPr/>
        </p:nvSpPr>
        <p:spPr>
          <a:xfrm>
            <a:off x="818352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9"/>
          <p:cNvSpPr/>
          <p:nvPr/>
        </p:nvSpPr>
        <p:spPr>
          <a:xfrm>
            <a:off x="75189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直接连接符​​ 14"/>
          <p:cNvSpPr/>
          <p:nvPr/>
        </p:nvSpPr>
        <p:spPr>
          <a:xfrm>
            <a:off x="906948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9"/>
          <p:cNvSpPr/>
          <p:nvPr/>
        </p:nvSpPr>
        <p:spPr>
          <a:xfrm>
            <a:off x="840492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TextBox 26" descr=""/>
          <p:cNvPicPr/>
          <p:nvPr/>
        </p:nvPicPr>
        <p:blipFill>
          <a:blip r:embed="rId1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3"/>
          <p:cNvSpPr/>
          <p:nvPr/>
        </p:nvSpPr>
        <p:spPr>
          <a:xfrm>
            <a:off x="2081520" y="5877000"/>
            <a:ext cx="46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公司其他分管领导安全生产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十大职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2771640" y="765000"/>
            <a:ext cx="648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XXXXXXXXXXXXXXXXXX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79280" y="1611360"/>
            <a:ext cx="24577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0" y="2817720"/>
            <a:ext cx="826920" cy="132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直接连接符​​ 5"/>
          <p:cNvSpPr/>
          <p:nvPr/>
        </p:nvSpPr>
        <p:spPr>
          <a:xfrm>
            <a:off x="826920" y="4140360"/>
            <a:ext cx="78487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​​ 9"/>
          <p:cNvSpPr/>
          <p:nvPr/>
        </p:nvSpPr>
        <p:spPr>
          <a:xfrm>
            <a:off x="0" y="-36360"/>
            <a:ext cx="9144000" cy="19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矩形 20" descr=""/>
          <p:cNvPicPr/>
          <p:nvPr/>
        </p:nvPicPr>
        <p:blipFill>
          <a:blip r:embed="rId1"/>
          <a:stretch/>
        </p:blipFill>
        <p:spPr>
          <a:xfrm>
            <a:off x="1322280" y="2795760"/>
            <a:ext cx="6554880" cy="132228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 26" descr=""/>
          <p:cNvPicPr/>
          <p:nvPr/>
        </p:nvPicPr>
        <p:blipFill>
          <a:blip r:embed="rId2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2"/>
          <p:cNvSpPr/>
          <p:nvPr/>
        </p:nvSpPr>
        <p:spPr>
          <a:xfrm>
            <a:off x="0" y="2817720"/>
            <a:ext cx="826920" cy="132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接连接符​​ 5"/>
          <p:cNvSpPr/>
          <p:nvPr/>
        </p:nvSpPr>
        <p:spPr>
          <a:xfrm>
            <a:off x="826920" y="4140360"/>
            <a:ext cx="78487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​​ 9"/>
          <p:cNvSpPr/>
          <p:nvPr/>
        </p:nvSpPr>
        <p:spPr>
          <a:xfrm>
            <a:off x="0" y="-36360"/>
            <a:ext cx="9144000" cy="19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TextBox 26" descr=""/>
          <p:cNvPicPr/>
          <p:nvPr/>
        </p:nvPicPr>
        <p:blipFill>
          <a:blip r:embed="rId1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2"/>
          <p:cNvSpPr/>
          <p:nvPr/>
        </p:nvSpPr>
        <p:spPr>
          <a:xfrm>
            <a:off x="0" y="2817720"/>
            <a:ext cx="826920" cy="132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直接连接符​​ 5"/>
          <p:cNvSpPr/>
          <p:nvPr/>
        </p:nvSpPr>
        <p:spPr>
          <a:xfrm>
            <a:off x="826920" y="4140360"/>
            <a:ext cx="78487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​​ 9"/>
          <p:cNvSpPr/>
          <p:nvPr/>
        </p:nvSpPr>
        <p:spPr>
          <a:xfrm>
            <a:off x="0" y="-36360"/>
            <a:ext cx="9144000" cy="19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TextBox 26" descr=""/>
          <p:cNvPicPr/>
          <p:nvPr/>
        </p:nvPicPr>
        <p:blipFill>
          <a:blip r:embed="rId1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C012-A16C-4DE8-BCC9-F2F431B67A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6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4741560"/>
          </a:xfrm>
          <a:prstGeom prst="rect">
            <a:avLst/>
          </a:prstGeom>
          <a:ln w="0">
            <a:noFill/>
          </a:ln>
        </p:spPr>
      </p:pic>
      <p:sp>
        <p:nvSpPr>
          <p:cNvPr id="226" name="矩形 3"/>
          <p:cNvSpPr/>
          <p:nvPr/>
        </p:nvSpPr>
        <p:spPr>
          <a:xfrm>
            <a:off x="-19080" y="3706920"/>
            <a:ext cx="9182160" cy="3062160"/>
          </a:xfrm>
          <a:custGeom>
            <a:avLst/>
            <a:gdLst/>
            <a:ahLst/>
            <a:rect l="l" t="t" r="r" b="b"/>
            <a:pathLst>
              <a:path w="9182100" h="3329044">
                <a:moveTo>
                  <a:pt x="19050" y="0"/>
                </a:moveTo>
                <a:lnTo>
                  <a:pt x="572664" y="0"/>
                </a:lnTo>
                <a:cubicBezTo>
                  <a:pt x="1535177" y="220234"/>
                  <a:pt x="2978131" y="360040"/>
                  <a:pt x="4591050" y="360040"/>
                </a:cubicBezTo>
                <a:cubicBezTo>
                  <a:pt x="6203970" y="360040"/>
                  <a:pt x="7646923" y="220234"/>
                  <a:pt x="8609436" y="0"/>
                </a:cubicBezTo>
                <a:lnTo>
                  <a:pt x="9163050" y="0"/>
                </a:lnTo>
                <a:lnTo>
                  <a:pt x="9182100" y="3287638"/>
                </a:lnTo>
                <a:lnTo>
                  <a:pt x="0" y="3329044"/>
                </a:lnTo>
                <a:cubicBezTo>
                  <a:pt x="0" y="1826004"/>
                  <a:pt x="19050" y="1503040"/>
                  <a:pt x="1905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3"/>
          <p:cNvSpPr/>
          <p:nvPr/>
        </p:nvSpPr>
        <p:spPr>
          <a:xfrm>
            <a:off x="-19080" y="3789360"/>
            <a:ext cx="9177480" cy="3095640"/>
          </a:xfrm>
          <a:custGeom>
            <a:avLst/>
            <a:gdLst/>
            <a:ahLst/>
            <a:rect l="l" t="t" r="r" b="b"/>
            <a:pathLst>
              <a:path w="9177338" h="3096344">
                <a:moveTo>
                  <a:pt x="23813" y="0"/>
                </a:moveTo>
                <a:lnTo>
                  <a:pt x="577427" y="0"/>
                </a:lnTo>
                <a:cubicBezTo>
                  <a:pt x="1539940" y="202649"/>
                  <a:pt x="2982894" y="331292"/>
                  <a:pt x="4595813" y="331292"/>
                </a:cubicBezTo>
                <a:cubicBezTo>
                  <a:pt x="6208733" y="331292"/>
                  <a:pt x="7651686" y="202649"/>
                  <a:pt x="8614199" y="0"/>
                </a:cubicBezTo>
                <a:lnTo>
                  <a:pt x="9167813" y="0"/>
                </a:lnTo>
                <a:lnTo>
                  <a:pt x="9177338" y="3006080"/>
                </a:lnTo>
                <a:lnTo>
                  <a:pt x="9163050" y="3006169"/>
                </a:lnTo>
                <a:lnTo>
                  <a:pt x="9163050" y="3096344"/>
                </a:lnTo>
                <a:lnTo>
                  <a:pt x="0" y="3096344"/>
                </a:lnTo>
                <a:lnTo>
                  <a:pt x="0" y="2616937"/>
                </a:lnTo>
                <a:lnTo>
                  <a:pt x="5512" y="2616937"/>
                </a:lnTo>
                <a:cubicBezTo>
                  <a:pt x="8979" y="1595320"/>
                  <a:pt x="23813" y="1220431"/>
                  <a:pt x="23813" y="0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df331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400" y="4343040"/>
            <a:ext cx="8929800" cy="21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ffff"/>
                </a:solidFill>
                <a:latin typeface="微软雅黑"/>
              </a:rPr>
              <a:t>谢  谢</a:t>
            </a:r>
            <a:endParaRPr b="1" lang="en-US" sz="12000" spc="-1" strike="noStrike">
              <a:solidFill>
                <a:srgbClr val="009fd8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9"/>
          <p:cNvSpPr/>
          <p:nvPr/>
        </p:nvSpPr>
        <p:spPr>
          <a:xfrm>
            <a:off x="431640" y="5902200"/>
            <a:ext cx="83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团董事长、总裁安全生产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十大职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5352840" y="1484280"/>
            <a:ext cx="9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、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、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、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四、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五、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六、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图片 7" descr=""/>
          <p:cNvPicPr/>
          <p:nvPr/>
        </p:nvPicPr>
        <p:blipFill>
          <a:blip r:embed="rId1"/>
          <a:stretch/>
        </p:blipFill>
        <p:spPr>
          <a:xfrm>
            <a:off x="285840" y="1797120"/>
            <a:ext cx="28573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4"/>
          <p:cNvGrpSpPr/>
          <p:nvPr/>
        </p:nvGrpSpPr>
        <p:grpSpPr>
          <a:xfrm>
            <a:off x="395280" y="2370240"/>
            <a:ext cx="3889440" cy="2325600"/>
            <a:chOff x="395280" y="2370240"/>
            <a:chExt cx="3889440" cy="2325600"/>
          </a:xfrm>
        </p:grpSpPr>
        <p:pic>
          <p:nvPicPr>
            <p:cNvPr id="137" name="Picture 2" descr=""/>
            <p:cNvPicPr/>
            <p:nvPr/>
          </p:nvPicPr>
          <p:blipFill>
            <a:blip r:embed="rId1"/>
            <a:stretch/>
          </p:blipFill>
          <p:spPr>
            <a:xfrm>
              <a:off x="395280" y="2442240"/>
              <a:ext cx="2442600" cy="225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3"/>
            <p:cNvSpPr/>
            <p:nvPr/>
          </p:nvSpPr>
          <p:spPr>
            <a:xfrm>
              <a:off x="2268000" y="2370240"/>
              <a:ext cx="15123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5"/>
            <p:cNvSpPr/>
            <p:nvPr/>
          </p:nvSpPr>
          <p:spPr>
            <a:xfrm>
              <a:off x="2628000" y="2802240"/>
              <a:ext cx="15123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6"/>
            <p:cNvSpPr/>
            <p:nvPr/>
          </p:nvSpPr>
          <p:spPr>
            <a:xfrm>
              <a:off x="2772360" y="3384360"/>
              <a:ext cx="15123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矩形 8"/>
          <p:cNvSpPr/>
          <p:nvPr/>
        </p:nvSpPr>
        <p:spPr>
          <a:xfrm>
            <a:off x="2879640" y="1628640"/>
            <a:ext cx="6121440" cy="642600"/>
          </a:xfrm>
          <a:prstGeom prst="rect">
            <a:avLst/>
          </a:prstGeom>
          <a:gradFill rotWithShape="0">
            <a:gsLst>
              <a:gs pos="0">
                <a:srgbClr val="df3311"/>
              </a:gs>
              <a:gs pos="50000">
                <a:srgbClr val="df3311"/>
              </a:gs>
              <a:gs pos="100000">
                <a:srgbClr val="df33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面负责安全生产管理责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TextBox 26" descr=""/>
          <p:cNvPicPr/>
          <p:nvPr/>
        </p:nvPicPr>
        <p:blipFill>
          <a:blip r:embed="rId2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8194"/>
          <p:cNvSpPr/>
          <p:nvPr/>
        </p:nvSpPr>
        <p:spPr>
          <a:xfrm>
            <a:off x="2987640" y="278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5"/>
          <p:cNvSpPr/>
          <p:nvPr/>
        </p:nvSpPr>
        <p:spPr>
          <a:xfrm>
            <a:off x="2879640" y="1628640"/>
            <a:ext cx="6121440" cy="646200"/>
          </a:xfrm>
          <a:prstGeom prst="rect">
            <a:avLst/>
          </a:prstGeom>
          <a:gradFill rotWithShape="0">
            <a:gsLst>
              <a:gs pos="0">
                <a:srgbClr val="df3311"/>
              </a:gs>
              <a:gs pos="50000">
                <a:srgbClr val="df3311"/>
              </a:gs>
              <a:gs pos="100000">
                <a:srgbClr val="df33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01480" y="2708280"/>
            <a:ext cx="2926080" cy="261288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26" descr=""/>
          <p:cNvPicPr/>
          <p:nvPr/>
        </p:nvPicPr>
        <p:blipFill>
          <a:blip r:embed="rId2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580500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集团安全生产分管领导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</a:rPr>
              <a:t>十大职责</a:t>
            </a:r>
            <a:endParaRPr b="1" lang="en-US" sz="44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624120" y="1052280"/>
            <a:ext cx="5545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</a:rPr>
              <a:t>xxxxxxxxxxxxxxxxxxxxxxxxxxxxxxxxxxx</a:t>
            </a:r>
            <a:endParaRPr b="0" lang="en-US" sz="1800" spc="-1" strike="noStrike">
              <a:solidFill>
                <a:srgbClr val="404040"/>
              </a:solidFill>
              <a:latin typeface="微软雅黑"/>
            </a:endParaRPr>
          </a:p>
        </p:txBody>
      </p:sp>
      <p:pic>
        <p:nvPicPr>
          <p:cNvPr id="149" name="图片 5" descr=""/>
          <p:cNvPicPr/>
          <p:nvPr/>
        </p:nvPicPr>
        <p:blipFill>
          <a:blip r:embed="rId1"/>
          <a:stretch/>
        </p:blipFill>
        <p:spPr>
          <a:xfrm rot="10800000">
            <a:off x="-360" y="1196640"/>
            <a:ext cx="3179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1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297000" y="2421000"/>
            <a:ext cx="8667720" cy="8301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rcRect l="5820" t="3695" r="5823" b="0"/>
          <a:stretch/>
        </p:blipFill>
        <p:spPr>
          <a:xfrm>
            <a:off x="250920" y="1341360"/>
            <a:ext cx="8669160" cy="2476440"/>
          </a:xfrm>
          <a:prstGeom prst="rect">
            <a:avLst/>
          </a:prstGeom>
          <a:ln w="0">
            <a:noFill/>
          </a:ln>
        </p:spPr>
      </p:pic>
      <p:sp>
        <p:nvSpPr>
          <p:cNvPr id="153" name="矩形 1"/>
          <p:cNvSpPr/>
          <p:nvPr/>
        </p:nvSpPr>
        <p:spPr>
          <a:xfrm>
            <a:off x="297000" y="2421000"/>
            <a:ext cx="8667720" cy="82512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60000"/>
                </a:solidFill>
                <a:latin typeface="微软雅黑"/>
                <a:ea typeface="微软雅黑"/>
              </a:rPr>
              <a:t>依法履行安全生产监督职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TextBox 26" descr=""/>
          <p:cNvPicPr/>
          <p:nvPr/>
        </p:nvPicPr>
        <p:blipFill>
          <a:blip r:embed="rId2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1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223920" y="2421000"/>
            <a:ext cx="8669160" cy="8301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14200" y="1773360"/>
            <a:ext cx="8669520" cy="25574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223920" y="2421000"/>
            <a:ext cx="8669160" cy="83016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TextBox 26" descr=""/>
          <p:cNvPicPr/>
          <p:nvPr/>
        </p:nvPicPr>
        <p:blipFill>
          <a:blip r:embed="rId2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1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223920" y="2421000"/>
            <a:ext cx="8669160" cy="8301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52360" y="1643040"/>
            <a:ext cx="8612280" cy="2556000"/>
          </a:xfrm>
          <a:prstGeom prst="rect">
            <a:avLst/>
          </a:prstGeom>
          <a:ln w="0">
            <a:noFill/>
          </a:ln>
        </p:spPr>
      </p:pic>
      <p:sp>
        <p:nvSpPr>
          <p:cNvPr id="163" name="矩形 1"/>
          <p:cNvSpPr/>
          <p:nvPr/>
        </p:nvSpPr>
        <p:spPr>
          <a:xfrm>
            <a:off x="223920" y="2421000"/>
            <a:ext cx="8669160" cy="83016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TextBox 26" descr=""/>
          <p:cNvPicPr/>
          <p:nvPr/>
        </p:nvPicPr>
        <p:blipFill>
          <a:blip r:embed="rId2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3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1833480" cy="18334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2010240" y="5805360"/>
            <a:ext cx="46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公司董事长总经理安全生产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十大职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03640" y="1125360"/>
            <a:ext cx="629928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</a:rPr>
              <a:t>XXXXXXXXXXXXXXXXXXXXX</a:t>
            </a:r>
            <a:endParaRPr b="0" lang="en-US" sz="18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68" name="文本框 8194"/>
          <p:cNvSpPr/>
          <p:nvPr/>
        </p:nvSpPr>
        <p:spPr>
          <a:xfrm>
            <a:off x="2482920" y="2421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8T05:58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5:13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