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A532-83A8-41DB-8D6F-822BBAD97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C0F1-1A79-4600-AC7A-AC7E0BF5D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C62C-4005-480C-9363-EE60EDFEE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9FAC-7A40-47EA-81EA-9C1D39005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23E21-395E-40BB-B44B-EC4FB1C66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3385B-B6C9-4B3E-BF7F-FEC41DB62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51145-022B-4DA3-98C1-A92C73BB7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91DAC-04E5-4E00-9EDA-5288E9359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ED53A-FC9E-4D04-BF13-D33C0416E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85257-27B0-43F0-A822-36CE2B5B7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BEAEC-1408-47BB-ACDF-E42A2D7D6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5D77-1EF6-4734-99FF-986EC0A26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58F70-A918-4EA9-8E3F-B3BAB0F33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FA77E-1116-41B3-B928-6F551F66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AA2E1-B304-43F5-97A0-C852B1E9F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5897F-D0F9-4080-A268-FDEED458B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F5F49-273C-4489-AC16-24BBA2C1E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FC5F-A686-41DB-8267-B2EE50910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4D73-76EB-49C8-AADC-B593C9C0F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6C94-CD1F-4B03-B2C8-CD40159D4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12F2-54C2-430D-A3AB-9040171DF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42F2-1FB1-4A63-85CC-89158E8A4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8D1E-A9F9-4FBD-B0FB-7F1B68E1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4AC0-233E-4F07-9DF2-E9027136E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C3E24-D91E-4DA8-BB4E-319989554497}" type="slidenum"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F6E11-F8A3-4FEC-A096-DD0DA38F0B83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F35E9-33D9-43F6-B97D-973BACDE079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9457" descr="noel_1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80503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可爱卡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16385" descr="noel_09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文本框 8198"/>
          <p:cNvSpPr/>
          <p:nvPr/>
        </p:nvSpPr>
        <p:spPr>
          <a:xfrm>
            <a:off x="1979640" y="5950080"/>
            <a:ext cx="5060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12289" descr="noel_13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FB1CA-68E4-4886-BD86-D0B9DA21026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图片 13313" descr="noel_133"/>
          <p:cNvPicPr/>
          <p:nvPr/>
        </p:nvPicPr>
        <p:blipFill>
          <a:blip r:embed="rId1"/>
          <a:stretch/>
        </p:blipFill>
        <p:spPr>
          <a:xfrm>
            <a:off x="1547640" y="639720"/>
            <a:ext cx="5828040" cy="45068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3073" descr="noel08"/>
          <p:cNvPicPr/>
          <p:nvPr/>
        </p:nvPicPr>
        <p:blipFill>
          <a:blip r:embed="rId1"/>
          <a:stretch/>
        </p:blipFill>
        <p:spPr>
          <a:xfrm>
            <a:off x="0" y="0"/>
            <a:ext cx="9283680" cy="6942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4097" descr="noel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5121" descr="noel_06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图片 7169" descr="noel_095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8193" descr="noel_09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文本框 8198"/>
          <p:cNvSpPr/>
          <p:nvPr/>
        </p:nvSpPr>
        <p:spPr>
          <a:xfrm>
            <a:off x="1692360" y="6381720"/>
            <a:ext cx="5059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图片 9217" descr="noel_1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片 10241" descr="noel_121"/>
          <p:cNvPicPr/>
          <p:nvPr/>
        </p:nvPicPr>
        <p:blipFill>
          <a:blip r:embed="rId1"/>
          <a:stretch/>
        </p:blipFill>
        <p:spPr>
          <a:xfrm>
            <a:off x="0" y="-171360"/>
            <a:ext cx="9468000" cy="7029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11265" descr="noel_1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7T16:47:17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0:58Z</dcterms:modified>
  <cp:revision>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