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0.png" ContentType="image/png"/>
  <Override PartName="/ppt/media/applaus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FB35-0971-4180-94CB-58FA0DA95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A2DB-F517-4141-BC3A-31B8729E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A214-2925-4BC8-A9BB-0E90762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51A6-C97B-45F1-A751-419CF2D1E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0785-438E-43DA-A34D-37FCFDC4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163B-91F6-4B1A-B3E5-BD532A1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229C-121F-484C-B523-0B7262A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00A12-D63D-411A-8F9B-0696BEDD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E082-2F16-4403-ADE3-3B926444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2296A-6B6A-412C-8CF8-9D984CAE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60670-6093-487F-A9CE-F0B9631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F74B-091A-4373-98F0-3525056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7EE78-5DD6-4322-8639-B614BA8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568B5-709D-4EE0-9756-22A2BA9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9FAEC-22D9-4EA3-A0DB-B49F9C0B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EE856-FAA0-4043-8E70-6EE3E42D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97D5-6CED-4713-937F-80A7E9C7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9B42-5018-4A76-8CD5-ADB2F0FC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C772-31D0-4BAB-A329-BE5A3A6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CC06-859D-46C3-A82E-06D8D12F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EED5-2CEA-4585-ADC7-2687E37B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414F-D9E3-4592-87F6-AF6E67F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D552-0975-478B-A792-552D9A5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CD70-3A19-40C6-9FC3-8DF3BEE5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B1B-C373-44B4-B827-2C6CAF2709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CC2C-F954-408A-AB0B-8F70124E2D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D26-839E-4A6F-A02B-FAAA8D8C0B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258,6,&#24187;&#28783;&#29255; 6" TargetMode="External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60,3,&#24187;&#28783;&#29255; 3" TargetMode="External"/><Relationship Id="rId6" Type="http://schemas.openxmlformats.org/officeDocument/2006/relationships/hyperlink" Target="262,5,&#24187;&#28783;&#29255; 5" TargetMode="External"/><Relationship Id="rId7" Type="http://schemas.openxmlformats.org/officeDocument/2006/relationships/hyperlink" Target="263,4,&#24187;&#28783;&#29255; 4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2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5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9144000" cy="557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4197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我会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838080" y="6521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33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52388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五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81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3623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二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339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25780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我会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17" descr=""/>
          <p:cNvPicPr/>
          <p:nvPr/>
        </p:nvPicPr>
        <p:blipFill>
          <a:blip r:embed="rId8"/>
          <a:stretch/>
        </p:blipFill>
        <p:spPr>
          <a:xfrm>
            <a:off x="2514600" y="266688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Object 18" descr=""/>
          <p:cNvPicPr/>
          <p:nvPr/>
        </p:nvPicPr>
        <p:blipFill>
          <a:blip r:embed="rId9"/>
          <a:stretch/>
        </p:blipFill>
        <p:spPr>
          <a:xfrm>
            <a:off x="3564000" y="2205000"/>
            <a:ext cx="166032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9" descr=""/>
          <p:cNvPicPr/>
          <p:nvPr/>
        </p:nvPicPr>
        <p:blipFill>
          <a:blip r:embed="rId10"/>
          <a:stretch/>
        </p:blipFill>
        <p:spPr>
          <a:xfrm>
            <a:off x="4648320" y="2286000"/>
            <a:ext cx="117288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6"/>
          <p:cNvSpPr/>
          <p:nvPr/>
        </p:nvSpPr>
        <p:spPr>
          <a:xfrm>
            <a:off x="6019920" y="6521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3300"/>
                </a:solidFill>
                <a:latin typeface="Times New Roman"/>
              </a:rPr>
              <a:t>我会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39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看电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5835600" y="1203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99072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2438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华文细黑"/>
                <a:ea typeface="华文细黑"/>
              </a:rPr>
              <a:t>小小一间房，只有一扇窗。唱歌又演戏，天天翻花样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aaangle"/>
          <p:cNvPicPr/>
          <p:nvPr/>
        </p:nvPicPr>
        <p:blipFill>
          <a:blip r:embed="rId1"/>
          <a:stretch/>
        </p:blipFill>
        <p:spPr>
          <a:xfrm>
            <a:off x="457200" y="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8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1817640" cy="16113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26" descr="京剧"/>
          <p:cNvPicPr/>
          <p:nvPr/>
        </p:nvPicPr>
        <p:blipFill>
          <a:blip r:embed="rId1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29" descr="妈妈"/>
          <p:cNvPicPr/>
          <p:nvPr/>
        </p:nvPicPr>
        <p:blipFill>
          <a:blip r:embed="rId2"/>
          <a:stretch/>
        </p:blipFill>
        <p:spPr>
          <a:xfrm>
            <a:off x="1000080" y="5029200"/>
            <a:ext cx="15829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1" descr="足球"/>
          <p:cNvPicPr/>
          <p:nvPr/>
        </p:nvPicPr>
        <p:blipFill>
          <a:blip r:embed="rId3"/>
          <a:stretch/>
        </p:blipFill>
        <p:spPr>
          <a:xfrm>
            <a:off x="6248520" y="2514600"/>
            <a:ext cx="289548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2" descr="舞蹈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889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895480" y="1828800"/>
            <a:ext cx="2819520" cy="1600200"/>
            <a:chOff x="2895480" y="1828800"/>
            <a:chExt cx="2819520" cy="1600200"/>
          </a:xfrm>
        </p:grpSpPr>
        <p:sp>
          <p:nvSpPr>
            <p:cNvPr id="106" name="Line 1034"/>
            <p:cNvSpPr/>
            <p:nvPr/>
          </p:nvSpPr>
          <p:spPr>
            <a:xfrm>
              <a:off x="2895480" y="1828800"/>
              <a:ext cx="2819520" cy="16002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895480" y="1828800"/>
              <a:ext cx="28195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895480" y="3733920"/>
            <a:ext cx="2819520" cy="1600200"/>
            <a:chOff x="2895480" y="3733920"/>
            <a:chExt cx="2819520" cy="1600200"/>
          </a:xfrm>
        </p:grpSpPr>
        <p:sp>
          <p:nvSpPr>
            <p:cNvPr id="109" name="Line 1035"/>
            <p:cNvSpPr/>
            <p:nvPr/>
          </p:nvSpPr>
          <p:spPr>
            <a:xfrm>
              <a:off x="2895480" y="3733920"/>
              <a:ext cx="2819520" cy="16002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895480" y="3733920"/>
              <a:ext cx="28195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1752480"/>
            <a:ext cx="2819520" cy="3657600"/>
            <a:chOff x="2971800" y="1752480"/>
            <a:chExt cx="2819520" cy="3657600"/>
          </a:xfrm>
        </p:grpSpPr>
        <p:sp>
          <p:nvSpPr>
            <p:cNvPr id="112" name="Line 1036"/>
            <p:cNvSpPr/>
            <p:nvPr/>
          </p:nvSpPr>
          <p:spPr>
            <a:xfrm flipV="1">
              <a:off x="2971800" y="1752480"/>
              <a:ext cx="2819520" cy="36576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0800000">
              <a:off x="2971800" y="1752480"/>
              <a:ext cx="281952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AutoShape 1039"/>
          <p:cNvSpPr/>
          <p:nvPr/>
        </p:nvSpPr>
        <p:spPr>
          <a:xfrm>
            <a:off x="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1040" descr=""/>
          <p:cNvPicPr/>
          <p:nvPr/>
        </p:nvPicPr>
        <p:blipFill>
          <a:blip r:embed="rId5"/>
          <a:stretch/>
        </p:blipFill>
        <p:spPr>
          <a:xfrm>
            <a:off x="549360" y="685800"/>
            <a:ext cx="107784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043" descr=""/>
          <p:cNvPicPr/>
          <p:nvPr/>
        </p:nvPicPr>
        <p:blipFill>
          <a:blip r:embed="rId6"/>
          <a:stretch/>
        </p:blipFill>
        <p:spPr>
          <a:xfrm>
            <a:off x="1371600" y="304920"/>
            <a:ext cx="1143000" cy="20095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044" descr=""/>
          <p:cNvPicPr/>
          <p:nvPr/>
        </p:nvPicPr>
        <p:blipFill>
          <a:blip r:embed="rId7"/>
          <a:stretch/>
        </p:blipFill>
        <p:spPr>
          <a:xfrm>
            <a:off x="990720" y="2514600"/>
            <a:ext cx="1006200" cy="2052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46"/>
          <p:cNvSpPr/>
          <p:nvPr/>
        </p:nvSpPr>
        <p:spPr>
          <a:xfrm>
            <a:off x="3048120" y="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4920" y="2708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可真有些奇妙！每个人心里都装着一个秘密，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08000" y="4653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每个人心里都装着一个秘密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81532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家人都看电视，我家看电视，真有些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16" descr=""/>
          <p:cNvPicPr/>
          <p:nvPr/>
        </p:nvPicPr>
        <p:blipFill>
          <a:blip r:embed="rId1"/>
          <a:stretch/>
        </p:blipFill>
        <p:spPr>
          <a:xfrm>
            <a:off x="0" y="4648320"/>
            <a:ext cx="5029200" cy="3052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57200" y="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却把一场精彩的球赛关掉，不知为啥换成了京剧，       伊咿呀呀的，唱个没完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14" descr=""/>
          <p:cNvPicPr/>
          <p:nvPr/>
        </p:nvPicPr>
        <p:blipFill>
          <a:blip r:embed="rId2"/>
          <a:stretch/>
        </p:blipFill>
        <p:spPr>
          <a:xfrm>
            <a:off x="1295280" y="5486400"/>
            <a:ext cx="10782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15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127800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457200" y="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却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把一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精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彩的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赛关掉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，不知为啥换成了京剧，       伊咿呀呀的，唱个没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完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13" descr=""/>
          <p:cNvPicPr/>
          <p:nvPr/>
        </p:nvPicPr>
        <p:blipFill>
          <a:blip r:embed="rId1"/>
          <a:stretch/>
        </p:blipFill>
        <p:spPr>
          <a:xfrm>
            <a:off x="-457200" y="3749760"/>
            <a:ext cx="5119560" cy="3108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换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员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2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04616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换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员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8200"/>
          <p:cNvSpPr/>
          <p:nvPr/>
        </p:nvSpPr>
        <p:spPr>
          <a:xfrm>
            <a:off x="1403280" y="5302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27" descr="妈妈"/>
          <p:cNvPicPr/>
          <p:nvPr/>
        </p:nvPicPr>
        <p:blipFill>
          <a:blip r:embed="rId1"/>
          <a:stretch/>
        </p:blipFill>
        <p:spPr>
          <a:xfrm>
            <a:off x="1143000" y="3962520"/>
            <a:ext cx="1415880" cy="163656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029" descr=""/>
          <p:cNvPicPr/>
          <p:nvPr/>
        </p:nvPicPr>
        <p:blipFill>
          <a:blip r:embed="rId2"/>
          <a:stretch/>
        </p:blipFill>
        <p:spPr>
          <a:xfrm>
            <a:off x="0" y="4406760"/>
            <a:ext cx="4038480" cy="2451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26"/>
          <p:cNvSpPr/>
          <p:nvPr/>
        </p:nvSpPr>
        <p:spPr>
          <a:xfrm>
            <a:off x="304920" y="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写的文稿。      看着妈妈一脸的疲劳，         我们都提议不再看球赛，     让妈妈听听音乐，看看舞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028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30"/>
          <p:cNvSpPr/>
          <p:nvPr/>
        </p:nvSpPr>
        <p:spPr>
          <a:xfrm>
            <a:off x="304920" y="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写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的文稿。      看着妈妈一脸的疲劳，         我们都提议不再看球赛，     让妈妈听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音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乐，看看舞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蹈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843-597D-4109-99FB-CF23B6ADE0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12780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王头上有一人，大哥压着可弟身。宝贝小口头上开，大米青草一起吞。一个少女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010280" y="1219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0102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01028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0102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828800" y="0"/>
            <a:ext cx="259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010280" y="4952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010280" y="58514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33520" y="127944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有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人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哥压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可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弟身。宝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贝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口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开，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米青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草一起吞。一个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少女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2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8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