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BB5-B9D9-4C26-88EE-6BADF116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1DB-FC26-4A98-8A5F-703FC94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CB4-4D47-433F-9080-9BCD802F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C3A-90B1-4665-964D-EA8855B3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6EA8-9882-4A8B-BF43-DBBB3B58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A41-7E25-4B93-84CE-5832B0E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8E28-1D46-462B-9BE0-7B105B08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39E2-835B-4B8C-B0E9-439148F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EB5B-3C4F-4694-BC39-319453C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1130-EE72-4929-8D20-6CC991C4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9AF9-D636-4B2A-AF19-3E55B1F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4A6-E1DE-4885-94D7-9023ACA9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2700-5767-4A34-BB31-CF0D560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12E9-8ABB-44C9-B939-F9B0EE4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0AD7-122C-48B2-900B-6B7978A1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82C7-8245-4967-80DA-E77B6117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435-4A25-44F3-B27B-DDE70D15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92A-FD36-4148-92DD-15F8177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9E2-FD38-43AE-92B0-F510E20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57-8C8E-4BED-9DE8-7F7DE35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ED3-255D-44E9-8412-0813B2F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6EF-7D9B-47F2-82F0-76B06FE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E96-635B-4197-8649-1E5B1EF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572-85B7-4D25-9C20-2010E39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EAD1-1903-45E5-B0A6-AA7E38D9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7042-B255-47A5-A998-7E9C5294D1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AE2-7AA4-41DF-A300-5EA6B11A68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6,&#24187;&#28783;&#29255; 6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6,&#24187;&#28783;&#29255; 6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56,1,&#24187;&#28783;&#29255; 1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61,7,&#24187;&#28783;&#29255; 7" TargetMode="External"/><Relationship Id="rId3" Type="http://schemas.openxmlformats.org/officeDocument/2006/relationships/hyperlink" Target="256,1,&#24187;&#28783;&#29255; 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3,8,&#24187;&#28783;&#29255; 8" TargetMode="External"/><Relationship Id="rId3" Type="http://schemas.openxmlformats.org/officeDocument/2006/relationships/hyperlink" Target="264,9,&#24187;&#28783;&#29255; 9" TargetMode="External"/><Relationship Id="rId4" Type="http://schemas.openxmlformats.org/officeDocument/2006/relationships/hyperlink" Target="256,1,&#24187;&#28783;&#29255; 1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66,11,&#24187;&#28783;&#29255; 11" TargetMode="External"/><Relationship Id="rId3" Type="http://schemas.openxmlformats.org/officeDocument/2006/relationships/hyperlink" Target="267,12,&#24187;&#28783;&#29255; 12" TargetMode="External"/><Relationship Id="rId4" Type="http://schemas.openxmlformats.org/officeDocument/2006/relationships/hyperlink" Target="268,13,&#24187;&#28783;&#29255; 13" TargetMode="External"/><Relationship Id="rId5" Type="http://schemas.openxmlformats.org/officeDocument/2006/relationships/hyperlink" Target="276,14,&#24187;&#28783;&#29255; 14" TargetMode="External"/><Relationship Id="rId6" Type="http://schemas.openxmlformats.org/officeDocument/2006/relationships/hyperlink" Target="278,15,&#24187;&#28783;&#29255; 15" TargetMode="External"/><Relationship Id="rId7" Type="http://schemas.openxmlformats.org/officeDocument/2006/relationships/hyperlink" Target="256,1,&#24187;&#28783;&#29255; 1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9,16,&#24187;&#28783;&#29255; 16" TargetMode="External"/><Relationship Id="rId3" Type="http://schemas.openxmlformats.org/officeDocument/2006/relationships/hyperlink" Target="280,17,&#24187;&#28783;&#29255; 17" TargetMode="External"/><Relationship Id="rId4" Type="http://schemas.openxmlformats.org/officeDocument/2006/relationships/hyperlink" Target="256,1,&#24187;&#28783;&#29255; 1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7,3,&#24187;&#28783;&#29255; 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4,&#24187;&#28783;&#29255; 4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4,&#24187;&#28783;&#29255; 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4" name="Picture 5" descr="12-lx-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885680" y="141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快乐的节日课件</a:t>
            </a: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模板打包下载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4572000" y="6237360"/>
            <a:ext cx="64944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5435640" y="6210360"/>
            <a:ext cx="720720" cy="647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6300720" y="6237360"/>
            <a:ext cx="71928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708360" y="6237360"/>
            <a:ext cx="64764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2843280" y="6237360"/>
            <a:ext cx="64764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954880" y="618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819960" y="618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582160" y="6156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 Box 18">
            <a:hlinkClick r:id="" action="ppaction://hlinkshowjump?jump=nextslide"/>
          </p:cNvPr>
          <p:cNvSpPr/>
          <p:nvPr/>
        </p:nvSpPr>
        <p:spPr>
          <a:xfrm>
            <a:off x="637308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歌曲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7308720" y="6165720"/>
            <a:ext cx="719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7347960" y="622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词语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1908000" y="6237360"/>
            <a:ext cx="71928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190908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自读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8174160" y="6121440"/>
            <a:ext cx="71892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8246520" y="622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生字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文本框 6155"/>
          <p:cNvSpPr/>
          <p:nvPr/>
        </p:nvSpPr>
        <p:spPr>
          <a:xfrm>
            <a:off x="3492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0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183320" y="2997360"/>
            <a:ext cx="2962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祖 国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85720" y="1800360"/>
            <a:ext cx="43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ŭ  guó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549480" y="68580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祖母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795744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84000" y="5105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国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592040" y="5105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园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9" name="Picture 4" descr="画框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718640" y="28512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503720" y="1773360"/>
            <a:ext cx="19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óu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465240" y="1341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自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885080" y="6093000"/>
            <a:ext cx="790560" cy="691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7957440" y="6149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779080" y="29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6652440" y="2971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自由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8554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田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652440" y="4343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水田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0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770840" y="2922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808280" y="1747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ŭ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373440" y="11509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羽毛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7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140920" y="2852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791720" y="1747800"/>
            <a:ext cx="23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320880" y="1058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丰满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99560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4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183320" y="2637000"/>
            <a:ext cx="2962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勇 敢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4080" y="1413000"/>
            <a:ext cx="46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ŏng gǎn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186300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096280" y="170028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ĭ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93960" y="1484280"/>
            <a:ext cx="152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理想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理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7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058120" y="3003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910880" y="1674720"/>
            <a:ext cx="198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ìng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393960" y="1301760"/>
            <a:ext cx="152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敬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95744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068160" y="4734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敬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335000" y="4038480"/>
            <a:ext cx="8330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近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6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00592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34000" y="1819440"/>
            <a:ext cx="14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ù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6538320" y="11509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度过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187320" y="29494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欢度节日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802944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02252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694836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810216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915880" y="4724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度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516080" y="4724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席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9" name="Picture 6" descr="14-lx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413360" y="9079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祝贺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790080" y="92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祖国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310800" y="836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勇敢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27044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丰满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718440" y="2384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理想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238080" y="2349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度过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1270440" y="4024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希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643920" y="3968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羽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022080" y="3933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Oval 17"/>
          <p:cNvSpPr/>
          <p:nvPr/>
        </p:nvSpPr>
        <p:spPr>
          <a:xfrm>
            <a:off x="7956720" y="6021360"/>
            <a:ext cx="793440" cy="692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8030520" y="60404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69F-05DC-4C38-ABDA-5E06CC68F4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Picture 4" descr="未标题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814920" y="2286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快乐的节日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4.WMA" descr=""/>
          <p:cNvPicPr/>
          <p:nvPr/>
        </p:nvPicPr>
        <p:blipFill>
          <a:blip r:embed="rId2"/>
          <a:stretch/>
        </p:blipFill>
        <p:spPr>
          <a:xfrm>
            <a:off x="7451640" y="6353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106" name="Oval 11"/>
          <p:cNvSpPr/>
          <p:nvPr/>
        </p:nvSpPr>
        <p:spPr>
          <a:xfrm>
            <a:off x="8028000" y="587700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7" name="雨中漫步.wma" descr=""/>
          <p:cNvPicPr/>
          <p:nvPr/>
        </p:nvPicPr>
        <p:blipFill>
          <a:blip r:embed="rId3"/>
          <a:stretch/>
        </p:blipFill>
        <p:spPr>
          <a:xfrm>
            <a:off x="403848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6" name="Picture 4" descr="14-lx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3191760" y="1589040"/>
            <a:ext cx="277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课文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遍：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遍读正确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遍体会快乐的心情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7885080" y="5948280"/>
            <a:ext cx="790560" cy="72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957440" y="596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9" name="Picture 8" descr="悄悄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110" name="Text Box 7"/>
          <p:cNvSpPr/>
          <p:nvPr/>
        </p:nvSpPr>
        <p:spPr>
          <a:xfrm>
            <a:off x="2881800" y="404640"/>
            <a:ext cx="28630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鸟在前面带路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儿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我们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像春天一样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到花园里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到草地上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鲜艳的红领巾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丽的衣裳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朵朵花儿开放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7885080" y="5950080"/>
            <a:ext cx="79056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Picture 8" descr="k06-0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2562480" y="260280"/>
            <a:ext cx="3198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儿向我们点头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溪快乐的流淌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向我们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祝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我们歌唱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好像在说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世界上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我们就更加美丽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我们就充满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43256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7885080" y="5877000"/>
            <a:ext cx="863640" cy="792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0" name="Picture 4" descr="12-lx-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815920" y="609480"/>
            <a:ext cx="386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谢亲爱的       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我们自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成长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像小鸟一样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身上的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长得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满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勇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向着天空飞翔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向我们的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7548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885080" y="5877000"/>
            <a:ext cx="827280" cy="765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570200" y="6094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祖国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7" name="Picture 6" descr="未标题-6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611440" y="3716280"/>
            <a:ext cx="3757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唱啊，跳哇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的老师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爱的伙伴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这快乐的时光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7885080" y="5877000"/>
            <a:ext cx="755640" cy="691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151840" y="604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189080" y="1341360"/>
            <a:ext cx="247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ī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934280" y="24210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26800" y="148428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气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风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837040" y="4816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Arial"/>
              </a:rPr>
              <a:t>吹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8172360" y="6192720"/>
            <a:ext cx="720720" cy="621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1160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409880" y="487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Arial"/>
              </a:rPr>
              <a:t>听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2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26520" y="1197000"/>
            <a:ext cx="4582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ù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祝 贺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8101080" y="6165720"/>
            <a:ext cx="647640" cy="621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102160" y="6165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068160" y="100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贺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836760" y="990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祝贺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779080" y="2219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员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620400" y="22748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少先队员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文本框 8200"/>
          <p:cNvSpPr/>
          <p:nvPr/>
        </p:nvSpPr>
        <p:spPr>
          <a:xfrm>
            <a:off x="755640" y="501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2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78992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107800" y="1628640"/>
            <a:ext cx="111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ī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012000" y="1255680"/>
            <a:ext cx="249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希望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719840" y="611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8101080" y="6237360"/>
            <a:ext cx="718920" cy="620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813996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0:41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