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EF5-C94F-48C4-9FD4-47488719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67E-684B-4095-83DD-3AC6635D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EC3-F559-4032-941C-0CF1F299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548-0AF8-4F1C-984D-BE585DC4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7BB2-84D9-4FB6-B7F8-058A60D9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43BA-365C-4681-86A2-28C1858A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41EF-21AA-4AC1-B700-D5420129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43F9-6A27-4ED7-86E8-A780537B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80C3-2C35-451A-9BE4-1E8C2457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06BB-7470-4862-A47D-635A948E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73A8-D4AF-4392-AAF2-57D78F90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5F2-7988-47EC-9BAE-8AE0612D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294D-93BD-4375-B2B0-208DC6F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F685-FDD5-4EB3-B934-BE5D2D21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B45C-3552-436C-82E0-164BAEB6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2676-4035-4351-9C4B-F925C9BE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38B3-90E7-4F2B-95C2-635BA13A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0BA-9832-49B3-B12D-23D9E726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518-335D-44BD-A00A-67BB6B41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B21-A1DD-4A1E-A4B0-470BF786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B8E-75EB-4C16-B5E7-B850FA1E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9F0-E5EB-4567-9DA5-E9130708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1AC-EDCB-4384-8972-3C4A4551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41C-D724-49C2-A4E0-8F9DD9ED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0D26-C190-4E13-A295-224646CEB33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1002-CED9-46AD-89AA-A3EEF1687F6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1856-A8D5-4768-B69E-389C2B273C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073" descr="母雞帶小雞"/>
          <p:cNvPicPr/>
          <p:nvPr/>
        </p:nvPicPr>
        <p:blipFill>
          <a:blip r:embed="rId1"/>
          <a:stretch/>
        </p:blipFill>
        <p:spPr>
          <a:xfrm>
            <a:off x="0" y="0"/>
            <a:ext cx="8915400" cy="6680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PMingLiU"/>
              </a:rPr>
              <a:t>中      秋     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541440" y="549360"/>
            <a:ext cx="84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卡通风格中秋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1265" descr="NENGA04"/>
          <p:cNvPicPr/>
          <p:nvPr/>
        </p:nvPicPr>
        <p:blipFill>
          <a:blip r:embed="rId1"/>
          <a:stretch/>
        </p:blipFill>
        <p:spPr>
          <a:xfrm>
            <a:off x="685800" y="0"/>
            <a:ext cx="253836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266" descr="CAKE2"/>
          <p:cNvPicPr/>
          <p:nvPr/>
        </p:nvPicPr>
        <p:blipFill>
          <a:blip r:embed="rId2"/>
          <a:stretch/>
        </p:blipFill>
        <p:spPr>
          <a:xfrm>
            <a:off x="3200400" y="2825640"/>
            <a:ext cx="431784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99072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看了這些活動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小朋友你還有想到什麼活動可以在中秋節的時候過的呢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097" descr="1"/>
          <p:cNvPicPr/>
          <p:nvPr/>
        </p:nvPicPr>
        <p:blipFill>
          <a:blip r:embed="rId1"/>
          <a:stretch/>
        </p:blipFill>
        <p:spPr>
          <a:xfrm>
            <a:off x="304920" y="304920"/>
            <a:ext cx="2784240" cy="40384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098" descr="pic1-8"/>
          <p:cNvPicPr/>
          <p:nvPr/>
        </p:nvPicPr>
        <p:blipFill>
          <a:blip r:embed="rId2"/>
          <a:stretch/>
        </p:blipFill>
        <p:spPr>
          <a:xfrm>
            <a:off x="2895480" y="2441520"/>
            <a:ext cx="6248520" cy="4416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80880" y="3048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標楷體"/>
              </a:rPr>
              <a:t>農曆八月十五日是我國的中秋節，而月亮既圓又亮，民間有閤家團聚的習俗。而拜月、賞月、吃月餅和吃柚子更是家喻戶曉的活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文鼎古印體"/>
                <a:ea typeface="文鼎古印體"/>
              </a:rPr>
              <a:t>中  秋  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121" descr="0405-cak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文鼎古印體"/>
                <a:ea typeface="文鼎古印體"/>
              </a:rPr>
              <a:t>中   秋   節   的   起   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標楷體"/>
              </a:rPr>
              <a:t>中秋節，因四季之中，七、八、九為秋天，而八月十五居秋季之中，故稱「中秋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145" descr="IL1_0022"/>
          <p:cNvPicPr/>
          <p:nvPr/>
        </p:nvPicPr>
        <p:blipFill>
          <a:blip r:embed="rId1"/>
          <a:stretch/>
        </p:blipFill>
        <p:spPr>
          <a:xfrm>
            <a:off x="838080" y="0"/>
            <a:ext cx="344196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146" descr="仙女"/>
          <p:cNvPicPr/>
          <p:nvPr/>
        </p:nvPicPr>
        <p:blipFill>
          <a:blip r:embed="rId2"/>
          <a:stretch/>
        </p:blipFill>
        <p:spPr>
          <a:xfrm>
            <a:off x="4876920" y="1523880"/>
            <a:ext cx="3435120" cy="3657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文鼎古印體"/>
                <a:ea typeface="文鼎古印體"/>
              </a:rPr>
              <a:t>中 秋 節 的 傳 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4114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標楷體"/>
              </a:rPr>
              <a:t>關於中秋節的傳說有很多，像是嫦娥奔月、吳剛伐桂、玉兔搗藥等。許多都是我們耳熟能詳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7169" descr="CARD_037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</a:rPr>
              <a:t>中   秋   節   的   活   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4343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我們在中秋節那天都會進行幾種活動來渡過中秋節</a:t>
            </a:r>
            <a:r>
              <a:rPr b="1" lang="en-US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小朋友你都是選擇哪一種活動來渡過中秋節呢</a:t>
            </a:r>
            <a:r>
              <a:rPr b="1" lang="en-US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198"/>
          <p:cNvSpPr/>
          <p:nvPr/>
        </p:nvSpPr>
        <p:spPr>
          <a:xfrm>
            <a:off x="2556000" y="249228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8193" descr="月餅"/>
          <p:cNvPicPr/>
          <p:nvPr/>
        </p:nvPicPr>
        <p:blipFill>
          <a:blip r:embed="rId1"/>
          <a:stretch/>
        </p:blipFill>
        <p:spPr>
          <a:xfrm>
            <a:off x="0" y="914400"/>
            <a:ext cx="8839080" cy="501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04920" y="289548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標楷體"/>
              </a:rPr>
              <a:t>月餅也叫做「團圓餅」，中秋節吃月餅，有以圓圓的月餅來象徵團圓的意思；在外地的人，總要趕回家過中秋節，吃團圓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標楷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9217" descr="OUT24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447920" y="21333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標楷體"/>
              </a:rPr>
              <a:t>中秋節的夜晚，明月當空，所以很多人喜歡到郊外走走，散步賞月，盡興而歸，故俗「踏月」或「走月亮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198"/>
          <p:cNvSpPr/>
          <p:nvPr/>
        </p:nvSpPr>
        <p:spPr>
          <a:xfrm>
            <a:off x="1619280" y="126828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0241" descr="OUT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61760" y="10666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偷瓜菜</a:t>
            </a:r>
            <a:r>
              <a:rPr b="1" lang="en-US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---</a:t>
            </a:r>
            <a:r>
              <a:rPr b="1" lang="zh-CN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這是未婚男女在中秋夜玩的遊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    </a:t>
            </a:r>
            <a:r>
              <a:rPr b="1" lang="zh-CN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在中秋節時，未婚少女到田裡去偷摘別人家的瓜果蔬菜，如果偷得蔥或青菜，表示很快可以找到好丈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諺語：「偷得蔥，嫁好尪；偷得菜，嫁好婿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F206-3F83-4C96-A9BE-F7216034E5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1T09:21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56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