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3.jpeg" ContentType="image/jpeg"/>
  <Override PartName="/ppt/media/image11.png" ContentType="image/png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image4.png" ContentType="image/png"/>
  <Override PartName="/ppt/media/image5.gif" ContentType="image/gif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CAB-C379-4EBE-8378-110BCD23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370-842D-4014-9245-66771357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B19-AB84-4725-B38E-2E11A6AB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47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379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47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379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AAE-CA32-41D2-B1F6-2E9C91F7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A534-5DCB-433E-BFC9-782F1E69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CCBF-FD30-4959-A429-3495C5CC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A252-ACF5-4EDE-8A01-66AAFE1D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811E-38FC-4666-954E-DB23BE18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B4EE-9193-4EBE-A845-B6100FC3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FB8C-3409-4E8C-AE20-E8BF47EC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545A-C8C3-413B-9127-0F39C2D4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356-97AC-422E-AA90-A4B95F1D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60A0-5486-4656-AA60-EA014A26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4398-F708-429D-A8CF-0BBDE0D8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8EDF-EB8B-4A3C-9F96-8EDD2552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1211-6469-48CF-ADE5-E7122652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47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379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192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47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379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8C76-9F21-4C6E-9FA2-C1B7838E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7E37B-5C82-4AB3-AB90-934B2059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4C00E-2940-4BF4-B506-FABD86AA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27B6-7208-4388-B9BA-DA35075F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F7686-CA05-478B-99D8-6B9FC2D2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2A210-0BD2-418A-AA62-E02C95B6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D7B-B33E-4CAE-A8E4-EDE67A2C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5EA56-7C8D-4174-B218-910F30E8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D98C-30F6-4169-9F36-E6CBAE87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01F26-AC8D-4F01-A54F-ADA2472C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5924E-FA2D-4190-B7BD-5CAF6C9D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A774-FB81-4AD7-931E-2BAC531F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4B93F-5054-48C9-A1E6-4E247771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4447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37960" y="68544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192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4447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737960" y="3710520"/>
            <a:ext cx="2183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E079F-EA02-433C-A6D9-1A57BE03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B9C-72BA-4DE7-BE7F-4ED62FA3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F7F-A3BF-47DC-9DF9-E5F3681A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5F6-CE0E-4FC9-AC32-22E1EC3F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F77-D9E8-485E-9C19-0984B02A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27360" y="371052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FF6-558A-4E19-A0A9-E7DAF20D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5184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27360" y="685440"/>
            <a:ext cx="33094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3710520"/>
            <a:ext cx="67820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2F2-31CB-42E0-9C55-F229F12F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3597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SzPct val="3237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SzPct val="28773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SzPct val="2519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SzPct val="2519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SzPct val="2519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SzPct val="2519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25A9-9E2E-4161-A0D5-3AEA7D9E5C50}" type="slidenum">
              <a:rPr b="1" lang="en-US" sz="1000" spc="-1" strike="noStrike">
                <a:solidFill>
                  <a:srgbClr val="ffffff"/>
                </a:solidFill>
                <a:latin typeface="Eurostil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07F7-5890-4EAD-8903-31DA18B7AC1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6645-33BC-4555-99AA-B1DFA5CEAA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1920" y="685440"/>
            <a:ext cx="67820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3597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SzPct val="3237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SzPct val="28773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SzPct val="2519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SzPct val="2519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SzPct val="2519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SzPct val="2519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Eurostile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2DA4-4840-4920-BEC2-CD30BFA0A81F}" type="slidenum">
              <a:rPr b="1" lang="en-US" sz="1000" spc="-1" strike="noStrike">
                <a:solidFill>
                  <a:srgbClr val="ffffff"/>
                </a:solidFill>
                <a:latin typeface="Eurostil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5.gif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image" Target="../media/image16.gif"/><Relationship Id="rId15" Type="http://schemas.openxmlformats.org/officeDocument/2006/relationships/image" Target="../media/image9.gif"/><Relationship Id="rId16" Type="http://schemas.openxmlformats.org/officeDocument/2006/relationships/image" Target="../media/image17.gif"/><Relationship Id="rId1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Bold ITC"/>
                <a:ea typeface="宋体"/>
              </a:rPr>
              <a:t>Cool Turt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图片 4098" descr="pants_down"/>
          <p:cNvPicPr/>
          <p:nvPr/>
        </p:nvPicPr>
        <p:blipFill>
          <a:blip r:embed="rId1"/>
          <a:stretch/>
        </p:blipFill>
        <p:spPr>
          <a:xfrm>
            <a:off x="419040" y="228600"/>
            <a:ext cx="4076640" cy="65530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762120" y="152280"/>
            <a:ext cx="80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卡通龟兔赛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3314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SzPct val="3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内容占位符 5123" descr="turtle_roller_skating_hg_clr"/>
          <p:cNvPicPr/>
          <p:nvPr/>
        </p:nvPicPr>
        <p:blipFill>
          <a:blip r:embed="rId1"/>
          <a:stretch/>
        </p:blipFill>
        <p:spPr>
          <a:xfrm>
            <a:off x="5410080" y="3124080"/>
            <a:ext cx="3314880" cy="3002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6145" descr="tortise_and_hare"/>
          <p:cNvPicPr/>
          <p:nvPr/>
        </p:nvPicPr>
        <p:blipFill>
          <a:blip r:embed="rId2"/>
          <a:stretch/>
        </p:blipFill>
        <p:spPr>
          <a:xfrm>
            <a:off x="1828800" y="0"/>
            <a:ext cx="5538960" cy="6629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Bold ITC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3314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SzPct val="3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内容占位符 7171" descr="turtle_swimming_hg_clr"/>
          <p:cNvPicPr/>
          <p:nvPr/>
        </p:nvPicPr>
        <p:blipFill>
          <a:blip r:embed="rId2"/>
          <a:stretch/>
        </p:blipFill>
        <p:spPr>
          <a:xfrm>
            <a:off x="5334120" y="2286000"/>
            <a:ext cx="3314520" cy="331488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198"/>
          <p:cNvSpPr/>
          <p:nvPr/>
        </p:nvSpPr>
        <p:spPr>
          <a:xfrm>
            <a:off x="736560" y="9968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0DD8-541A-4F98-A57D-EDE737F186B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Bold ITC"/>
                <a:ea typeface="宋体"/>
              </a:rPr>
              <a:t>El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图片 8195" descr="cool_turtle_sld"/>
          <p:cNvPicPr/>
          <p:nvPr/>
        </p:nvPicPr>
        <p:blipFill>
          <a:blip r:embed="rId1"/>
          <a:stretch/>
        </p:blipFill>
        <p:spPr>
          <a:xfrm>
            <a:off x="152280" y="1811160"/>
            <a:ext cx="2102040" cy="1576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8196" descr="cool_turtle_trs"/>
          <p:cNvPicPr/>
          <p:nvPr/>
        </p:nvPicPr>
        <p:blipFill>
          <a:blip r:embed="rId2"/>
          <a:stretch/>
        </p:blipFill>
        <p:spPr>
          <a:xfrm>
            <a:off x="152280" y="3470400"/>
            <a:ext cx="2102040" cy="15764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8197" descr="cool_turtle_prt"/>
          <p:cNvPicPr/>
          <p:nvPr/>
        </p:nvPicPr>
        <p:blipFill>
          <a:blip r:embed="rId3"/>
          <a:stretch/>
        </p:blipFill>
        <p:spPr>
          <a:xfrm>
            <a:off x="152280" y="5129280"/>
            <a:ext cx="2102040" cy="15764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8198" descr="cool_turtle_qx"/>
          <p:cNvPicPr/>
          <p:nvPr/>
        </p:nvPicPr>
        <p:blipFill>
          <a:blip r:embed="rId4"/>
          <a:stretch/>
        </p:blipFill>
        <p:spPr>
          <a:xfrm>
            <a:off x="152280" y="152280"/>
            <a:ext cx="2102040" cy="15764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8199" descr="pants_down"/>
          <p:cNvPicPr/>
          <p:nvPr/>
        </p:nvPicPr>
        <p:blipFill>
          <a:blip r:embed="rId5"/>
          <a:stretch/>
        </p:blipFill>
        <p:spPr>
          <a:xfrm>
            <a:off x="7485120" y="4191120"/>
            <a:ext cx="1658880" cy="26668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8200" descr="skater_turtle"/>
          <p:cNvPicPr/>
          <p:nvPr/>
        </p:nvPicPr>
        <p:blipFill>
          <a:blip r:embed="rId6"/>
          <a:stretch/>
        </p:blipFill>
        <p:spPr>
          <a:xfrm>
            <a:off x="5029200" y="4330800"/>
            <a:ext cx="2394000" cy="25272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8201" descr="standing_turtle"/>
          <p:cNvPicPr/>
          <p:nvPr/>
        </p:nvPicPr>
        <p:blipFill>
          <a:blip r:embed="rId7"/>
          <a:stretch/>
        </p:blipFill>
        <p:spPr>
          <a:xfrm>
            <a:off x="2362320" y="2438280"/>
            <a:ext cx="664920" cy="158112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202" descr="tortise_and_hare"/>
          <p:cNvPicPr/>
          <p:nvPr/>
        </p:nvPicPr>
        <p:blipFill>
          <a:blip r:embed="rId8"/>
          <a:stretch/>
        </p:blipFill>
        <p:spPr>
          <a:xfrm>
            <a:off x="2514600" y="4116240"/>
            <a:ext cx="2290680" cy="27417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8203" descr="tortoise_and_hare_challenge_hg_clr"/>
          <p:cNvPicPr/>
          <p:nvPr/>
        </p:nvPicPr>
        <p:blipFill>
          <a:blip r:embed="rId9"/>
          <a:stretch/>
        </p:blipFill>
        <p:spPr>
          <a:xfrm>
            <a:off x="3124080" y="1295280"/>
            <a:ext cx="1109880" cy="11638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8204" descr="turtle_out_of_shell_hg_clr"/>
          <p:cNvPicPr/>
          <p:nvPr/>
        </p:nvPicPr>
        <p:blipFill>
          <a:blip r:embed="rId10"/>
          <a:stretch/>
        </p:blipFill>
        <p:spPr>
          <a:xfrm>
            <a:off x="4876920" y="1295280"/>
            <a:ext cx="895320" cy="11638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8205" descr="turtle_roller_skating_hg_clr"/>
          <p:cNvPicPr/>
          <p:nvPr/>
        </p:nvPicPr>
        <p:blipFill>
          <a:blip r:embed="rId11"/>
          <a:stretch/>
        </p:blipFill>
        <p:spPr>
          <a:xfrm>
            <a:off x="5943600" y="208080"/>
            <a:ext cx="1163520" cy="10540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8206" descr="turtle_scared_hiding_hg_clr"/>
          <p:cNvPicPr/>
          <p:nvPr/>
        </p:nvPicPr>
        <p:blipFill>
          <a:blip r:embed="rId12"/>
          <a:stretch/>
        </p:blipFill>
        <p:spPr>
          <a:xfrm>
            <a:off x="6248520" y="1371600"/>
            <a:ext cx="930240" cy="116352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8207" descr="turtle_stuck_on_back_hg_clr"/>
          <p:cNvPicPr/>
          <p:nvPr/>
        </p:nvPicPr>
        <p:blipFill>
          <a:blip r:embed="rId13"/>
          <a:stretch/>
        </p:blipFill>
        <p:spPr>
          <a:xfrm>
            <a:off x="4648320" y="208080"/>
            <a:ext cx="993600" cy="116352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8208" descr="turtle_sun_tanning_hg_clr"/>
          <p:cNvPicPr/>
          <p:nvPr/>
        </p:nvPicPr>
        <p:blipFill>
          <a:blip r:embed="rId14"/>
          <a:stretch/>
        </p:blipFill>
        <p:spPr>
          <a:xfrm>
            <a:off x="3048120" y="344520"/>
            <a:ext cx="1163520" cy="8748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8209" descr="turtle_swimming_hg_clr"/>
          <p:cNvPicPr/>
          <p:nvPr/>
        </p:nvPicPr>
        <p:blipFill>
          <a:blip r:embed="rId15"/>
          <a:stretch/>
        </p:blipFill>
        <p:spPr>
          <a:xfrm>
            <a:off x="7620120" y="208080"/>
            <a:ext cx="1163520" cy="11635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8210" descr="turtle_with_child_hg_clr"/>
          <p:cNvPicPr/>
          <p:nvPr/>
        </p:nvPicPr>
        <p:blipFill>
          <a:blip r:embed="rId16"/>
          <a:stretch/>
        </p:blipFill>
        <p:spPr>
          <a:xfrm>
            <a:off x="7848720" y="1371600"/>
            <a:ext cx="1057320" cy="116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23:01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57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