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339-E5B0-4B63-B9C4-01BA12F3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5F1-8C1B-41DF-99E9-F3137961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A4E-DF3C-41C7-BE93-6AC2731C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102-F12B-496E-9E7F-906F0487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B931-9F36-451F-9187-EFC4D5CC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B641-2ABA-4BAD-B90E-3752230E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5047-DB72-495D-99BC-85A31E4C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7E07-B4BB-4136-AC9F-780F9A42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250C-3B72-45E7-BFCA-1B71C303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09E9-7265-4D74-B4DE-B0D97251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4482-AA8E-430C-997E-B1440A9B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BFF-A78D-4214-97B7-70607C0D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DC04-BC72-4422-B8DB-AF8DE4DF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A3B5-DA94-4632-8FF3-EA974BE6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30A5-E42B-4F66-90A3-7D9CB7E1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1446-7194-4B63-B2C9-CE9D5A1C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C90F-9BA5-4373-94D6-4FE00D3E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EE65D-ACF1-46C9-B2CE-760D172E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0D332-A33F-40A3-A971-469A8FEA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09674-5D06-4785-A96E-71BC569A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5B6C0-CAEB-4DCF-83B5-54DFC5B6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38C7D-87D5-4597-85AB-46FD1518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D94-6A3E-4512-81E9-0EBCE34D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B318B-FED8-4D8B-9102-62AEEA0A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563C2-7447-4A39-B0B6-CD41D4F8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A27F6-6796-4D99-A075-B39BDCD8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0C15D-EE15-4A75-BD8E-210703D9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47610-2516-492D-B669-5132CC81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D3442-9713-4611-9E31-EE57FEEF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880CD-3137-4B41-846E-6D60C053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DA1AA-2129-40AD-A0F8-C8F14E4A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F6DC9-7DD2-42C8-9CF7-B62FDF0A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ED4D3-ABD5-42E6-9D6F-52151768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234C-3C42-44C7-AC24-AB71B643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A819E-D1CD-43B2-AFBF-110C95EF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ECD4E-7849-4BE0-8356-4294BBC9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BE052-72C6-4F3C-A216-0D94DF39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B2582-F090-4422-AF60-58CDE175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697A1-0F47-4D03-8DDB-AAED81A8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F9D8B-EEFB-41EA-A45C-B7EF6F93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57A73-2360-42CE-A209-804508E8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3DB6A-8776-4D3F-8E8E-0C4AD9E9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FBF1D-6F2E-4BF9-B812-094FA47C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DDAE7D-9202-4D5E-ACAC-F9654066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E438-1200-49B8-8606-1E82A15F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8E13E-B7A7-41A3-88A4-57DC29FB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978F00-AA9D-4D8E-862E-953EB7D7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447B01-179B-4F6E-BD3E-82C0DF91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BD592-96B7-43F3-8189-E0E238B4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F4CE5-AF3F-4D4A-9D29-6985E060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9C40A-CB48-4AB3-A700-3FD57939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AA5F5A-6071-4921-A59B-21340D77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35244-01E6-4C5A-B4A3-C53D961A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3CD3D-4D4B-4C38-A3AB-C67F7B17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391564-B57D-4EA4-AA1F-5DFF9526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60C-F5B4-4557-B968-AE5BEC15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E428FA-9801-4E86-BE5C-9493C916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FF4-20FF-4AB9-A4A1-8A6AD0A2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C5B-174C-4F44-8CFD-F83982BF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172-4A65-4040-BB81-047FE99F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Calibri"/>
                <a:ea typeface="宋体"/>
              </a:rPr>
              <a:t>www.wondershar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8711-A670-415E-A86A-646F3F994E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4F53-26A1-4E5F-B8D8-E05B11A1590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7135-0921-424E-9FAF-62C8D2BC58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CF43-5C4F-4352-9298-100CF373AA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Calibri"/>
                <a:ea typeface="宋体"/>
              </a:rPr>
              <a:t>www.wondershar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225360" y="320760"/>
            <a:ext cx="228600" cy="2268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Calibri"/>
                <a:ea typeface="宋体"/>
              </a:rPr>
              <a:t>www.wondershar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B3E5-B6F2-45BA-8A81-2F5A67DF72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www.wondershar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402A-6C0A-42C1-A3DB-921E087009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Calibri"/>
                <a:ea typeface="宋体"/>
              </a:rPr>
              <a:t>www.wondershar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pt-to-video.com/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hyperlink" Target="http://www.ppt-to-video.com/powerpoint-to-youtube-overview.html" TargetMode="External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hyperlink" Target="http://www.ppt-to-video.com/powerpoint-to-video-overview.html" TargetMode="External"/><Relationship Id="rId9" Type="http://schemas.openxmlformats.org/officeDocument/2006/relationships/image" Target="../media/image16.png"/><Relationship Id="rId10" Type="http://schemas.openxmlformats.org/officeDocument/2006/relationships/hyperlink" Target="http://www.ppt-to-video.com/powerpoint-to-dvd-overview.html" TargetMode="External"/><Relationship Id="rId1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1285920"/>
            <a:ext cx="47862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d0d0d"/>
                </a:solidFill>
                <a:latin typeface="Verdana"/>
                <a:ea typeface="宋体"/>
              </a:rPr>
              <a:t>PowerPoint </a:t>
            </a:r>
            <a:r>
              <a:rPr b="0" lang="en-US" sz="3700" spc="-1" strike="noStrike">
                <a:solidFill>
                  <a:srgbClr val="0d0d0d"/>
                </a:solidFill>
                <a:latin typeface="Verdana"/>
                <a:ea typeface="宋体"/>
              </a:rPr>
              <a:t>Templat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副标题 2" descr=""/>
          <p:cNvPicPr/>
          <p:nvPr/>
        </p:nvPicPr>
        <p:blipFill>
          <a:blip r:embed="rId1"/>
          <a:stretch/>
        </p:blipFill>
        <p:spPr>
          <a:xfrm>
            <a:off x="1598760" y="2643120"/>
            <a:ext cx="3643200" cy="598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1311120" y="2714760"/>
            <a:ext cx="285840" cy="285480"/>
          </a:xfrm>
          <a:prstGeom prst="rect">
            <a:avLst/>
          </a:prstGeom>
          <a:ln w="0">
            <a:noFill/>
          </a:ln>
        </p:spPr>
      </p:pic>
      <p:sp>
        <p:nvSpPr>
          <p:cNvPr id="209" name="文本框 6155"/>
          <p:cNvSpPr/>
          <p:nvPr/>
        </p:nvSpPr>
        <p:spPr>
          <a:xfrm>
            <a:off x="108000" y="44434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文本框 3"/>
          <p:cNvSpPr/>
          <p:nvPr/>
        </p:nvSpPr>
        <p:spPr>
          <a:xfrm>
            <a:off x="1496880" y="628560"/>
            <a:ext cx="63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卡通旅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c11"/>
                </a:solidFill>
                <a:latin typeface="Verdana"/>
                <a:ea typeface="굴림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3"/>
          <p:cNvSpPr/>
          <p:nvPr/>
        </p:nvSpPr>
        <p:spPr>
          <a:xfrm>
            <a:off x="214200" y="857160"/>
            <a:ext cx="857268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6d90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Competi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6d90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Strength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6d90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Weakn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c11"/>
                </a:solidFill>
                <a:latin typeface="Verdana"/>
                <a:ea typeface="굴림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96"/>
          <p:cNvGrpSpPr/>
          <p:nvPr/>
        </p:nvGrpSpPr>
        <p:grpSpPr>
          <a:xfrm>
            <a:off x="1071720" y="857160"/>
            <a:ext cx="5929200" cy="3500640"/>
            <a:chOff x="1071720" y="857160"/>
            <a:chExt cx="5929200" cy="3500640"/>
          </a:xfrm>
        </p:grpSpPr>
        <p:sp>
          <p:nvSpPr>
            <p:cNvPr id="215" name="AutoShape 4"/>
            <p:cNvSpPr/>
            <p:nvPr/>
          </p:nvSpPr>
          <p:spPr>
            <a:xfrm>
              <a:off x="1071720" y="1315080"/>
              <a:ext cx="2660040" cy="3042720"/>
            </a:xfrm>
            <a:custGeom>
              <a:avLst/>
              <a:gdLst>
                <a:gd name="textAreaLeft" fmla="*/ 70920 w 2660040"/>
                <a:gd name="textAreaRight" fmla="*/ 2589120 w 2660040"/>
                <a:gd name="textAreaTop" fmla="*/ 70920 h 3042720"/>
                <a:gd name="textAreaBottom" fmla="*/ 2971800 h 3042720"/>
              </a:gdLst>
              <a:ahLst/>
              <a:rect l="textAreaLeft" t="textAreaTop" r="textAreaRight" b="textAreaBottom"/>
              <a:pathLst>
                <a:path w="21600" h="24707">
                  <a:moveTo>
                    <a:pt x="1967" y="0"/>
                  </a:moveTo>
                  <a:arcTo wR="1967" hR="1967" stAng="16200000" swAng="-5400000"/>
                  <a:lnTo>
                    <a:pt x="0" y="22740"/>
                  </a:lnTo>
                  <a:arcTo wR="1967" hR="1967" stAng="10800000" swAng="-5400000"/>
                  <a:lnTo>
                    <a:pt x="19633" y="2470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AutoShape 6"/>
            <p:cNvSpPr/>
            <p:nvPr/>
          </p:nvSpPr>
          <p:spPr>
            <a:xfrm>
              <a:off x="1344240" y="857160"/>
              <a:ext cx="2167200" cy="294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003b"/>
                </a:gs>
                <a:gs pos="50000">
                  <a:srgbClr val="800080"/>
                </a:gs>
                <a:gs pos="100000">
                  <a:srgbClr val="3b00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AutoShape 7"/>
            <p:cNvSpPr/>
            <p:nvPr/>
          </p:nvSpPr>
          <p:spPr>
            <a:xfrm>
              <a:off x="1453320" y="944640"/>
              <a:ext cx="98280" cy="97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AutoShape 8"/>
            <p:cNvSpPr/>
            <p:nvPr/>
          </p:nvSpPr>
          <p:spPr>
            <a:xfrm>
              <a:off x="3286080" y="944640"/>
              <a:ext cx="98280" cy="97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AutoShape 9"/>
            <p:cNvSpPr/>
            <p:nvPr/>
          </p:nvSpPr>
          <p:spPr>
            <a:xfrm>
              <a:off x="4340880" y="1315080"/>
              <a:ext cx="2660040" cy="3042720"/>
            </a:xfrm>
            <a:custGeom>
              <a:avLst/>
              <a:gdLst>
                <a:gd name="textAreaLeft" fmla="*/ 70920 w 2660040"/>
                <a:gd name="textAreaRight" fmla="*/ 2589120 w 2660040"/>
                <a:gd name="textAreaTop" fmla="*/ 70920 h 3042720"/>
                <a:gd name="textAreaBottom" fmla="*/ 2971800 h 3042720"/>
              </a:gdLst>
              <a:ahLst/>
              <a:rect l="textAreaLeft" t="textAreaTop" r="textAreaRight" b="textAreaBottom"/>
              <a:pathLst>
                <a:path w="21600" h="24707">
                  <a:moveTo>
                    <a:pt x="1967" y="0"/>
                  </a:moveTo>
                  <a:arcTo wR="1967" hR="1967" stAng="16200000" swAng="-5400000"/>
                  <a:lnTo>
                    <a:pt x="0" y="22740"/>
                  </a:lnTo>
                  <a:arcTo wR="1967" hR="1967" stAng="10800000" swAng="-5400000"/>
                  <a:lnTo>
                    <a:pt x="19633" y="2470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AutoShape 11"/>
            <p:cNvSpPr/>
            <p:nvPr/>
          </p:nvSpPr>
          <p:spPr>
            <a:xfrm>
              <a:off x="4613760" y="857160"/>
              <a:ext cx="2167200" cy="294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3c57"/>
                </a:gs>
                <a:gs pos="50000">
                  <a:srgbClr val="4f81bd"/>
                </a:gs>
                <a:gs pos="100000">
                  <a:srgbClr val="253c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AutoShape 12"/>
            <p:cNvSpPr/>
            <p:nvPr/>
          </p:nvSpPr>
          <p:spPr>
            <a:xfrm>
              <a:off x="4722840" y="944640"/>
              <a:ext cx="98280" cy="97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AutoShape 13"/>
            <p:cNvSpPr/>
            <p:nvPr/>
          </p:nvSpPr>
          <p:spPr>
            <a:xfrm>
              <a:off x="6572520" y="944640"/>
              <a:ext cx="98280" cy="97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3" name="AutoShape 4" descr=""/>
          <p:cNvPicPr/>
          <p:nvPr/>
        </p:nvPicPr>
        <p:blipFill>
          <a:blip r:embed="rId1"/>
          <a:stretch/>
        </p:blipFill>
        <p:spPr>
          <a:xfrm>
            <a:off x="1154160" y="1415880"/>
            <a:ext cx="2473200" cy="2829240"/>
          </a:xfrm>
          <a:prstGeom prst="rect">
            <a:avLst/>
          </a:prstGeom>
          <a:ln w="0">
            <a:noFill/>
          </a:ln>
        </p:spPr>
      </p:pic>
      <p:pic>
        <p:nvPicPr>
          <p:cNvPr id="224" name="AutoShape 4" descr=""/>
          <p:cNvPicPr/>
          <p:nvPr/>
        </p:nvPicPr>
        <p:blipFill>
          <a:blip r:embed="rId2"/>
          <a:stretch/>
        </p:blipFill>
        <p:spPr>
          <a:xfrm>
            <a:off x="4440240" y="1415880"/>
            <a:ext cx="2473200" cy="28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c11"/>
                </a:solidFill>
                <a:latin typeface="Verdana"/>
                <a:ea typeface="굴림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组合 47"/>
          <p:cNvGrpSpPr/>
          <p:nvPr/>
        </p:nvGrpSpPr>
        <p:grpSpPr>
          <a:xfrm>
            <a:off x="857160" y="1000080"/>
            <a:ext cx="7172280" cy="3435480"/>
            <a:chOff x="857160" y="1000080"/>
            <a:chExt cx="7172280" cy="3435480"/>
          </a:xfrm>
        </p:grpSpPr>
        <p:sp>
          <p:nvSpPr>
            <p:cNvPr id="227" name="Freeform 3"/>
            <p:cNvSpPr/>
            <p:nvPr/>
          </p:nvSpPr>
          <p:spPr>
            <a:xfrm>
              <a:off x="1062360" y="1261800"/>
              <a:ext cx="4536360" cy="317376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Text Box 32"/>
            <p:cNvSpPr/>
            <p:nvPr/>
          </p:nvSpPr>
          <p:spPr>
            <a:xfrm>
              <a:off x="5156640" y="2428920"/>
              <a:ext cx="287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a452a"/>
                  </a:solidFill>
                  <a:latin typeface="Calibri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9" name="Oval 35" descr=""/>
            <p:cNvPicPr/>
            <p:nvPr/>
          </p:nvPicPr>
          <p:blipFill>
            <a:blip r:embed="rId1"/>
            <a:stretch/>
          </p:blipFill>
          <p:spPr>
            <a:xfrm>
              <a:off x="2074680" y="2714040"/>
              <a:ext cx="190008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Oval 35" descr=""/>
            <p:cNvPicPr/>
            <p:nvPr/>
          </p:nvPicPr>
          <p:blipFill>
            <a:blip r:embed="rId2"/>
            <a:stretch/>
          </p:blipFill>
          <p:spPr>
            <a:xfrm>
              <a:off x="857160" y="2327400"/>
              <a:ext cx="1463760" cy="10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Oval 35" descr=""/>
            <p:cNvPicPr/>
            <p:nvPr/>
          </p:nvPicPr>
          <p:blipFill>
            <a:blip r:embed="rId3"/>
            <a:stretch/>
          </p:blipFill>
          <p:spPr>
            <a:xfrm>
              <a:off x="1263600" y="1280520"/>
              <a:ext cx="1166040" cy="85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Oval 35" descr=""/>
            <p:cNvPicPr/>
            <p:nvPr/>
          </p:nvPicPr>
          <p:blipFill>
            <a:blip r:embed="rId4"/>
            <a:stretch/>
          </p:blipFill>
          <p:spPr>
            <a:xfrm>
              <a:off x="2488320" y="1000080"/>
              <a:ext cx="868680" cy="62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文本框 8198"/>
          <p:cNvSpPr/>
          <p:nvPr/>
        </p:nvSpPr>
        <p:spPr>
          <a:xfrm>
            <a:off x="2340000" y="1995480"/>
            <a:ext cx="5059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itle 1"/>
          <p:cNvSpPr/>
          <p:nvPr/>
        </p:nvSpPr>
        <p:spPr>
          <a:xfrm>
            <a:off x="500040" y="54000"/>
            <a:ext cx="89154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Verdana"/>
                <a:ea typeface="宋体"/>
              </a:rPr>
              <a:t>Have fun with PowerPoint 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  <a:hlinkClick r:id="rId1"/>
              </a:rPr>
              <a:t>Acoolso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ight Arrow 31"/>
          <p:cNvSpPr/>
          <p:nvPr/>
        </p:nvSpPr>
        <p:spPr>
          <a:xfrm>
            <a:off x="1905120" y="1017720"/>
            <a:ext cx="1238040" cy="51732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Rounded Rectangle 32" descr=""/>
          <p:cNvPicPr/>
          <p:nvPr/>
        </p:nvPicPr>
        <p:blipFill>
          <a:blip r:embed="rId2"/>
          <a:stretch/>
        </p:blipFill>
        <p:spPr>
          <a:xfrm>
            <a:off x="3441600" y="905040"/>
            <a:ext cx="5535720" cy="834840"/>
          </a:xfrm>
          <a:prstGeom prst="rect">
            <a:avLst/>
          </a:prstGeom>
          <a:ln w="0">
            <a:noFill/>
          </a:ln>
        </p:spPr>
      </p:pic>
      <p:sp>
        <p:nvSpPr>
          <p:cNvPr id="237" name="Right Arrow 33"/>
          <p:cNvSpPr/>
          <p:nvPr/>
        </p:nvSpPr>
        <p:spPr>
          <a:xfrm>
            <a:off x="1928880" y="3697200"/>
            <a:ext cx="1214280" cy="571680"/>
          </a:xfrm>
          <a:prstGeom prst="rightArrow">
            <a:avLst>
              <a:gd name="adj1" fmla="val 50000"/>
              <a:gd name="adj2" fmla="val 49974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Rounded Rectangle 34" descr=""/>
          <p:cNvPicPr/>
          <p:nvPr/>
        </p:nvPicPr>
        <p:blipFill>
          <a:blip r:embed="rId3"/>
          <a:stretch/>
        </p:blipFill>
        <p:spPr>
          <a:xfrm>
            <a:off x="3502080" y="3616200"/>
            <a:ext cx="5510160" cy="889200"/>
          </a:xfrm>
          <a:prstGeom prst="rect">
            <a:avLst/>
          </a:prstGeom>
          <a:ln w="0">
            <a:noFill/>
          </a:ln>
        </p:spPr>
      </p:pic>
      <p:sp>
        <p:nvSpPr>
          <p:cNvPr id="239" name="Right Arrow 35"/>
          <p:cNvSpPr/>
          <p:nvPr/>
        </p:nvSpPr>
        <p:spPr>
          <a:xfrm>
            <a:off x="1928880" y="2357280"/>
            <a:ext cx="1214280" cy="482760"/>
          </a:xfrm>
          <a:prstGeom prst="rightArrow">
            <a:avLst>
              <a:gd name="adj1" fmla="val 50000"/>
              <a:gd name="adj2" fmla="val 49968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Rounded Rectangle 36" descr=""/>
          <p:cNvPicPr/>
          <p:nvPr/>
        </p:nvPicPr>
        <p:blipFill>
          <a:blip r:embed="rId4"/>
          <a:stretch/>
        </p:blipFill>
        <p:spPr>
          <a:xfrm>
            <a:off x="3502080" y="2244600"/>
            <a:ext cx="5448240" cy="846360"/>
          </a:xfrm>
          <a:prstGeom prst="rect">
            <a:avLst/>
          </a:prstGeom>
          <a:ln w="0">
            <a:noFill/>
          </a:ln>
        </p:spPr>
      </p:pic>
      <p:sp>
        <p:nvSpPr>
          <p:cNvPr id="241" name="Rounded Rectangle 37">
            <a:hlinkClick r:id="rId5"/>
          </p:cNvPr>
          <p:cNvSpPr/>
          <p:nvPr/>
        </p:nvSpPr>
        <p:spPr>
          <a:xfrm>
            <a:off x="6913440" y="4437000"/>
            <a:ext cx="1373400" cy="3207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Learn M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40" descr=""/>
          <p:cNvPicPr/>
          <p:nvPr/>
        </p:nvPicPr>
        <p:blipFill>
          <a:blip r:embed="rId6"/>
          <a:stretch/>
        </p:blipFill>
        <p:spPr>
          <a:xfrm>
            <a:off x="1768320" y="3300480"/>
            <a:ext cx="1621080" cy="1608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1" descr=""/>
          <p:cNvPicPr/>
          <p:nvPr/>
        </p:nvPicPr>
        <p:blipFill>
          <a:blip r:embed="rId7"/>
          <a:stretch/>
        </p:blipFill>
        <p:spPr>
          <a:xfrm>
            <a:off x="79200" y="1755720"/>
            <a:ext cx="1679760" cy="17794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8"/>
          <p:cNvSpPr/>
          <p:nvPr/>
        </p:nvSpPr>
        <p:spPr>
          <a:xfrm>
            <a:off x="3699000" y="2249640"/>
            <a:ext cx="4618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32523"/>
                </a:solidFill>
                <a:latin typeface="Calibri"/>
                <a:ea typeface="宋体"/>
              </a:rPr>
              <a:t>Convert PowerPoint to video such as AVI, MP4, WMV, MOV and so o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ounded Rectangle 43">
            <a:hlinkClick r:id="rId8"/>
          </p:cNvPr>
          <p:cNvSpPr/>
          <p:nvPr/>
        </p:nvSpPr>
        <p:spPr>
          <a:xfrm>
            <a:off x="6858000" y="3086280"/>
            <a:ext cx="1301760" cy="3222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  <a:ea typeface="宋体"/>
              </a:rPr>
              <a:t>Learn</a:t>
            </a:r>
            <a:r>
              <a:rPr b="1" lang="en-US" sz="1400" spc="-1" strike="noStrike">
                <a:solidFill>
                  <a:srgbClr val="0d0d0d"/>
                </a:solidFill>
                <a:latin typeface="Calibri"/>
                <a:ea typeface="宋体"/>
              </a:rPr>
              <a:t>  Mo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44" descr=""/>
          <p:cNvPicPr/>
          <p:nvPr/>
        </p:nvPicPr>
        <p:blipFill>
          <a:blip r:embed="rId9"/>
          <a:stretch/>
        </p:blipFill>
        <p:spPr>
          <a:xfrm>
            <a:off x="76320" y="318960"/>
            <a:ext cx="1622160" cy="17146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2"/>
          <p:cNvSpPr/>
          <p:nvPr/>
        </p:nvSpPr>
        <p:spPr>
          <a:xfrm>
            <a:off x="3556080" y="963720"/>
            <a:ext cx="52149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32523"/>
                </a:solidFill>
                <a:latin typeface="Calibri"/>
                <a:ea typeface="宋体"/>
              </a:rPr>
              <a:t>Burn PowerPoint to DVD, and watch your PowerPoint on TV with a DVD play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ounded Rectangle 46">
            <a:hlinkClick r:id="rId10"/>
          </p:cNvPr>
          <p:cNvSpPr/>
          <p:nvPr/>
        </p:nvSpPr>
        <p:spPr>
          <a:xfrm>
            <a:off x="6786720" y="1735200"/>
            <a:ext cx="1301760" cy="322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Learn</a:t>
            </a: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Mo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13"/>
          <p:cNvSpPr/>
          <p:nvPr/>
        </p:nvSpPr>
        <p:spPr>
          <a:xfrm>
            <a:off x="3817800" y="3675240"/>
            <a:ext cx="4738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32523"/>
                </a:solidFill>
                <a:latin typeface="Calibri"/>
                <a:ea typeface="宋体"/>
              </a:rPr>
              <a:t>A professional tool which helps you upload PowerPoint to YouTub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E5FE-8BC2-4D00-92AA-957233E3BA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标题 1" descr=""/>
          <p:cNvPicPr/>
          <p:nvPr/>
        </p:nvPicPr>
        <p:blipFill>
          <a:blip r:embed="rId1"/>
          <a:stretch/>
        </p:blipFill>
        <p:spPr>
          <a:xfrm>
            <a:off x="1133640" y="1428840"/>
            <a:ext cx="5736960" cy="11016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571760" y="2571480"/>
            <a:ext cx="36432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6b41"/>
                </a:solidFill>
                <a:latin typeface="Verdana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1311120" y="263376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7:22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52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