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gif" ContentType="image/gif"/>
  <Override PartName="/ppt/media/image17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8.gif" ContentType="image/gif"/>
  <Override PartName="/ppt/media/image20.png" ContentType="image/png"/>
  <Override PartName="/ppt/media/image19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8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74A-B76A-487F-97E1-3657D17C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0EB-D79E-4858-AE8B-B91E068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514-2558-4BDA-8C1A-D2EFF6B6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51F-8F1C-43CE-8D0B-36D2405C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7608-E9F5-4073-A9BD-CE0AEE49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5FDB-A60F-4624-9876-737CF27D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322C-0C63-4FAE-B17A-F7ECE8BC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A85-09BE-42AA-A08F-7C25A43B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4B9C-5021-4BDA-80EA-3D6C3F9C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D2A4-20A0-4BD5-9F62-6A599FF1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5A4F-4ED4-4854-B2EC-7D36E94F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061-2441-42D1-8661-453FA589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C3C8-AA6C-4839-B52C-A810673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DC8C-4934-4925-9863-B4A115E7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CE04-4673-4A4B-B136-E84C875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FB2F-3E76-4666-A8DC-E0460E6D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5A09-B849-49B8-90A6-0D1E8AE4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2F05-E414-4C1F-A397-325A7FF3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FB38-FCFE-4315-9CD1-595BDC9F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8273-D988-4845-A5FB-20363C48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2A85-E7F4-437D-A008-A5528D80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C57E-8B0F-4626-834E-5EB3DDE9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E68-23E8-456F-AFD2-70418058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B9C1-7BC6-4EC1-A61B-101DB187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D7B9-1E7C-4252-8226-FE3D97A4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07F1B-96DF-479A-8134-F9CF5286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0CC44-3284-49D4-B3F5-6E18C65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60DA-05DA-4A17-BE4F-531BCE6A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AE5E1-0D4B-4073-99FA-0EC817F0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AE91-AD1A-4504-BF11-2284C5C3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E8E-2D9A-40AE-80BF-A4112902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CAE-5DB6-4A99-85E1-A33A4D96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C20-683D-4340-B0B7-85DD5E34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893-8064-40CF-8BAD-22EC0CE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533-407F-4C8C-829D-88B33DAC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9FE-C397-4CB5-B658-72C35DD1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500" spc="-1" strike="noStrike">
                <a:solidFill>
                  <a:srgbClr val="f0ac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0a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60b5cc"/>
              </a:buClr>
              <a:buSzPct val="9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768240">
              <a:buClr>
                <a:srgbClr val="e66c7d"/>
              </a:buClr>
              <a:buSzPct val="90000"/>
              <a:buFont typeface="Arial"/>
              <a:buChar char="▪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33560" indent="-1033560">
              <a:buClr>
                <a:srgbClr val="6bb76d"/>
              </a:buClr>
              <a:buSzPct val="90000"/>
              <a:buFont typeface="Arial"/>
              <a:buChar char="▪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44520" indent="-1244520">
              <a:buClr>
                <a:srgbClr val="e88651"/>
              </a:buClr>
              <a:buSzPct val="90000"/>
              <a:buFont typeface="Wingdings 3" charset="2"/>
              <a:buChar char="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44520" indent="-1244520">
              <a:buClr>
                <a:srgbClr val="000000"/>
              </a:buClr>
              <a:buSzPct val="90000"/>
              <a:buFont typeface="Wingdings 3" charset="2"/>
              <a:buChar char="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44520" indent="-1244520">
              <a:buClr>
                <a:srgbClr val="000000"/>
              </a:buClr>
              <a:buSzPct val="90000"/>
              <a:buFont typeface="Wingdings 3" charset="2"/>
              <a:buChar char="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2424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25DA-183D-40BD-B127-CED67BA9B38B}" type="slidenum">
              <a:rPr b="0" lang="zh-CN" sz="1200" spc="-1" strike="noStrike">
                <a:solidFill>
                  <a:srgbClr val="424242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762-8676-40CF-9497-8CFDC34484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4639-8EE0-47D9-97DD-9BF0BF2960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F788-9C88-4F93-9DD8-FB40F2CACA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gif"/><Relationship Id="rId13" Type="http://schemas.openxmlformats.org/officeDocument/2006/relationships/hyperlink" Target="http://www.eeppt.com" TargetMode="External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zh-CN" sz="4500" spc="-1" strike="noStrike">
              <a:solidFill>
                <a:srgbClr val="f0a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271080" y="-998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985680" y="-828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 rot="20868600">
            <a:off x="1635840" y="-11361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 rot="660000">
            <a:off x="2271240" y="-8967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 rot="20756400">
            <a:off x="2859120" y="-10551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 rot="416400">
            <a:off x="3412080" y="-8744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 rot="20886600">
            <a:off x="4276800" y="-9025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 rot="20638200">
            <a:off x="4913280" y="-1141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5557680" y="-828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 rot="655200">
            <a:off x="6272640" y="-896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 rot="21018600">
            <a:off x="3056400" y="792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3700080" y="7858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6"/>
          <p:cNvSpPr/>
          <p:nvPr/>
        </p:nvSpPr>
        <p:spPr>
          <a:xfrm rot="1064400">
            <a:off x="4308480" y="7818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7"/>
          <p:cNvSpPr/>
          <p:nvPr/>
        </p:nvSpPr>
        <p:spPr>
          <a:xfrm rot="20035800">
            <a:off x="4911840" y="7778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8"/>
          <p:cNvSpPr/>
          <p:nvPr/>
        </p:nvSpPr>
        <p:spPr>
          <a:xfrm rot="660000">
            <a:off x="5576040" y="7877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  <a:ea typeface="Corbel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 rot="387000">
            <a:off x="6388200" y="7758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0"/>
          <p:cNvSpPr/>
          <p:nvPr/>
        </p:nvSpPr>
        <p:spPr>
          <a:xfrm rot="660000">
            <a:off x="6986520" y="7997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1"/>
          <p:cNvSpPr/>
          <p:nvPr/>
        </p:nvSpPr>
        <p:spPr>
          <a:xfrm rot="21207000">
            <a:off x="7601760" y="7829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2"/>
          <p:cNvSpPr/>
          <p:nvPr/>
        </p:nvSpPr>
        <p:spPr>
          <a:xfrm rot="20773200">
            <a:off x="8215920" y="8013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rbel"/>
                <a:ea typeface="华文楷体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366440" y="24289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rbel"/>
                <a:ea typeface="华文楷体"/>
              </a:rPr>
              <a:t>这是一段美好的回忆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  <a:ea typeface="Corbe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25"/>
          <p:cNvSpPr/>
          <p:nvPr/>
        </p:nvSpPr>
        <p:spPr>
          <a:xfrm>
            <a:off x="-1712880" y="-3570120"/>
            <a:ext cx="358920" cy="215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af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23"/>
          <p:cNvSpPr/>
          <p:nvPr/>
        </p:nvSpPr>
        <p:spPr>
          <a:xfrm>
            <a:off x="-1498680" y="9572760"/>
            <a:ext cx="214560" cy="285480"/>
          </a:xfrm>
          <a:custGeom>
            <a:avLst/>
            <a:gdLst>
              <a:gd name="textAreaLeft" fmla="*/ 10440 w 214560"/>
              <a:gd name="textAreaRight" fmla="*/ 204120 w 214560"/>
              <a:gd name="textAreaTop" fmla="*/ 10440 h 285480"/>
              <a:gd name="textAreaBottom" fmla="*/ 275040 h 285480"/>
            </a:gdLst>
            <a:ahLst/>
            <a:rect l="textAreaLeft" t="textAreaTop" r="textAreaRight" b="textAreaBottom"/>
            <a:pathLst>
              <a:path w="21600" h="28728">
                <a:moveTo>
                  <a:pt x="3600" y="0"/>
                </a:moveTo>
                <a:arcTo wR="3600" hR="3600" stAng="16200000" swAng="-5400000"/>
                <a:lnTo>
                  <a:pt x="0" y="25128"/>
                </a:lnTo>
                <a:arcTo wR="3600" hR="3600" stAng="10800000" swAng="-5400000"/>
                <a:lnTo>
                  <a:pt x="18000" y="287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47880">
            <a:solidFill>
              <a:srgbClr val="af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"/>
          <p:cNvSpPr/>
          <p:nvPr/>
        </p:nvSpPr>
        <p:spPr>
          <a:xfrm>
            <a:off x="998640" y="276120"/>
            <a:ext cx="783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童年回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22222E-006 -3.88529E-007 L 0.00052 0.18964 E">
                                      <p:cBhvr>
                                        <p:cTn id="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5.55556E-007 3.95005E-006 L -5.55556E-007 0.23843 E">
                                      <p:cBhvr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5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42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-4.0518E-006 L 0.00174 0.22826 E">
                                      <p:cBhvr>
                                        <p:cTn id="1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mph" presetID="26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4.44033E-007 L 0.00347 0.2278 E">
                                      <p:cBhvr>
                                        <p:cTn id="2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9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7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61111E-006 7.77058E-007 L -3.61111E-006 0.21369 E">
                                      <p:cBhvr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38889E-006 -3.45976E-006 L 0.00121 0.23451 E">
                                      <p:cBhvr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.55556E-007 -2.46994E-006 L -0.00295 0.2204 E">
                                      <p:cBhvr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.55556E-007 3.42276E-007 L -0.00538 0.20351 E">
                                      <p:cBhvr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61111E-006 7.77058E-007 L -0.00382 0.20328 E">
                                      <p:cBhvr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38889E-006 -3.45976E-006 L -0.00313 0.15056 E">
                                      <p:cBhvr>
                                        <p:cTn id="46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3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7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4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61" dur="400" fill="hold"/>
                                        <p:tgtEl>
                                          <p:spTgt spid="144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7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4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99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>
                                          <p:stCondLst>
                                            <p:cond delay="39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9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8" fill="hold">
                                          <p:stCondLst>
                                            <p:cond delay="19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50" fill="hold">
                                          <p:stCondLst>
                                            <p:cond delay="203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8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50" fill="hold">
                                          <p:stCondLst>
                                            <p:cond delay="401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8" fill="hold">
                                          <p:stCondLst>
                                            <p:cond delay="493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8" fill="hold">
                                          <p:stCondLst>
                                            <p:cond delay="5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50" fill="hold">
                                          <p:stCondLst>
                                            <p:cond delay="5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6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90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0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7">
                                  <p:stCondLst>
                                    <p:cond delay="180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椭圆形标注 12"/>
          <p:cNvSpPr/>
          <p:nvPr/>
        </p:nvSpPr>
        <p:spPr>
          <a:xfrm rot="646800">
            <a:off x="7324200" y="128520"/>
            <a:ext cx="1498680" cy="1314360"/>
          </a:xfrm>
          <a:prstGeom prst="wedgeEllipseCallout">
            <a:avLst>
              <a:gd name="adj1" fmla="val -33208"/>
              <a:gd name="adj2" fmla="val 59120"/>
            </a:avLst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00960" y="285840"/>
            <a:ext cx="1285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今天星期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3"/>
          <p:cNvSpPr/>
          <p:nvPr/>
        </p:nvSpPr>
        <p:spPr>
          <a:xfrm rot="869400">
            <a:off x="7095960" y="1514160"/>
            <a:ext cx="138240" cy="206280"/>
          </a:xfrm>
          <a:prstGeom prst="ellipse">
            <a:avLst/>
          </a:prstGeom>
          <a:noFill/>
          <a:ln w="25560">
            <a:solidFill>
              <a:srgbClr val="395e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4"/>
          <p:cNvSpPr/>
          <p:nvPr/>
        </p:nvSpPr>
        <p:spPr>
          <a:xfrm rot="869400">
            <a:off x="6730920" y="1719000"/>
            <a:ext cx="54000" cy="133200"/>
          </a:xfrm>
          <a:prstGeom prst="ellipse">
            <a:avLst/>
          </a:prstGeom>
          <a:noFill/>
          <a:ln w="25560">
            <a:solidFill>
              <a:srgbClr val="395e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 rot="21094200">
            <a:off x="4537440" y="-2219400"/>
            <a:ext cx="10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Georgia"/>
                <a:ea typeface="方正舒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943800" y="-1427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形标注 17"/>
          <p:cNvSpPr/>
          <p:nvPr/>
        </p:nvSpPr>
        <p:spPr>
          <a:xfrm rot="16984800">
            <a:off x="121680" y="257400"/>
            <a:ext cx="1420920" cy="1666800"/>
          </a:xfrm>
          <a:prstGeom prst="wedgeEllipseCallout">
            <a:avLst>
              <a:gd name="adj1" fmla="val -6912"/>
              <a:gd name="adj2" fmla="val 61050"/>
            </a:avLst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标题 3"/>
          <p:cNvSpPr/>
          <p:nvPr/>
        </p:nvSpPr>
        <p:spPr>
          <a:xfrm>
            <a:off x="285840" y="642960"/>
            <a:ext cx="1143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7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            </a:t>
            </a:r>
            <a:r>
              <a:rPr b="1" i="1" lang="zh-CN" sz="17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，今天星期二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9"/>
          <p:cNvSpPr/>
          <p:nvPr/>
        </p:nvSpPr>
        <p:spPr>
          <a:xfrm flipH="1" rot="17803200">
            <a:off x="2648880" y="1350720"/>
            <a:ext cx="58680" cy="268200"/>
          </a:xfrm>
          <a:prstGeom prst="ellipse">
            <a:avLst/>
          </a:prstGeom>
          <a:noFill/>
          <a:ln w="25560">
            <a:solidFill>
              <a:srgbClr val="395e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0"/>
          <p:cNvSpPr/>
          <p:nvPr/>
        </p:nvSpPr>
        <p:spPr>
          <a:xfrm rot="17802600">
            <a:off x="2151000" y="1338480"/>
            <a:ext cx="114480" cy="250560"/>
          </a:xfrm>
          <a:prstGeom prst="ellipse">
            <a:avLst/>
          </a:prstGeom>
          <a:noFill/>
          <a:ln w="25560">
            <a:solidFill>
              <a:srgbClr val="395e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2143080" y="2857680"/>
            <a:ext cx="4022640" cy="2928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1500120" y="2286000"/>
            <a:ext cx="6500880" cy="4683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1500120" y="2286000"/>
            <a:ext cx="6500880" cy="4714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5"/>
          <p:cNvSpPr/>
          <p:nvPr/>
        </p:nvSpPr>
        <p:spPr>
          <a:xfrm>
            <a:off x="3443760" y="-1355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2943720" y="-1498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标题 3"/>
          <p:cNvSpPr/>
          <p:nvPr/>
        </p:nvSpPr>
        <p:spPr>
          <a:xfrm>
            <a:off x="714240" y="-998640"/>
            <a:ext cx="428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3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标题 3"/>
          <p:cNvSpPr/>
          <p:nvPr/>
        </p:nvSpPr>
        <p:spPr>
          <a:xfrm>
            <a:off x="1071720" y="-998640"/>
            <a:ext cx="5000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"/>
                            </p:stCondLst>
                            <p:childTnLst>
                              <p:par>
                                <p:cTn id="11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7" dur="9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"/>
                            </p:stCondLst>
                            <p:childTnLst>
                              <p:par>
                                <p:cTn id="12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100"/>
                            </p:stCondLst>
                            <p:childTnLst>
                              <p:par>
                                <p:cTn id="12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100"/>
                            </p:stCondLst>
                            <p:childTnLst>
                              <p:par>
                                <p:cTn id="12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300" fill="hold"/>
                                        <p:tgtEl>
                                          <p:spTgt spid="16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4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3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600"/>
                            </p:stCondLst>
                            <p:childTnLst>
                              <p:par>
                                <p:cTn id="13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" fill="hold"/>
                                        <p:tgtEl>
                                          <p:spTgt spid="167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38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mph" presetID="4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40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100"/>
                            </p:stCondLst>
                            <p:childTnLst>
                              <p:par>
                                <p:cTn id="14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600"/>
                            </p:stCondLst>
                            <p:childTnLst>
                              <p:par>
                                <p:cTn id="1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100"/>
                            </p:stCondLst>
                            <p:childTnLst>
                              <p:par>
                                <p:cTn id="14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200"/>
                            </p:stCondLst>
                            <p:childTnLst>
                              <p:par>
                                <p:cTn id="1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200"/>
                            </p:stCondLst>
                            <p:childTnLst>
                              <p:par>
                                <p:cTn id="16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800"/>
                            </p:stCondLst>
                            <p:childTnLst>
                              <p:par>
                                <p:cTn id="1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400"/>
                            </p:stCondLst>
                            <p:childTnLst>
                              <p:par>
                                <p:cTn id="17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1314E-006 L -0.05434 0.20999 E">
                                      <p:cBhvr>
                                        <p:cTn id="17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mph" presetID="4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 to="6">
                                      <p:cBhvr additive="repl">
                                        <p:cTn id="178" dur="2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80" dur="6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77778E-006 2.24792E-006 L -0.05504 0.20999 E">
                                      <p:cBhvr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mph" presetID="4" presetSubtype="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 to="6">
                                      <p:cBhvr additive="repl">
                                        <p:cTn id="18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900"/>
                            </p:stCondLst>
                            <p:childTnLst>
                              <p:par>
                                <p:cTn id="18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6"/>
          <p:cNvSpPr/>
          <p:nvPr/>
        </p:nvSpPr>
        <p:spPr>
          <a:xfrm>
            <a:off x="5143680" y="1000080"/>
            <a:ext cx="42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又有那么多的小伙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7215120" y="7429680"/>
            <a:ext cx="60721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10001160" y="3786120"/>
            <a:ext cx="9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6572160" y="1000080"/>
            <a:ext cx="428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是否记得这样的场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6215040" y="100008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美好的童年 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5643720" y="1000080"/>
            <a:ext cx="50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有那么多好玩的游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 rot="20506200">
            <a:off x="9142920" y="642960"/>
            <a:ext cx="9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0"/>
          <p:cNvSpPr/>
          <p:nvPr/>
        </p:nvSpPr>
        <p:spPr>
          <a:xfrm rot="553800">
            <a:off x="289440" y="4140360"/>
            <a:ext cx="9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200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205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7">
                                  <p:stCondLst>
                                    <p:cond delay="34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210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7">
                                  <p:stCondLst>
                                    <p:cond delay="5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21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1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53562E-006 C -0.01198 -0.0081 -0.02274 -0.0155 -0.0349 -0.02151 C -0.11458 -0.01966 -0.09427 -0.03169 -0.12795 -0.0155 C -0.13819 1.53561999999968E-006 -0.14757 -0.000229999999999999 -0.16024 0.00809 C -0.16562 0.01156 -0.16927 0.01734 -0.1743 0.02174 C -0.17917 0.02567 -0.18576 0.02544 -0.19115 0.02729 C -0.19757 0.03238 -0.20226 0.03885 -0.20799 0.0451 C -0.21233 0.04972 -0.21302 0.04764 -0.21701 0.05273 C -0.22344 0.06128 -0.22934 0.07424 -0.23767 0.07817 C -0.24201 0.08695 -0.25538 0.1043 -0.26215 0.10754 C -0.26389 0.10939 -0.26545 0.1117 -0.26736 0.11332 C -0.26858 0.11448 -0.27014 0.11401 -0.27118 0.1154 C -0.2724 0.11679 -0.27274 0.11956 -0.27378 0.12118 C -0.27483 0.1228 -0.27656 0.12373 -0.27778 0.12511 C -0.28403 0.13853 -0.29479 0.14315 -0.30347 0.1524 C -0.31163 0.16119 -0.30312 0.1561 -0.31128 0.16027 C -0.31753 0.16744 -0.32309 0.17622 -0.32934 0.18386 C -0.33403 0.18964 -0.34792 0.19727 -0.35382 0.19935 C -0.35937 0.20768 -0.36667 0.21138 -0.37326 0.21693 C -0.37778 0.22109 -0.3875 0.23404 -0.39253 0.23658 C -0.39896 0.23982 -0.40555 0.24075 -0.41198 0.24445 C -0.41285 0.24399 -0.42708 0.2419 -0.43003 0.24029 C -0.43368 0.23844 -0.4349 0.2345 -0.43802 0.23057 C -0.44514 0.22155 -0.4533 0.20768 -0.46233 0.20328 C -0.4684 0.1938 -0.47569 0.18894 -0.4842 0.18571 C -0.50417 0.17021 -0.52569 0.18154 -0.54514 0.18964 C -0.54965 0.19426 -0.55486 0.19658 -0.56042 0.19935 C -0.56476 0.19588 -0.56858 0.19172 -0.57326 0.18964 C -0.57604 0.18362 -0.58003 0.17877 -0.58229 0.17206 C -0.58715 0.15772 -0.58941 0.13876 -0.59132 0.12326 C -0.59236 0.10291 -0.59392 0.08834 -0.59913 0.07054 C -0.59965 0.06868 -0.59948 0.06591 -0.60035 0.06452 C -0.60191 0.06221 -0.60712 0.05967 -0.60937 0.05874 C -0.61233 0.0555 -0.61545 0.05226 -0.6184 0.04903 C -0.61962 0.04764 -0.6224 0.0451 -0.6224 0.04533 C -0.63854 0.04556 -0.65503 0.04556 -0.67135 0.04695 C -0.67847 0.04741 -0.68802 0.06868 -0.69601 0.07239 C -0.70781 0.08603 -0.71719 0.1043 -0.72951 0.11725 C -0.73455 0.12881 -0.7401 0.14038 -0.74774 0.14847 C -0.75312 0.16165 -0.74635 0.14662 -0.75538 0.16027 C -0.75972 0.16697 -0.75608 0.16605 -0.7618 0.17206 C -0.7651 0.1753 -0.77118 0.17646 -0.77483 0.17784 C -0.78299 0.17738 -0.79132 0.17807 -0.79913 0.17599 C -0.80451 0.17461 -0.80677 0.16258 -0.81094 0.15842 C -0.8125 0.14893 -0.81406 0.14385 -0.81875 0.13691 C -0.82274 0.11794 -0.82066 0.12835 -0.825 0.10152 C -0.82552 0.09875 -0.82639 0.09366 -0.82639 0.09412 C -0.82621 0.08626 -0.825 0.05412 -0.82378 0.04301 C -0.8224 0.03029 -0.81667 0.02151 -0.81354 0.00994 C -0.81024 -0.00116 -0.80781 -0.0118 -0.80312 -0.02151 C -0.79913 -0.03978 -0.7934 -0.07077 -0.78628 -0.0858 C -0.7849 -0.09436 -0.78108 -0.11124 -0.78108 -0.11101 C -0.78003 -0.12512 -0.77812 -0.13691 -0.77604 -0.15033 C -0.77674 -0.16744 -0.77101 -0.21994 -0.78507 -0.24006 C -0.78663 -0.24792 -0.7875 -0.25162 -0.79149 -0.25786 C -0.8158 -0.25648 -0.82778 -0.25555 -0.84826 -0.24815 C -0.85087 -0.24538 -0.85347 -0.24283 -0.85608 -0.24006 C -0.86233 -0.23358 -0.86285 -0.21832 -0.86771 -0.21092 C -0.8691 -0.20884 -0.87118 -0.20837 -0.87292 -0.20722 C -0.88576 -0.18039 -0.8691 -0.21277 -0.88073 -0.19542 C -0.88854 -0.18363 -0.88576 -0.18432 -0.89219 -0.17183 C -0.89462 -0.16698 -0.90174 -0.15888 -0.90382 -0.15611 C -0.90625 -0.14524 -0.9033 -0.15403 -0.91163 -0.14454 C -0.91979 -0.13483 -0.92674 -0.12211 -0.93611 -0.11517 C -0.93785 -0.11263 -0.93924 -0.10939 -0.94115 -0.10754 C -0.94531 -0.10338 -0.95087 -0.10268 -0.95417 -0.0976 C -0.9559 -0.09482 -0.95712 -0.09158 -0.95937 -0.08973 C -0.96128 -0.08811 -0.96371 -0.08835 -0.9658 -0.08788 C -0.97448 -0.0747 -0.98611 -0.06522 -0.99549 -0.05273 C -1.00608 -0.03885 -1.01371 -0.01966 -1.02639 -0.00971 C -1.02691 -0.00995 -1.03871 -0.01318 -1.03941 -0.01365 C -1.04462 -0.01897 -1.04861 -0.02752 -1.05226 -0.03515 C -1.05417 -0.04371 -1.05937 -0.04996 -1.06128 -0.05851 C -1.06354 -0.06823 -1.06493 -0.07701 -1.0691 -0.0858 C -1.07396 -0.10823 -1.08142 -0.12859 -1.08837 -0.15033 C -1.09358 -0.16675 -1.09566 -0.18201 -1.09878 -0.19912 C -1.10069 -0.22109 -1.10121 -0.22109 -1.09878 -0.25185 C -1.09861 -0.2537 -1.09219 -0.26966 -1.09219 -0.2692 C -1.09028 -0.27359 -1.08594 -0.28122 -1.08594 -0.28099 E">
                                      <p:cBhvr>
                                        <p:cTn id="224" dur="4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mph" presetID="8">
                                  <p:stCondLst>
                                    <p:cond delay="1900"/>
                                  </p:stCondLst>
                                  <p:childTnLst>
                                    <p:animRot by="43200000">
                                      <p:cBhvr>
                                        <p:cTn id="226" dur="17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-0.0033 -0.00278 -0.01094 -0.01157 -0.01528 -0.01342 C -0.01649 -0.01388 -0.0217 -0.01596 -0.02292 -0.01688 C -0.02413 -0.01781 -0.02517 -0.01966 -0.02656 -0.02012 C -0.03542 -0.02313 -0.04739 -0.0259 -0.05694 -0.02868 C -0.06667 -0.02799 -0.07743 -0.03099 -0.08611 -0.02521 C -0.10312 -0.01411 -0.08715 -0.02128 -0.09757 -0.01688 C -0.10364 -0.01133 -0.1158 0.00115 -0.12031 0.00856 C -0.12483 0.01596 -0.12691 0.02405 -0.13177 0.03053 C -0.13576 0.04648 -0.12899 0.02174 -0.1368 0.04047 C -0.13767 0.04255 -0.1375 0.0451 -0.13802 0.04741 C -0.13837 0.04903 -0.13854 0.05088 -0.13924 0.05226 C -0.14496 0.06568 -0.15069 0.07979 -0.15451 0.09459 C -0.15642 0.10222 -0.15712 0.10638 -0.16076 0.11309 C -0.1625 0.11633 -0.1658 0.12326 -0.1658 0.12326 C -0.16788 0.13321 -0.17049 0.14408 -0.17344 0.15356 C -0.17483 0.15818 -0.17726 0.16235 -0.17847 0.16697 C -0.18021 0.17299 -0.1809 0.17831 -0.18351 0.18386 C -0.18403 0.18617 -0.1842 0.18848 -0.18489 0.19056 C -0.18542 0.19241 -0.1868 0.1938 -0.18733 0.19565 C -0.18819 0.19889 -0.18854 0.20559 -0.18993 0.20906 C -0.19566 0.22294 -0.20069 0.23658 -0.20764 0.24954 C -0.20972 0.25856 -0.20816 0.25324 -0.21389 0.2648 C -0.21858 0.27405 -0.21944 0.28584 -0.22413 0.2951 C -0.22708 0.30758 -0.22465 0.30273 -0.23038 0.31036 C -0.23368 0.32215 -0.23889 0.33279 -0.24305 0.34412 C -0.24358 0.34574 -0.24375 0.34759 -0.24427 0.34921 C -0.24514 0.35199 -0.24583 0.35476 -0.24687 0.35754 C -0.25017 0.36609 -0.24878 0.35939 -0.25312 0.36771 C -0.25729 0.37558 -0.26163 0.38344 -0.2658 0.3913 C -0.26684 0.39338 -0.26771 0.3957 -0.2684 0.39801 C -0.26892 0.39963 -0.26892 0.40171 -0.26962 0.4031 C -0.27413 0.41235 -0.28125 0.4209 -0.28733 0.42831 C -0.29514 0.43756 -0.30139 0.44958 -0.31024 0.45698 C -0.31319 0.46323 -0.31614 0.46646 -0.32153 0.46878 C -0.3283 0.46808 -0.33698 0.47201 -0.34184 0.46554 C -0.34774 0.45768 -0.34809 0.45166 -0.35451 0.44519 C -0.35833 0.43732 -0.36163 0.43247 -0.36719 0.42669 C -0.37274 0.41559 -0.37934 0.40541 -0.38489 0.39454 C -0.38698 0.38575 -0.38871 0.37696 -0.39253 0.36933 C -0.39427 0.35453 -0.40104 0.34412 -0.40764 0.33233 C -0.40989 0.32262 -0.41562 0.31175 -0.42031 0.30365 C -0.42344 0.29024 -0.43559 0.27243 -0.44566 0.26827 C -0.45243 0.25925 -0.45955 0.25393 -0.4684 0.24954 C -0.4776 0.25231 -0.48351 0.2611 -0.49253 0.2648 C -0.49878 0.27081 -0.50555 0.27659 -0.51267 0.28006 C -0.52135 0.28885 -0.52448 0.30065 -0.53038 0.31198 C -0.53142 0.31383 -0.53299 0.31498 -0.5342 0.31707 C -0.53559 0.31915 -0.5368 0.32146 -0.53802 0.32377 C -0.54167 0.33094 -0.54358 0.33811 -0.54809 0.34412 C -0.55174 0.36193 -0.54635 0.34019 -0.55312 0.35592 C -0.5559 0.36239 -0.55694 0.37095 -0.55955 0.37789 C -0.56771 0.39893 -0.57812 0.41813 -0.58871 0.43686 C -0.59253 0.45328 -0.58628 0.43039 -0.59375 0.44519 C -0.59479 0.44704 -0.59427 0.44981 -0.59496 0.45189 C -0.59618 0.45583 -0.59913 0.45906 -0.60139 0.46207 C -0.60451 0.47086 -0.60764 0.4697 -0.61267 0.47733 C -0.61944 0.48797 -0.63646 0.49977 -0.64687 0.50416 C -0.65312 0.50347 -0.66042 0.50555 -0.6658 0.50092 C -0.66701 0.49977 -0.66736 0.49722 -0.6684 0.49584 C -0.67239 0.49052 -0.67708 0.48589 -0.68108 0.48057 C -0.68281 0.47826 -0.68437 0.47618 -0.68611 0.47386 C -0.68785 0.47155 -0.69114 0.46716 -0.69114 0.46716 C -0.69375 0.45744 -0.69062 0.46623 -0.69757 0.45698 C -0.69913 0.4549 -0.70017 0.45259 -0.70139 0.45028 C -0.70226 0.44866 -0.70278 0.44658 -0.70382 0.44519 C -0.70746 0.4401 -0.71146 0.43501 -0.71528 0.43016 C -0.71719 0.42206 -0.72083 0.42044 -0.72535 0.41489 C -0.7342 0.40402 -0.74358 0.39223 -0.75191 0.38113 C -0.75625 0.37535 -0.75608 0.37026 -0.76215 0.36771 C -0.79097 0.37003 -0.77448 0.36794 -0.78993 0.37442 C -0.79271 0.38598 -0.78871 0.37349 -0.79496 0.38275 C -0.8 0.39015 -0.80052 0.39616 -0.80642 0.40148 C -0.81285 0.41489 -0.81823 0.42715 -0.82795 0.43686 C -0.83299 0.4475 -0.84167 0.45675 -0.84948 0.46369 C -0.85191 0.466 -0.85399 0.46993 -0.85694 0.47063 C -0.86198 0.47178 -0.86736 0.47178 -0.87222 0.47386 C -0.87951 0.47687 -0.89496 0.47895 -0.89496 0.47895 C -0.91858 0.47687 -0.90573 0.47965 -0.91771 0.47548 C -0.92205 0.4741 -0.93038 0.47063 -0.93038 0.47063 C -0.94184 0.46022 -0.92795 0.47433 -0.93542 0.46207 C -0.93628 0.46045 -0.93802 0.46022 -0.93924 0.45883 C -0.94062 0.45721 -0.94201 0.45559 -0.94305 0.45374 C -0.94861 0.44426 -0.95174 0.43177 -0.95955 0.42507 C -0.96215 0.41998 -0.96788 0.41096 -0.96962 0.40472 C -0.97205 0.39547 -0.97292 0.38598 -0.97726 0.37789 C -0.97847 0.35476 -0.97847 0.36332 -0.97847 0.35245 E">
                                      <p:cBhvr>
                                        <p:cTn id="228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43200000">
                                      <p:cBhvr>
                                        <p:cTn id="230" dur="13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40" dur="13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84" descr=""/>
          <p:cNvPicPr/>
          <p:nvPr/>
        </p:nvPicPr>
        <p:blipFill>
          <a:blip r:embed="rId1"/>
          <a:stretch/>
        </p:blipFill>
        <p:spPr>
          <a:xfrm>
            <a:off x="-1998720" y="928800"/>
            <a:ext cx="13073040" cy="5214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3"/>
          <a:stretch/>
        </p:blipFill>
        <p:spPr>
          <a:xfrm>
            <a:off x="2214720" y="2928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4"/>
          <a:stretch/>
        </p:blipFill>
        <p:spPr>
          <a:xfrm>
            <a:off x="8001000" y="2214720"/>
            <a:ext cx="1143000" cy="14842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5"/>
          <p:cNvSpPr/>
          <p:nvPr/>
        </p:nvSpPr>
        <p:spPr>
          <a:xfrm>
            <a:off x="3857760" y="3857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94429"/>
                </a:solidFill>
                <a:latin typeface="Georgia"/>
                <a:ea typeface="方正舒体"/>
              </a:rPr>
              <a:t>还记得李雷和韩梅梅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8"/>
          <p:cNvSpPr/>
          <p:nvPr/>
        </p:nvSpPr>
        <p:spPr>
          <a:xfrm>
            <a:off x="3929040" y="3286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94429"/>
                </a:solidFill>
                <a:latin typeface="Georgia"/>
                <a:ea typeface="方正舒体"/>
              </a:rPr>
              <a:t>知道这只鸟叫什么名字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标注 19"/>
          <p:cNvSpPr/>
          <p:nvPr/>
        </p:nvSpPr>
        <p:spPr>
          <a:xfrm>
            <a:off x="6643800" y="2000160"/>
            <a:ext cx="1214280" cy="500040"/>
          </a:xfrm>
          <a:prstGeom prst="wedgeRoundRectCallout">
            <a:avLst>
              <a:gd name="adj1" fmla="val 77333"/>
              <a:gd name="adj2" fmla="val 76384"/>
              <a:gd name="adj3" fmla="val 16667"/>
            </a:avLst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0"/>
          <p:cNvSpPr/>
          <p:nvPr/>
        </p:nvSpPr>
        <p:spPr>
          <a:xfrm>
            <a:off x="6643800" y="20718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Georgia"/>
                <a:ea typeface="Georgia"/>
              </a:rPr>
              <a:t>I’m polly</a:t>
            </a:r>
            <a:r>
              <a:rPr b="0" lang="zh-CN" sz="1800" spc="-1" strike="noStrike">
                <a:solidFill>
                  <a:srgbClr val="494429"/>
                </a:solidFill>
                <a:latin typeface="Georgia"/>
                <a:ea typeface="方正舒体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5"/>
          <a:stretch/>
        </p:blipFill>
        <p:spPr>
          <a:xfrm>
            <a:off x="6429240" y="3643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6"/>
          <a:stretch/>
        </p:blipFill>
        <p:spPr>
          <a:xfrm>
            <a:off x="4500720" y="19288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7"/>
          <a:stretch/>
        </p:blipFill>
        <p:spPr>
          <a:xfrm>
            <a:off x="0" y="2214720"/>
            <a:ext cx="4303800" cy="30002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26"/>
          <p:cNvSpPr/>
          <p:nvPr/>
        </p:nvSpPr>
        <p:spPr>
          <a:xfrm>
            <a:off x="5000760" y="26431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94429"/>
                </a:solidFill>
                <a:latin typeface="Georgia"/>
                <a:ea typeface="方正舒体"/>
              </a:rPr>
              <a:t>当那熟悉的磁带放起，你还会唱这首歌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8"/>
          <a:stretch/>
        </p:blipFill>
        <p:spPr>
          <a:xfrm>
            <a:off x="2357280" y="1643040"/>
            <a:ext cx="3643560" cy="28591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9"/>
          <p:cNvSpPr/>
          <p:nvPr/>
        </p:nvSpPr>
        <p:spPr>
          <a:xfrm>
            <a:off x="5429160" y="4500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94429"/>
                </a:solidFill>
                <a:latin typeface="Georgia"/>
                <a:ea typeface="方正舒体"/>
              </a:rPr>
              <a:t>熟悉的对话</a:t>
            </a:r>
            <a:r>
              <a:rPr b="0" lang="en-US" sz="1800" spc="-1" strike="noStrike">
                <a:solidFill>
                  <a:srgbClr val="494429"/>
                </a:solidFill>
                <a:latin typeface="Georgia"/>
                <a:ea typeface="Georgi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"/>
          <p:cNvPicPr/>
          <p:nvPr/>
        </p:nvPicPr>
        <p:blipFill>
          <a:blip r:embed="rId9"/>
          <a:stretch/>
        </p:blipFill>
        <p:spPr>
          <a:xfrm>
            <a:off x="3286080" y="2071800"/>
            <a:ext cx="1785960" cy="2643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10"/>
          <a:stretch/>
        </p:blipFill>
        <p:spPr>
          <a:xfrm>
            <a:off x="857160" y="2000160"/>
            <a:ext cx="1785960" cy="2643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11"/>
          <a:stretch/>
        </p:blipFill>
        <p:spPr>
          <a:xfrm>
            <a:off x="5572080" y="2071800"/>
            <a:ext cx="1928880" cy="27144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4"/>
          <p:cNvSpPr/>
          <p:nvPr/>
        </p:nvSpPr>
        <p:spPr>
          <a:xfrm>
            <a:off x="3659040" y="2928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eorgia"/>
                <a:ea typeface="方正舒体"/>
              </a:rPr>
              <a:t>这些书你还留在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"/>
          <p:cNvPicPr/>
          <p:nvPr/>
        </p:nvPicPr>
        <p:blipFill>
          <a:blip r:embed="rId12"/>
          <a:stretch/>
        </p:blipFill>
        <p:spPr>
          <a:xfrm>
            <a:off x="2000160" y="1571760"/>
            <a:ext cx="2286000" cy="35622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9"/>
          <p:cNvSpPr/>
          <p:nvPr/>
        </p:nvSpPr>
        <p:spPr>
          <a:xfrm>
            <a:off x="5016240" y="3357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429"/>
                </a:solidFill>
                <a:latin typeface="Georgia"/>
                <a:ea typeface="方正舒体"/>
              </a:rPr>
              <a:t>一路走来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214880" y="39290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429"/>
                </a:solidFill>
                <a:latin typeface="Georgia"/>
                <a:ea typeface="方正舒体"/>
              </a:rPr>
              <a:t>李雷和韩梅梅该结婚了吧</a:t>
            </a:r>
            <a:r>
              <a:rPr b="0" lang="en-US" sz="2000" spc="-1" strike="noStrike">
                <a:solidFill>
                  <a:srgbClr val="494429"/>
                </a:solidFill>
                <a:latin typeface="Georgia"/>
                <a:ea typeface="Georgia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1498-5AFC-436E-B82B-F5406472DB5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10">
                                  <p:stCondLst>
                                    <p:cond delay="78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68" dur="59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58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900"/>
                            </p:stCondLst>
                            <p:childTnLst>
                              <p:par>
                                <p:cTn id="271" dur="indefinite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4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300"/>
                            </p:stCondLst>
                            <p:childTnLst>
                              <p:par>
                                <p:cTn id="2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4800"/>
                            </p:stCondLst>
                            <p:childTnLst>
                              <p:par>
                                <p:cTn id="2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2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9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0">
                                  <p:stCondLst>
                                    <p:cond delay="92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2100"/>
                            </p:stCondLst>
                            <p:childTnLst>
                              <p:par>
                                <p:cTn id="313" dur="indefinite" nodeType="after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7">
                                  <p:stCondLst>
                                    <p:cond delay="24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19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6000"/>
                            </p:stCondLst>
                            <p:childTnLst>
                              <p:par>
                                <p:cTn id="322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9700"/>
                            </p:stCondLst>
                            <p:childTnLst>
                              <p:par>
                                <p:cTn id="32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700"/>
                            </p:stCondLst>
                            <p:childTnLst>
                              <p:par>
                                <p:cTn id="33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1700"/>
                            </p:stCondLst>
                            <p:childTnLst>
                              <p:par>
                                <p:cTn id="34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2700"/>
                            </p:stCondLst>
                            <p:childTnLst>
                              <p:par>
                                <p:cTn id="34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800"/>
                            </p:stCondLst>
                            <p:childTnLst>
                              <p:par>
                                <p:cTn id="36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7800"/>
                            </p:stCondLst>
                            <p:childTnLst>
                              <p:par>
                                <p:cTn id="3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9800"/>
                            </p:stCondLst>
                            <p:childTnLst>
                              <p:par>
                                <p:cTn id="3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1800"/>
                            </p:stCondLst>
                            <p:childTnLst>
                              <p:par>
                                <p:cTn id="3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3800"/>
                            </p:stCondLst>
                            <p:childTnLst>
                              <p:par>
                                <p:cTn id="37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800"/>
                            </p:stCondLst>
                            <p:childTnLst>
                              <p:par>
                                <p:cTn id="38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81" dur="2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8300"/>
                            </p:stCondLst>
                            <p:childTnLst>
                              <p:par>
                                <p:cTn id="384" dur="indefinite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9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9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9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90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11BE-3924-4AD0-9122-B8AF9C43C2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1357200" y="214200"/>
            <a:ext cx="357480" cy="9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1714680" y="214200"/>
            <a:ext cx="357120" cy="928800"/>
          </a:xfrm>
          <a:prstGeom prst="rect">
            <a:avLst/>
          </a:prstGeom>
          <a:ln w="0">
            <a:noFill/>
          </a:ln>
        </p:spPr>
      </p:pic>
      <p:sp>
        <p:nvSpPr>
          <p:cNvPr id="209" name="椭圆 11"/>
          <p:cNvSpPr/>
          <p:nvPr/>
        </p:nvSpPr>
        <p:spPr>
          <a:xfrm flipV="1">
            <a:off x="1785960" y="571680"/>
            <a:ext cx="4608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8"/>
          <p:cNvSpPr/>
          <p:nvPr/>
        </p:nvSpPr>
        <p:spPr>
          <a:xfrm>
            <a:off x="1571760" y="642960"/>
            <a:ext cx="71280" cy="179280"/>
          </a:xfrm>
          <a:custGeom>
            <a:avLst/>
            <a:gdLst/>
            <a:ahLst/>
            <a:rect l="l" t="t" r="r" b="b"/>
            <a:pathLst>
              <a:path w="56445" h="417689">
                <a:moveTo>
                  <a:pt x="56445" y="0"/>
                </a:moveTo>
                <a:cubicBezTo>
                  <a:pt x="52682" y="90311"/>
                  <a:pt x="55138" y="181096"/>
                  <a:pt x="45156" y="270933"/>
                </a:cubicBezTo>
                <a:cubicBezTo>
                  <a:pt x="43658" y="284418"/>
                  <a:pt x="28088" y="292402"/>
                  <a:pt x="22578" y="304800"/>
                </a:cubicBezTo>
                <a:cubicBezTo>
                  <a:pt x="12912" y="326548"/>
                  <a:pt x="0" y="372533"/>
                  <a:pt x="0" y="372533"/>
                </a:cubicBezTo>
                <a:cubicBezTo>
                  <a:pt x="3763" y="383822"/>
                  <a:pt x="2875" y="397986"/>
                  <a:pt x="11289" y="406400"/>
                </a:cubicBezTo>
                <a:cubicBezTo>
                  <a:pt x="19703" y="414814"/>
                  <a:pt x="45156" y="417689"/>
                  <a:pt x="45156" y="41768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31"/>
          <p:cNvSpPr/>
          <p:nvPr/>
        </p:nvSpPr>
        <p:spPr>
          <a:xfrm flipV="1" rot="7036200">
            <a:off x="1585080" y="772920"/>
            <a:ext cx="255600" cy="190440"/>
          </a:xfrm>
          <a:custGeom>
            <a:avLst/>
            <a:gdLst/>
            <a:ahLst/>
            <a:rect l="l" t="t" r="r" b="b"/>
            <a:pathLst>
              <a:path w="267171" h="269052">
                <a:moveTo>
                  <a:pt x="0" y="257763"/>
                </a:moveTo>
                <a:cubicBezTo>
                  <a:pt x="44215" y="263407"/>
                  <a:pt x="88430" y="269052"/>
                  <a:pt x="124178" y="257763"/>
                </a:cubicBezTo>
                <a:cubicBezTo>
                  <a:pt x="159926" y="246474"/>
                  <a:pt x="191911" y="210726"/>
                  <a:pt x="214489" y="190030"/>
                </a:cubicBezTo>
                <a:cubicBezTo>
                  <a:pt x="237067" y="169334"/>
                  <a:pt x="252119" y="161807"/>
                  <a:pt x="259645" y="133585"/>
                </a:cubicBezTo>
                <a:cubicBezTo>
                  <a:pt x="267171" y="105363"/>
                  <a:pt x="261526" y="41392"/>
                  <a:pt x="259645" y="20696"/>
                </a:cubicBezTo>
                <a:cubicBezTo>
                  <a:pt x="257764" y="0"/>
                  <a:pt x="253060" y="4703"/>
                  <a:pt x="248356" y="940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39"/>
          <p:cNvSpPr/>
          <p:nvPr/>
        </p:nvSpPr>
        <p:spPr>
          <a:xfrm flipV="1">
            <a:off x="1500120" y="571680"/>
            <a:ext cx="4608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41"/>
          <p:cNvSpPr/>
          <p:nvPr/>
        </p:nvSpPr>
        <p:spPr>
          <a:xfrm>
            <a:off x="1136520" y="1106640"/>
            <a:ext cx="466920" cy="1139760"/>
          </a:xfrm>
          <a:custGeom>
            <a:avLst/>
            <a:gdLst/>
            <a:ahLst/>
            <a:rect l="l" t="t" r="r" b="b"/>
            <a:pathLst>
              <a:path w="466607" h="1140178">
                <a:moveTo>
                  <a:pt x="466607" y="0"/>
                </a:moveTo>
                <a:cubicBezTo>
                  <a:pt x="435562" y="941"/>
                  <a:pt x="404518" y="1882"/>
                  <a:pt x="376296" y="22578"/>
                </a:cubicBezTo>
                <a:cubicBezTo>
                  <a:pt x="348074" y="43274"/>
                  <a:pt x="321733" y="75260"/>
                  <a:pt x="297274" y="124178"/>
                </a:cubicBezTo>
                <a:cubicBezTo>
                  <a:pt x="272815" y="173097"/>
                  <a:pt x="252119" y="246474"/>
                  <a:pt x="229541" y="316089"/>
                </a:cubicBezTo>
                <a:cubicBezTo>
                  <a:pt x="206963" y="385704"/>
                  <a:pt x="184385" y="464726"/>
                  <a:pt x="161807" y="541867"/>
                </a:cubicBezTo>
                <a:cubicBezTo>
                  <a:pt x="139229" y="619008"/>
                  <a:pt x="118533" y="694266"/>
                  <a:pt x="94074" y="778933"/>
                </a:cubicBezTo>
                <a:cubicBezTo>
                  <a:pt x="69615" y="863600"/>
                  <a:pt x="30104" y="989660"/>
                  <a:pt x="15052" y="1049867"/>
                </a:cubicBezTo>
                <a:cubicBezTo>
                  <a:pt x="0" y="1110075"/>
                  <a:pt x="3763" y="1140178"/>
                  <a:pt x="3763" y="1140178"/>
                </a:cubicBezTo>
                <a:lnTo>
                  <a:pt x="3763" y="114017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43"/>
          <p:cNvSpPr/>
          <p:nvPr/>
        </p:nvSpPr>
        <p:spPr>
          <a:xfrm>
            <a:off x="1135080" y="2212920"/>
            <a:ext cx="355680" cy="162000"/>
          </a:xfrm>
          <a:custGeom>
            <a:avLst/>
            <a:gdLst/>
            <a:ahLst/>
            <a:rect l="l" t="t" r="r" b="b"/>
            <a:pathLst>
              <a:path w="355599" h="161808">
                <a:moveTo>
                  <a:pt x="5644" y="0"/>
                </a:moveTo>
                <a:cubicBezTo>
                  <a:pt x="2822" y="22578"/>
                  <a:pt x="0" y="45156"/>
                  <a:pt x="5644" y="56445"/>
                </a:cubicBezTo>
                <a:cubicBezTo>
                  <a:pt x="11288" y="67734"/>
                  <a:pt x="30103" y="62090"/>
                  <a:pt x="39510" y="67734"/>
                </a:cubicBezTo>
                <a:cubicBezTo>
                  <a:pt x="48917" y="73378"/>
                  <a:pt x="45155" y="82785"/>
                  <a:pt x="62088" y="90311"/>
                </a:cubicBezTo>
                <a:cubicBezTo>
                  <a:pt x="79021" y="97837"/>
                  <a:pt x="141110" y="112889"/>
                  <a:pt x="141110" y="112889"/>
                </a:cubicBezTo>
                <a:cubicBezTo>
                  <a:pt x="167451" y="120415"/>
                  <a:pt x="191911" y="127941"/>
                  <a:pt x="220133" y="135467"/>
                </a:cubicBezTo>
                <a:cubicBezTo>
                  <a:pt x="248355" y="142993"/>
                  <a:pt x="287866" y="154282"/>
                  <a:pt x="310444" y="158045"/>
                </a:cubicBezTo>
                <a:cubicBezTo>
                  <a:pt x="333022" y="161808"/>
                  <a:pt x="355599" y="158045"/>
                  <a:pt x="355599" y="158045"/>
                </a:cubicBezTo>
                <a:lnTo>
                  <a:pt x="355599" y="1580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50"/>
          <p:cNvSpPr/>
          <p:nvPr/>
        </p:nvSpPr>
        <p:spPr>
          <a:xfrm>
            <a:off x="1749600" y="1108080"/>
            <a:ext cx="465120" cy="1177920"/>
          </a:xfrm>
          <a:custGeom>
            <a:avLst/>
            <a:gdLst/>
            <a:ahLst/>
            <a:rect l="l" t="t" r="r" b="b"/>
            <a:pathLst>
              <a:path w="406400" h="1053629">
                <a:moveTo>
                  <a:pt x="0" y="9407"/>
                </a:moveTo>
                <a:cubicBezTo>
                  <a:pt x="28222" y="4703"/>
                  <a:pt x="56444" y="0"/>
                  <a:pt x="79022" y="9407"/>
                </a:cubicBezTo>
                <a:cubicBezTo>
                  <a:pt x="101600" y="18814"/>
                  <a:pt x="116651" y="39510"/>
                  <a:pt x="135466" y="65851"/>
                </a:cubicBezTo>
                <a:cubicBezTo>
                  <a:pt x="154281" y="92192"/>
                  <a:pt x="169333" y="118532"/>
                  <a:pt x="191911" y="167451"/>
                </a:cubicBezTo>
                <a:cubicBezTo>
                  <a:pt x="214489" y="216370"/>
                  <a:pt x="246474" y="291630"/>
                  <a:pt x="270933" y="359363"/>
                </a:cubicBezTo>
                <a:cubicBezTo>
                  <a:pt x="295392" y="427096"/>
                  <a:pt x="321733" y="506118"/>
                  <a:pt x="338666" y="573851"/>
                </a:cubicBezTo>
                <a:cubicBezTo>
                  <a:pt x="355599" y="641584"/>
                  <a:pt x="363126" y="705556"/>
                  <a:pt x="372533" y="765763"/>
                </a:cubicBezTo>
                <a:cubicBezTo>
                  <a:pt x="381940" y="825970"/>
                  <a:pt x="406400" y="889941"/>
                  <a:pt x="395111" y="935096"/>
                </a:cubicBezTo>
                <a:cubicBezTo>
                  <a:pt x="383822" y="980252"/>
                  <a:pt x="323615" y="1019763"/>
                  <a:pt x="304800" y="1036696"/>
                </a:cubicBezTo>
                <a:cubicBezTo>
                  <a:pt x="285985" y="1053629"/>
                  <a:pt x="284103" y="1045162"/>
                  <a:pt x="282222" y="10366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52"/>
          <p:cNvSpPr/>
          <p:nvPr/>
        </p:nvSpPr>
        <p:spPr>
          <a:xfrm>
            <a:off x="1490760" y="1592280"/>
            <a:ext cx="44280" cy="824040"/>
          </a:xfrm>
          <a:custGeom>
            <a:avLst/>
            <a:gdLst/>
            <a:ahLst/>
            <a:rect l="l" t="t" r="r" b="b"/>
            <a:pathLst>
              <a:path w="45156" h="824089">
                <a:moveTo>
                  <a:pt x="45156" y="0"/>
                </a:moveTo>
                <a:cubicBezTo>
                  <a:pt x="42333" y="16933"/>
                  <a:pt x="39511" y="33867"/>
                  <a:pt x="33867" y="90311"/>
                </a:cubicBezTo>
                <a:cubicBezTo>
                  <a:pt x="28223" y="146755"/>
                  <a:pt x="16933" y="235186"/>
                  <a:pt x="11289" y="338667"/>
                </a:cubicBezTo>
                <a:cubicBezTo>
                  <a:pt x="5645" y="442148"/>
                  <a:pt x="0" y="639704"/>
                  <a:pt x="0" y="711200"/>
                </a:cubicBezTo>
                <a:cubicBezTo>
                  <a:pt x="0" y="782696"/>
                  <a:pt x="9408" y="754475"/>
                  <a:pt x="11289" y="767645"/>
                </a:cubicBezTo>
                <a:cubicBezTo>
                  <a:pt x="13171" y="780816"/>
                  <a:pt x="11289" y="790223"/>
                  <a:pt x="11289" y="790223"/>
                </a:cubicBezTo>
                <a:lnTo>
                  <a:pt x="11289" y="824089"/>
                </a:lnTo>
                <a:lnTo>
                  <a:pt x="11289" y="8240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55"/>
          <p:cNvSpPr/>
          <p:nvPr/>
        </p:nvSpPr>
        <p:spPr>
          <a:xfrm>
            <a:off x="1779480" y="1251000"/>
            <a:ext cx="297000" cy="1017360"/>
          </a:xfrm>
          <a:custGeom>
            <a:avLst/>
            <a:gdLst/>
            <a:ahLst/>
            <a:rect l="l" t="t" r="r" b="b"/>
            <a:pathLst>
              <a:path w="297275" h="1017882">
                <a:moveTo>
                  <a:pt x="297275" y="1017882"/>
                </a:moveTo>
                <a:cubicBezTo>
                  <a:pt x="278460" y="912519"/>
                  <a:pt x="259645" y="807156"/>
                  <a:pt x="240830" y="724371"/>
                </a:cubicBezTo>
                <a:cubicBezTo>
                  <a:pt x="222015" y="641586"/>
                  <a:pt x="208845" y="602075"/>
                  <a:pt x="184386" y="521171"/>
                </a:cubicBezTo>
                <a:cubicBezTo>
                  <a:pt x="159927" y="440267"/>
                  <a:pt x="122297" y="319852"/>
                  <a:pt x="94075" y="238948"/>
                </a:cubicBezTo>
                <a:cubicBezTo>
                  <a:pt x="65853" y="158044"/>
                  <a:pt x="30104" y="71496"/>
                  <a:pt x="15052" y="35748"/>
                </a:cubicBezTo>
                <a:cubicBezTo>
                  <a:pt x="0" y="0"/>
                  <a:pt x="3763" y="26340"/>
                  <a:pt x="3763" y="24459"/>
                </a:cubicBezTo>
                <a:cubicBezTo>
                  <a:pt x="3763" y="22578"/>
                  <a:pt x="9407" y="23518"/>
                  <a:pt x="15052" y="2445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56"/>
          <p:cNvSpPr/>
          <p:nvPr/>
        </p:nvSpPr>
        <p:spPr>
          <a:xfrm>
            <a:off x="1490760" y="2254320"/>
            <a:ext cx="581040" cy="245880"/>
          </a:xfrm>
          <a:custGeom>
            <a:avLst/>
            <a:gdLst/>
            <a:ahLst/>
            <a:rect l="l" t="t" r="r" b="b"/>
            <a:pathLst>
              <a:path w="598312" h="237067">
                <a:moveTo>
                  <a:pt x="0" y="116652"/>
                </a:moveTo>
                <a:cubicBezTo>
                  <a:pt x="2822" y="138289"/>
                  <a:pt x="5645" y="159926"/>
                  <a:pt x="11289" y="173096"/>
                </a:cubicBezTo>
                <a:cubicBezTo>
                  <a:pt x="16933" y="186266"/>
                  <a:pt x="20697" y="188148"/>
                  <a:pt x="33867" y="195674"/>
                </a:cubicBezTo>
                <a:cubicBezTo>
                  <a:pt x="47037" y="203200"/>
                  <a:pt x="69615" y="212608"/>
                  <a:pt x="90311" y="218252"/>
                </a:cubicBezTo>
                <a:cubicBezTo>
                  <a:pt x="111007" y="223897"/>
                  <a:pt x="129823" y="227660"/>
                  <a:pt x="158045" y="229541"/>
                </a:cubicBezTo>
                <a:cubicBezTo>
                  <a:pt x="186267" y="231422"/>
                  <a:pt x="216371" y="237067"/>
                  <a:pt x="259645" y="229541"/>
                </a:cubicBezTo>
                <a:cubicBezTo>
                  <a:pt x="302919" y="222015"/>
                  <a:pt x="372534" y="199437"/>
                  <a:pt x="417689" y="184385"/>
                </a:cubicBezTo>
                <a:cubicBezTo>
                  <a:pt x="462845" y="169333"/>
                  <a:pt x="502356" y="156162"/>
                  <a:pt x="530578" y="139229"/>
                </a:cubicBezTo>
                <a:cubicBezTo>
                  <a:pt x="558800" y="122296"/>
                  <a:pt x="575734" y="101600"/>
                  <a:pt x="587023" y="82785"/>
                </a:cubicBezTo>
                <a:cubicBezTo>
                  <a:pt x="598312" y="63970"/>
                  <a:pt x="598311" y="39511"/>
                  <a:pt x="598311" y="26341"/>
                </a:cubicBezTo>
                <a:cubicBezTo>
                  <a:pt x="598311" y="13171"/>
                  <a:pt x="587023" y="7526"/>
                  <a:pt x="587023" y="3763"/>
                </a:cubicBezTo>
                <a:cubicBezTo>
                  <a:pt x="587023" y="0"/>
                  <a:pt x="592667" y="1881"/>
                  <a:pt x="598311" y="376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57"/>
          <p:cNvSpPr/>
          <p:nvPr/>
        </p:nvSpPr>
        <p:spPr>
          <a:xfrm>
            <a:off x="1054080" y="1693800"/>
            <a:ext cx="222120" cy="455760"/>
          </a:xfrm>
          <a:custGeom>
            <a:avLst/>
            <a:gdLst/>
            <a:ahLst/>
            <a:rect l="l" t="t" r="r" b="b"/>
            <a:pathLst>
              <a:path w="222015" h="455319">
                <a:moveTo>
                  <a:pt x="222015" y="0"/>
                </a:moveTo>
                <a:cubicBezTo>
                  <a:pt x="141111" y="156163"/>
                  <a:pt x="60208" y="312327"/>
                  <a:pt x="30104" y="383823"/>
                </a:cubicBezTo>
                <a:cubicBezTo>
                  <a:pt x="0" y="455319"/>
                  <a:pt x="37630" y="417689"/>
                  <a:pt x="41393" y="428978"/>
                </a:cubicBezTo>
                <a:cubicBezTo>
                  <a:pt x="45156" y="440267"/>
                  <a:pt x="43275" y="447793"/>
                  <a:pt x="52682" y="451556"/>
                </a:cubicBezTo>
                <a:cubicBezTo>
                  <a:pt x="62089" y="455319"/>
                  <a:pt x="97838" y="451556"/>
                  <a:pt x="97838" y="451556"/>
                </a:cubicBezTo>
                <a:lnTo>
                  <a:pt x="97838" y="4515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712520" y="-214200"/>
            <a:ext cx="360" cy="428400"/>
            <a:chOff x="1712520" y="-214200"/>
            <a:chExt cx="360" cy="428400"/>
          </a:xfrm>
        </p:grpSpPr>
        <p:sp>
          <p:nvSpPr>
            <p:cNvPr id="221" name="直接连接符 4"/>
            <p:cNvSpPr/>
            <p:nvPr/>
          </p:nvSpPr>
          <p:spPr>
            <a:xfrm>
              <a:off x="1712880" y="-21420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5400000">
              <a:off x="1498320" y="0"/>
              <a:ext cx="42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71360" y="3399840"/>
            <a:ext cx="488880" cy="413280"/>
            <a:chOff x="171360" y="3399840"/>
            <a:chExt cx="488880" cy="413280"/>
          </a:xfrm>
        </p:grpSpPr>
        <p:sp>
          <p:nvSpPr>
            <p:cNvPr id="224" name="直接连接符 32"/>
            <p:cNvSpPr/>
            <p:nvPr/>
          </p:nvSpPr>
          <p:spPr>
            <a:xfrm flipV="1">
              <a:off x="171360" y="3514680"/>
              <a:ext cx="488160" cy="183600"/>
            </a:xfrm>
            <a:prstGeom prst="line">
              <a:avLst/>
            </a:prstGeom>
            <a:ln w="25560">
              <a:solidFill>
                <a:srgbClr val="000000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 rot="19408800">
              <a:off x="165240" y="3534840"/>
              <a:ext cx="50148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1400" y="3414600"/>
            <a:ext cx="888480" cy="812880"/>
            <a:chOff x="41400" y="3414600"/>
            <a:chExt cx="888480" cy="812880"/>
          </a:xfrm>
        </p:grpSpPr>
        <p:sp>
          <p:nvSpPr>
            <p:cNvPr id="227" name="直接连接符 33"/>
            <p:cNvSpPr/>
            <p:nvPr/>
          </p:nvSpPr>
          <p:spPr>
            <a:xfrm flipV="1">
              <a:off x="41400" y="3759120"/>
              <a:ext cx="887760" cy="123840"/>
            </a:xfrm>
            <a:prstGeom prst="line">
              <a:avLst/>
            </a:prstGeom>
            <a:ln w="25560">
              <a:solidFill>
                <a:srgbClr val="000000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 rot="19408800">
              <a:off x="92160" y="3606480"/>
              <a:ext cx="787320" cy="42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71000" y="3800160"/>
            <a:ext cx="556920" cy="541800"/>
            <a:chOff x="171000" y="3800160"/>
            <a:chExt cx="556920" cy="541800"/>
          </a:xfrm>
        </p:grpSpPr>
        <p:sp>
          <p:nvSpPr>
            <p:cNvPr id="230" name="直接连接符 37"/>
            <p:cNvSpPr/>
            <p:nvPr/>
          </p:nvSpPr>
          <p:spPr>
            <a:xfrm>
              <a:off x="171000" y="4055040"/>
              <a:ext cx="556560" cy="32400"/>
            </a:xfrm>
            <a:prstGeom prst="line">
              <a:avLst/>
            </a:prstGeom>
            <a:ln w="25560">
              <a:solidFill>
                <a:srgbClr val="000000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 rot="19408800">
              <a:off x="235080" y="389232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63"/>
          <p:cNvSpPr/>
          <p:nvPr/>
        </p:nvSpPr>
        <p:spPr>
          <a:xfrm rot="3823800">
            <a:off x="930240" y="323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4"/>
          <p:cNvSpPr/>
          <p:nvPr/>
        </p:nvSpPr>
        <p:spPr>
          <a:xfrm rot="4924200">
            <a:off x="1082160" y="368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-360" y="6143760"/>
            <a:ext cx="9358560" cy="71280"/>
            <a:chOff x="-360" y="6143760"/>
            <a:chExt cx="9358560" cy="71280"/>
          </a:xfrm>
        </p:grpSpPr>
        <p:sp>
          <p:nvSpPr>
            <p:cNvPr id="235" name="直接连接符 84"/>
            <p:cNvSpPr/>
            <p:nvPr/>
          </p:nvSpPr>
          <p:spPr>
            <a:xfrm flipV="1">
              <a:off x="0" y="6143760"/>
              <a:ext cx="9358200" cy="7128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10800000">
              <a:off x="-360" y="6143760"/>
              <a:ext cx="935820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任意多边形 75"/>
          <p:cNvSpPr/>
          <p:nvPr/>
        </p:nvSpPr>
        <p:spPr>
          <a:xfrm>
            <a:off x="5643720" y="3143160"/>
            <a:ext cx="452160" cy="1020960"/>
          </a:xfrm>
          <a:custGeom>
            <a:avLst/>
            <a:gdLst/>
            <a:ahLst/>
            <a:rect l="l" t="t" r="r" b="b"/>
            <a:pathLst>
              <a:path w="451413" h="1020501">
                <a:moveTo>
                  <a:pt x="219920" y="1020501"/>
                </a:moveTo>
                <a:cubicBezTo>
                  <a:pt x="198699" y="1006997"/>
                  <a:pt x="177479" y="993493"/>
                  <a:pt x="162046" y="985777"/>
                </a:cubicBezTo>
                <a:cubicBezTo>
                  <a:pt x="146613" y="978061"/>
                  <a:pt x="135038" y="981919"/>
                  <a:pt x="127322" y="974203"/>
                </a:cubicBezTo>
                <a:cubicBezTo>
                  <a:pt x="119606" y="966487"/>
                  <a:pt x="123464" y="949125"/>
                  <a:pt x="115748" y="939479"/>
                </a:cubicBezTo>
                <a:cubicBezTo>
                  <a:pt x="108032" y="929833"/>
                  <a:pt x="90670" y="927904"/>
                  <a:pt x="81024" y="916329"/>
                </a:cubicBezTo>
                <a:cubicBezTo>
                  <a:pt x="71378" y="904754"/>
                  <a:pt x="63661" y="885464"/>
                  <a:pt x="57874" y="870031"/>
                </a:cubicBezTo>
                <a:cubicBezTo>
                  <a:pt x="52087" y="854598"/>
                  <a:pt x="52087" y="835307"/>
                  <a:pt x="46300" y="823732"/>
                </a:cubicBezTo>
                <a:cubicBezTo>
                  <a:pt x="40513" y="812157"/>
                  <a:pt x="25079" y="814086"/>
                  <a:pt x="23150" y="800582"/>
                </a:cubicBezTo>
                <a:cubicBezTo>
                  <a:pt x="21221" y="787078"/>
                  <a:pt x="34725" y="742709"/>
                  <a:pt x="34725" y="742709"/>
                </a:cubicBezTo>
                <a:cubicBezTo>
                  <a:pt x="38583" y="723418"/>
                  <a:pt x="42442" y="700269"/>
                  <a:pt x="46300" y="684836"/>
                </a:cubicBezTo>
                <a:cubicBezTo>
                  <a:pt x="50158" y="669403"/>
                  <a:pt x="57874" y="661687"/>
                  <a:pt x="57874" y="650112"/>
                </a:cubicBezTo>
                <a:cubicBezTo>
                  <a:pt x="57874" y="638537"/>
                  <a:pt x="48229" y="626963"/>
                  <a:pt x="46300" y="615388"/>
                </a:cubicBezTo>
                <a:cubicBezTo>
                  <a:pt x="44371" y="603813"/>
                  <a:pt x="52087" y="598025"/>
                  <a:pt x="46300" y="580663"/>
                </a:cubicBezTo>
                <a:cubicBezTo>
                  <a:pt x="40513" y="563301"/>
                  <a:pt x="17363" y="547868"/>
                  <a:pt x="11575" y="511215"/>
                </a:cubicBezTo>
                <a:cubicBezTo>
                  <a:pt x="5788" y="474562"/>
                  <a:pt x="11575" y="360745"/>
                  <a:pt x="11575" y="360745"/>
                </a:cubicBezTo>
                <a:cubicBezTo>
                  <a:pt x="11575" y="316376"/>
                  <a:pt x="0" y="277793"/>
                  <a:pt x="11575" y="244998"/>
                </a:cubicBezTo>
                <a:cubicBezTo>
                  <a:pt x="23150" y="212203"/>
                  <a:pt x="81024" y="163975"/>
                  <a:pt x="81024" y="163975"/>
                </a:cubicBezTo>
                <a:cubicBezTo>
                  <a:pt x="104173" y="136967"/>
                  <a:pt x="109961" y="108031"/>
                  <a:pt x="150472" y="82952"/>
                </a:cubicBezTo>
                <a:cubicBezTo>
                  <a:pt x="190983" y="57874"/>
                  <a:pt x="279723" y="27008"/>
                  <a:pt x="324092" y="13504"/>
                </a:cubicBezTo>
                <a:cubicBezTo>
                  <a:pt x="368461" y="0"/>
                  <a:pt x="395469" y="1929"/>
                  <a:pt x="416689" y="1929"/>
                </a:cubicBezTo>
                <a:cubicBezTo>
                  <a:pt x="437909" y="1929"/>
                  <a:pt x="444661" y="7716"/>
                  <a:pt x="451413" y="135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76"/>
          <p:cNvSpPr/>
          <p:nvPr/>
        </p:nvSpPr>
        <p:spPr>
          <a:xfrm>
            <a:off x="5572080" y="3143160"/>
            <a:ext cx="925560" cy="1928880"/>
          </a:xfrm>
          <a:custGeom>
            <a:avLst/>
            <a:gdLst/>
            <a:ahLst/>
            <a:rect l="l" t="t" r="r" b="b"/>
            <a:pathLst>
              <a:path w="925974" h="1929114">
                <a:moveTo>
                  <a:pt x="503498" y="0"/>
                </a:moveTo>
                <a:cubicBezTo>
                  <a:pt x="584521" y="27972"/>
                  <a:pt x="665544" y="55944"/>
                  <a:pt x="723417" y="92597"/>
                </a:cubicBezTo>
                <a:cubicBezTo>
                  <a:pt x="781290" y="129250"/>
                  <a:pt x="817944" y="171691"/>
                  <a:pt x="850739" y="219919"/>
                </a:cubicBezTo>
                <a:cubicBezTo>
                  <a:pt x="883534" y="268147"/>
                  <a:pt x="914400" y="312517"/>
                  <a:pt x="920187" y="381965"/>
                </a:cubicBezTo>
                <a:cubicBezTo>
                  <a:pt x="925974" y="451413"/>
                  <a:pt x="895109" y="584522"/>
                  <a:pt x="885463" y="636608"/>
                </a:cubicBezTo>
                <a:cubicBezTo>
                  <a:pt x="875818" y="688694"/>
                  <a:pt x="866172" y="680977"/>
                  <a:pt x="862314" y="694481"/>
                </a:cubicBezTo>
                <a:cubicBezTo>
                  <a:pt x="858456" y="707985"/>
                  <a:pt x="862314" y="717630"/>
                  <a:pt x="862314" y="717630"/>
                </a:cubicBezTo>
                <a:lnTo>
                  <a:pt x="862314" y="729205"/>
                </a:lnTo>
                <a:cubicBezTo>
                  <a:pt x="862314" y="740780"/>
                  <a:pt x="866172" y="773574"/>
                  <a:pt x="862314" y="787078"/>
                </a:cubicBezTo>
                <a:cubicBezTo>
                  <a:pt x="858456" y="800582"/>
                  <a:pt x="846880" y="798653"/>
                  <a:pt x="839164" y="810228"/>
                </a:cubicBezTo>
                <a:cubicBezTo>
                  <a:pt x="831448" y="821803"/>
                  <a:pt x="827590" y="844952"/>
                  <a:pt x="816015" y="856527"/>
                </a:cubicBezTo>
                <a:cubicBezTo>
                  <a:pt x="804440" y="868102"/>
                  <a:pt x="787078" y="873889"/>
                  <a:pt x="769716" y="879676"/>
                </a:cubicBezTo>
                <a:cubicBezTo>
                  <a:pt x="752354" y="885463"/>
                  <a:pt x="729205" y="891251"/>
                  <a:pt x="711843" y="891251"/>
                </a:cubicBezTo>
                <a:cubicBezTo>
                  <a:pt x="694481" y="891251"/>
                  <a:pt x="665544" y="879676"/>
                  <a:pt x="665544" y="879676"/>
                </a:cubicBezTo>
                <a:lnTo>
                  <a:pt x="665544" y="879676"/>
                </a:lnTo>
                <a:cubicBezTo>
                  <a:pt x="671331" y="887392"/>
                  <a:pt x="698339" y="908613"/>
                  <a:pt x="700268" y="925975"/>
                </a:cubicBezTo>
                <a:cubicBezTo>
                  <a:pt x="702197" y="943337"/>
                  <a:pt x="725347" y="935620"/>
                  <a:pt x="677119" y="983848"/>
                </a:cubicBezTo>
                <a:cubicBezTo>
                  <a:pt x="628891" y="1032076"/>
                  <a:pt x="488066" y="1143965"/>
                  <a:pt x="410901" y="1215342"/>
                </a:cubicBezTo>
                <a:cubicBezTo>
                  <a:pt x="333736" y="1286719"/>
                  <a:pt x="273934" y="1340734"/>
                  <a:pt x="214131" y="1412111"/>
                </a:cubicBezTo>
                <a:cubicBezTo>
                  <a:pt x="154329" y="1483488"/>
                  <a:pt x="86810" y="1591519"/>
                  <a:pt x="52086" y="1643605"/>
                </a:cubicBezTo>
                <a:cubicBezTo>
                  <a:pt x="17362" y="1695691"/>
                  <a:pt x="11574" y="1682188"/>
                  <a:pt x="5787" y="1724628"/>
                </a:cubicBezTo>
                <a:cubicBezTo>
                  <a:pt x="0" y="1767068"/>
                  <a:pt x="13504" y="1867382"/>
                  <a:pt x="17362" y="1898248"/>
                </a:cubicBezTo>
                <a:cubicBezTo>
                  <a:pt x="21220" y="1929114"/>
                  <a:pt x="25078" y="1919468"/>
                  <a:pt x="28936" y="190982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77"/>
          <p:cNvSpPr/>
          <p:nvPr/>
        </p:nvSpPr>
        <p:spPr>
          <a:xfrm>
            <a:off x="5854680" y="4043520"/>
            <a:ext cx="420840" cy="353880"/>
          </a:xfrm>
          <a:custGeom>
            <a:avLst/>
            <a:gdLst/>
            <a:ahLst/>
            <a:rect l="l" t="t" r="r" b="b"/>
            <a:pathLst>
              <a:path w="420547" h="353028">
                <a:moveTo>
                  <a:pt x="387752" y="0"/>
                </a:moveTo>
                <a:cubicBezTo>
                  <a:pt x="404149" y="2893"/>
                  <a:pt x="420547" y="5787"/>
                  <a:pt x="364603" y="57873"/>
                </a:cubicBezTo>
                <a:cubicBezTo>
                  <a:pt x="308659" y="109959"/>
                  <a:pt x="104172" y="272006"/>
                  <a:pt x="52086" y="312517"/>
                </a:cubicBezTo>
                <a:cubicBezTo>
                  <a:pt x="0" y="353028"/>
                  <a:pt x="52086" y="300942"/>
                  <a:pt x="52086" y="300942"/>
                </a:cubicBezTo>
                <a:lnTo>
                  <a:pt x="52086" y="3009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78"/>
          <p:cNvSpPr/>
          <p:nvPr/>
        </p:nvSpPr>
        <p:spPr>
          <a:xfrm>
            <a:off x="5823000" y="4097160"/>
            <a:ext cx="496800" cy="1049400"/>
          </a:xfrm>
          <a:custGeom>
            <a:avLst/>
            <a:gdLst/>
            <a:ahLst/>
            <a:rect l="l" t="t" r="r" b="b"/>
            <a:pathLst>
              <a:path w="496712" h="1049867">
                <a:moveTo>
                  <a:pt x="455319" y="0"/>
                </a:moveTo>
                <a:cubicBezTo>
                  <a:pt x="465667" y="31044"/>
                  <a:pt x="476015" y="62089"/>
                  <a:pt x="477896" y="101600"/>
                </a:cubicBezTo>
                <a:cubicBezTo>
                  <a:pt x="479777" y="141111"/>
                  <a:pt x="496712" y="163689"/>
                  <a:pt x="466608" y="237067"/>
                </a:cubicBezTo>
                <a:cubicBezTo>
                  <a:pt x="436504" y="310445"/>
                  <a:pt x="357482" y="445912"/>
                  <a:pt x="297274" y="541867"/>
                </a:cubicBezTo>
                <a:cubicBezTo>
                  <a:pt x="237067" y="637823"/>
                  <a:pt x="152400" y="741304"/>
                  <a:pt x="105363" y="812800"/>
                </a:cubicBezTo>
                <a:cubicBezTo>
                  <a:pt x="58326" y="884296"/>
                  <a:pt x="30104" y="931334"/>
                  <a:pt x="15052" y="970845"/>
                </a:cubicBezTo>
                <a:cubicBezTo>
                  <a:pt x="0" y="1010356"/>
                  <a:pt x="15052" y="1049867"/>
                  <a:pt x="15052" y="1049867"/>
                </a:cubicBezTo>
                <a:lnTo>
                  <a:pt x="15052" y="10498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79"/>
          <p:cNvSpPr/>
          <p:nvPr/>
        </p:nvSpPr>
        <p:spPr>
          <a:xfrm>
            <a:off x="6313320" y="4165560"/>
            <a:ext cx="11160" cy="428760"/>
          </a:xfrm>
          <a:custGeom>
            <a:avLst/>
            <a:gdLst/>
            <a:ahLst/>
            <a:rect l="l" t="t" r="r" b="b"/>
            <a:pathLst>
              <a:path w="11289" h="428977">
                <a:moveTo>
                  <a:pt x="0" y="0"/>
                </a:moveTo>
                <a:lnTo>
                  <a:pt x="11289" y="428977"/>
                </a:lnTo>
                <a:lnTo>
                  <a:pt x="11289" y="4289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80"/>
          <p:cNvSpPr/>
          <p:nvPr/>
        </p:nvSpPr>
        <p:spPr>
          <a:xfrm>
            <a:off x="5794200" y="4141800"/>
            <a:ext cx="106560" cy="341280"/>
          </a:xfrm>
          <a:custGeom>
            <a:avLst/>
            <a:gdLst/>
            <a:ahLst/>
            <a:rect l="l" t="t" r="r" b="b"/>
            <a:pathLst>
              <a:path w="107245" h="340548">
                <a:moveTo>
                  <a:pt x="0" y="0"/>
                </a:moveTo>
                <a:cubicBezTo>
                  <a:pt x="36689" y="123237"/>
                  <a:pt x="73379" y="246474"/>
                  <a:pt x="90312" y="293511"/>
                </a:cubicBezTo>
                <a:cubicBezTo>
                  <a:pt x="107245" y="340548"/>
                  <a:pt x="104422" y="311385"/>
                  <a:pt x="101600" y="28222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81"/>
          <p:cNvSpPr/>
          <p:nvPr/>
        </p:nvSpPr>
        <p:spPr>
          <a:xfrm>
            <a:off x="5667480" y="4130640"/>
            <a:ext cx="91800" cy="552600"/>
          </a:xfrm>
          <a:custGeom>
            <a:avLst/>
            <a:gdLst/>
            <a:ahLst/>
            <a:rect l="l" t="t" r="r" b="b"/>
            <a:pathLst>
              <a:path w="92192" h="553155">
                <a:moveTo>
                  <a:pt x="92192" y="0"/>
                </a:moveTo>
                <a:cubicBezTo>
                  <a:pt x="70554" y="62088"/>
                  <a:pt x="48917" y="124177"/>
                  <a:pt x="35747" y="169333"/>
                </a:cubicBezTo>
                <a:cubicBezTo>
                  <a:pt x="22577" y="214489"/>
                  <a:pt x="18814" y="229540"/>
                  <a:pt x="13170" y="270933"/>
                </a:cubicBezTo>
                <a:cubicBezTo>
                  <a:pt x="7526" y="312326"/>
                  <a:pt x="3762" y="372533"/>
                  <a:pt x="1881" y="417689"/>
                </a:cubicBezTo>
                <a:cubicBezTo>
                  <a:pt x="0" y="462845"/>
                  <a:pt x="1881" y="541867"/>
                  <a:pt x="1881" y="541867"/>
                </a:cubicBezTo>
                <a:lnTo>
                  <a:pt x="1881" y="5531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82"/>
          <p:cNvSpPr/>
          <p:nvPr/>
        </p:nvSpPr>
        <p:spPr>
          <a:xfrm>
            <a:off x="5578560" y="4165560"/>
            <a:ext cx="147600" cy="184320"/>
          </a:xfrm>
          <a:custGeom>
            <a:avLst/>
            <a:gdLst/>
            <a:ahLst/>
            <a:rect l="l" t="t" r="r" b="b"/>
            <a:pathLst>
              <a:path w="146756" h="184385">
                <a:moveTo>
                  <a:pt x="146756" y="0"/>
                </a:moveTo>
                <a:cubicBezTo>
                  <a:pt x="95956" y="65851"/>
                  <a:pt x="45156" y="131703"/>
                  <a:pt x="22578" y="158044"/>
                </a:cubicBezTo>
                <a:cubicBezTo>
                  <a:pt x="0" y="184385"/>
                  <a:pt x="5644" y="171214"/>
                  <a:pt x="11289" y="1580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83"/>
          <p:cNvSpPr/>
          <p:nvPr/>
        </p:nvSpPr>
        <p:spPr>
          <a:xfrm>
            <a:off x="5402160" y="4390920"/>
            <a:ext cx="131760" cy="654120"/>
          </a:xfrm>
          <a:custGeom>
            <a:avLst/>
            <a:gdLst/>
            <a:ahLst/>
            <a:rect l="l" t="t" r="r" b="b"/>
            <a:pathLst>
              <a:path w="131704" h="654756">
                <a:moveTo>
                  <a:pt x="131704" y="0"/>
                </a:moveTo>
                <a:cubicBezTo>
                  <a:pt x="113830" y="85607"/>
                  <a:pt x="95956" y="171215"/>
                  <a:pt x="75260" y="248356"/>
                </a:cubicBezTo>
                <a:cubicBezTo>
                  <a:pt x="54564" y="325497"/>
                  <a:pt x="15052" y="402638"/>
                  <a:pt x="7526" y="462845"/>
                </a:cubicBezTo>
                <a:cubicBezTo>
                  <a:pt x="0" y="523052"/>
                  <a:pt x="22578" y="577615"/>
                  <a:pt x="30104" y="609600"/>
                </a:cubicBezTo>
                <a:cubicBezTo>
                  <a:pt x="37630" y="641585"/>
                  <a:pt x="52682" y="654756"/>
                  <a:pt x="52682" y="654756"/>
                </a:cubicBezTo>
                <a:lnTo>
                  <a:pt x="52682" y="6547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85"/>
          <p:cNvSpPr/>
          <p:nvPr/>
        </p:nvSpPr>
        <p:spPr>
          <a:xfrm>
            <a:off x="5022720" y="5065560"/>
            <a:ext cx="1527480" cy="943200"/>
          </a:xfrm>
          <a:custGeom>
            <a:avLst/>
            <a:gdLst/>
            <a:ahLst/>
            <a:rect l="l" t="t" r="r" b="b"/>
            <a:pathLst>
              <a:path w="1527763" h="942622">
                <a:moveTo>
                  <a:pt x="455319" y="13170"/>
                </a:moveTo>
                <a:cubicBezTo>
                  <a:pt x="432741" y="6585"/>
                  <a:pt x="410163" y="0"/>
                  <a:pt x="398874" y="1881"/>
                </a:cubicBezTo>
                <a:cubicBezTo>
                  <a:pt x="387585" y="3762"/>
                  <a:pt x="387585" y="24458"/>
                  <a:pt x="387585" y="24458"/>
                </a:cubicBezTo>
                <a:cubicBezTo>
                  <a:pt x="378178" y="43273"/>
                  <a:pt x="357482" y="92192"/>
                  <a:pt x="342430" y="114770"/>
                </a:cubicBezTo>
                <a:cubicBezTo>
                  <a:pt x="327378" y="137348"/>
                  <a:pt x="312326" y="146755"/>
                  <a:pt x="297274" y="159925"/>
                </a:cubicBezTo>
                <a:cubicBezTo>
                  <a:pt x="282222" y="173095"/>
                  <a:pt x="261526" y="182503"/>
                  <a:pt x="252119" y="193792"/>
                </a:cubicBezTo>
                <a:cubicBezTo>
                  <a:pt x="242712" y="205081"/>
                  <a:pt x="246474" y="220132"/>
                  <a:pt x="240830" y="227658"/>
                </a:cubicBezTo>
                <a:cubicBezTo>
                  <a:pt x="235186" y="235184"/>
                  <a:pt x="218252" y="238947"/>
                  <a:pt x="218252" y="238947"/>
                </a:cubicBezTo>
                <a:cubicBezTo>
                  <a:pt x="210726" y="242710"/>
                  <a:pt x="206963" y="248355"/>
                  <a:pt x="195674" y="250236"/>
                </a:cubicBezTo>
                <a:cubicBezTo>
                  <a:pt x="184385" y="252118"/>
                  <a:pt x="150519" y="250236"/>
                  <a:pt x="150519" y="250236"/>
                </a:cubicBezTo>
                <a:cubicBezTo>
                  <a:pt x="135467" y="250236"/>
                  <a:pt x="112889" y="246473"/>
                  <a:pt x="105363" y="250236"/>
                </a:cubicBezTo>
                <a:cubicBezTo>
                  <a:pt x="97837" y="253999"/>
                  <a:pt x="109126" y="259644"/>
                  <a:pt x="105363" y="272814"/>
                </a:cubicBezTo>
                <a:cubicBezTo>
                  <a:pt x="101600" y="285984"/>
                  <a:pt x="82785" y="312325"/>
                  <a:pt x="82785" y="329258"/>
                </a:cubicBezTo>
                <a:cubicBezTo>
                  <a:pt x="82785" y="346191"/>
                  <a:pt x="114770" y="340547"/>
                  <a:pt x="105363" y="374414"/>
                </a:cubicBezTo>
                <a:cubicBezTo>
                  <a:pt x="95956" y="408281"/>
                  <a:pt x="26341" y="532458"/>
                  <a:pt x="26341" y="532458"/>
                </a:cubicBezTo>
                <a:cubicBezTo>
                  <a:pt x="9408" y="566325"/>
                  <a:pt x="7526" y="547510"/>
                  <a:pt x="3763" y="577614"/>
                </a:cubicBezTo>
                <a:cubicBezTo>
                  <a:pt x="0" y="607718"/>
                  <a:pt x="0" y="679214"/>
                  <a:pt x="3763" y="713081"/>
                </a:cubicBezTo>
                <a:cubicBezTo>
                  <a:pt x="7526" y="746948"/>
                  <a:pt x="15052" y="758236"/>
                  <a:pt x="26341" y="780814"/>
                </a:cubicBezTo>
                <a:cubicBezTo>
                  <a:pt x="37630" y="803392"/>
                  <a:pt x="45155" y="825969"/>
                  <a:pt x="71496" y="848547"/>
                </a:cubicBezTo>
                <a:cubicBezTo>
                  <a:pt x="97837" y="871125"/>
                  <a:pt x="146755" y="903111"/>
                  <a:pt x="184385" y="916281"/>
                </a:cubicBezTo>
                <a:cubicBezTo>
                  <a:pt x="222015" y="929451"/>
                  <a:pt x="254000" y="925689"/>
                  <a:pt x="297274" y="927570"/>
                </a:cubicBezTo>
                <a:cubicBezTo>
                  <a:pt x="340548" y="929451"/>
                  <a:pt x="378178" y="942622"/>
                  <a:pt x="444030" y="927570"/>
                </a:cubicBezTo>
                <a:cubicBezTo>
                  <a:pt x="509882" y="912518"/>
                  <a:pt x="577615" y="889939"/>
                  <a:pt x="692385" y="837258"/>
                </a:cubicBezTo>
                <a:cubicBezTo>
                  <a:pt x="807155" y="784577"/>
                  <a:pt x="1051748" y="654755"/>
                  <a:pt x="1132652" y="611481"/>
                </a:cubicBezTo>
                <a:cubicBezTo>
                  <a:pt x="1213556" y="568207"/>
                  <a:pt x="1130770" y="587022"/>
                  <a:pt x="1177807" y="577614"/>
                </a:cubicBezTo>
                <a:cubicBezTo>
                  <a:pt x="1224844" y="568207"/>
                  <a:pt x="1369718" y="564443"/>
                  <a:pt x="1414874" y="555036"/>
                </a:cubicBezTo>
                <a:cubicBezTo>
                  <a:pt x="1460030" y="545629"/>
                  <a:pt x="1431808" y="528696"/>
                  <a:pt x="1448741" y="521170"/>
                </a:cubicBezTo>
                <a:cubicBezTo>
                  <a:pt x="1465674" y="513644"/>
                  <a:pt x="1505185" y="517407"/>
                  <a:pt x="1516474" y="509881"/>
                </a:cubicBezTo>
                <a:cubicBezTo>
                  <a:pt x="1527763" y="502355"/>
                  <a:pt x="1516474" y="476014"/>
                  <a:pt x="1516474" y="476014"/>
                </a:cubicBezTo>
                <a:lnTo>
                  <a:pt x="1516474" y="47601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86"/>
          <p:cNvSpPr/>
          <p:nvPr/>
        </p:nvSpPr>
        <p:spPr>
          <a:xfrm>
            <a:off x="5218200" y="5324400"/>
            <a:ext cx="1332000" cy="319320"/>
          </a:xfrm>
          <a:custGeom>
            <a:avLst/>
            <a:gdLst/>
            <a:ahLst/>
            <a:rect l="l" t="t" r="r" b="b"/>
            <a:pathLst>
              <a:path w="1332089" h="319852">
                <a:moveTo>
                  <a:pt x="1332089" y="206963"/>
                </a:moveTo>
                <a:cubicBezTo>
                  <a:pt x="1281288" y="151459"/>
                  <a:pt x="1230488" y="95955"/>
                  <a:pt x="1185333" y="71496"/>
                </a:cubicBezTo>
                <a:cubicBezTo>
                  <a:pt x="1140178" y="47037"/>
                  <a:pt x="1091260" y="62089"/>
                  <a:pt x="1061156" y="60208"/>
                </a:cubicBezTo>
                <a:cubicBezTo>
                  <a:pt x="1031052" y="58327"/>
                  <a:pt x="1004711" y="60208"/>
                  <a:pt x="1004711" y="60208"/>
                </a:cubicBezTo>
                <a:cubicBezTo>
                  <a:pt x="980252" y="60208"/>
                  <a:pt x="944504" y="67734"/>
                  <a:pt x="914400" y="60208"/>
                </a:cubicBezTo>
                <a:cubicBezTo>
                  <a:pt x="884296" y="52682"/>
                  <a:pt x="856074" y="24459"/>
                  <a:pt x="824089" y="15052"/>
                </a:cubicBezTo>
                <a:cubicBezTo>
                  <a:pt x="792104" y="5645"/>
                  <a:pt x="750711" y="1882"/>
                  <a:pt x="722489" y="3763"/>
                </a:cubicBezTo>
                <a:cubicBezTo>
                  <a:pt x="694267" y="5644"/>
                  <a:pt x="671689" y="0"/>
                  <a:pt x="654756" y="26341"/>
                </a:cubicBezTo>
                <a:cubicBezTo>
                  <a:pt x="637823" y="52682"/>
                  <a:pt x="639704" y="135467"/>
                  <a:pt x="620889" y="161808"/>
                </a:cubicBezTo>
                <a:cubicBezTo>
                  <a:pt x="602074" y="188149"/>
                  <a:pt x="564445" y="178741"/>
                  <a:pt x="541867" y="184385"/>
                </a:cubicBezTo>
                <a:cubicBezTo>
                  <a:pt x="519289" y="190029"/>
                  <a:pt x="524933" y="191911"/>
                  <a:pt x="485422" y="195674"/>
                </a:cubicBezTo>
                <a:cubicBezTo>
                  <a:pt x="445911" y="199437"/>
                  <a:pt x="357481" y="205082"/>
                  <a:pt x="304800" y="206963"/>
                </a:cubicBezTo>
                <a:cubicBezTo>
                  <a:pt x="252119" y="208844"/>
                  <a:pt x="205081" y="208844"/>
                  <a:pt x="169333" y="206963"/>
                </a:cubicBezTo>
                <a:cubicBezTo>
                  <a:pt x="133585" y="205082"/>
                  <a:pt x="118533" y="176859"/>
                  <a:pt x="90311" y="195674"/>
                </a:cubicBezTo>
                <a:cubicBezTo>
                  <a:pt x="62089" y="214489"/>
                  <a:pt x="0" y="319852"/>
                  <a:pt x="0" y="319852"/>
                </a:cubicBezTo>
                <a:lnTo>
                  <a:pt x="0" y="3198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87"/>
          <p:cNvSpPr/>
          <p:nvPr/>
        </p:nvSpPr>
        <p:spPr>
          <a:xfrm>
            <a:off x="5703840" y="5124600"/>
            <a:ext cx="905040" cy="1003320"/>
          </a:xfrm>
          <a:custGeom>
            <a:avLst/>
            <a:gdLst/>
            <a:ahLst/>
            <a:rect l="l" t="t" r="r" b="b"/>
            <a:pathLst>
              <a:path w="904993" h="1002829">
                <a:moveTo>
                  <a:pt x="699911" y="0"/>
                </a:moveTo>
                <a:cubicBezTo>
                  <a:pt x="738482" y="29163"/>
                  <a:pt x="777053" y="58326"/>
                  <a:pt x="790223" y="90311"/>
                </a:cubicBezTo>
                <a:cubicBezTo>
                  <a:pt x="803393" y="122296"/>
                  <a:pt x="769527" y="150518"/>
                  <a:pt x="778934" y="191911"/>
                </a:cubicBezTo>
                <a:cubicBezTo>
                  <a:pt x="788341" y="233304"/>
                  <a:pt x="827852" y="280341"/>
                  <a:pt x="846667" y="338667"/>
                </a:cubicBezTo>
                <a:cubicBezTo>
                  <a:pt x="865482" y="396993"/>
                  <a:pt x="882416" y="489186"/>
                  <a:pt x="891823" y="541867"/>
                </a:cubicBezTo>
                <a:cubicBezTo>
                  <a:pt x="901230" y="594548"/>
                  <a:pt x="904993" y="624652"/>
                  <a:pt x="903111" y="654756"/>
                </a:cubicBezTo>
                <a:cubicBezTo>
                  <a:pt x="901230" y="684860"/>
                  <a:pt x="897467" y="709319"/>
                  <a:pt x="880534" y="722489"/>
                </a:cubicBezTo>
                <a:cubicBezTo>
                  <a:pt x="863601" y="735659"/>
                  <a:pt x="812800" y="722489"/>
                  <a:pt x="801511" y="733778"/>
                </a:cubicBezTo>
                <a:cubicBezTo>
                  <a:pt x="790222" y="745067"/>
                  <a:pt x="809037" y="767644"/>
                  <a:pt x="812800" y="790222"/>
                </a:cubicBezTo>
                <a:cubicBezTo>
                  <a:pt x="816563" y="812800"/>
                  <a:pt x="824089" y="846667"/>
                  <a:pt x="824089" y="869245"/>
                </a:cubicBezTo>
                <a:cubicBezTo>
                  <a:pt x="824089" y="891823"/>
                  <a:pt x="818444" y="910637"/>
                  <a:pt x="812800" y="925689"/>
                </a:cubicBezTo>
                <a:cubicBezTo>
                  <a:pt x="807156" y="940741"/>
                  <a:pt x="799630" y="952030"/>
                  <a:pt x="790223" y="959556"/>
                </a:cubicBezTo>
                <a:cubicBezTo>
                  <a:pt x="780816" y="967082"/>
                  <a:pt x="769526" y="967082"/>
                  <a:pt x="756356" y="970845"/>
                </a:cubicBezTo>
                <a:cubicBezTo>
                  <a:pt x="743186" y="974608"/>
                  <a:pt x="733778" y="984015"/>
                  <a:pt x="711200" y="982133"/>
                </a:cubicBezTo>
                <a:cubicBezTo>
                  <a:pt x="688622" y="980252"/>
                  <a:pt x="635941" y="967082"/>
                  <a:pt x="620889" y="959556"/>
                </a:cubicBezTo>
                <a:cubicBezTo>
                  <a:pt x="605837" y="952030"/>
                  <a:pt x="635941" y="931334"/>
                  <a:pt x="620889" y="936978"/>
                </a:cubicBezTo>
                <a:cubicBezTo>
                  <a:pt x="605837" y="942622"/>
                  <a:pt x="558800" y="984015"/>
                  <a:pt x="530578" y="993422"/>
                </a:cubicBezTo>
                <a:cubicBezTo>
                  <a:pt x="502356" y="1002829"/>
                  <a:pt x="483541" y="999066"/>
                  <a:pt x="451556" y="993422"/>
                </a:cubicBezTo>
                <a:cubicBezTo>
                  <a:pt x="419571" y="987778"/>
                  <a:pt x="380060" y="974608"/>
                  <a:pt x="338667" y="959556"/>
                </a:cubicBezTo>
                <a:cubicBezTo>
                  <a:pt x="297274" y="944504"/>
                  <a:pt x="244593" y="923807"/>
                  <a:pt x="203200" y="903111"/>
                </a:cubicBezTo>
                <a:cubicBezTo>
                  <a:pt x="161807" y="882415"/>
                  <a:pt x="120415" y="850430"/>
                  <a:pt x="90311" y="835378"/>
                </a:cubicBezTo>
                <a:cubicBezTo>
                  <a:pt x="60207" y="820326"/>
                  <a:pt x="35748" y="820326"/>
                  <a:pt x="22578" y="812800"/>
                </a:cubicBezTo>
                <a:cubicBezTo>
                  <a:pt x="9408" y="805274"/>
                  <a:pt x="15052" y="793985"/>
                  <a:pt x="11289" y="790222"/>
                </a:cubicBezTo>
                <a:cubicBezTo>
                  <a:pt x="7526" y="786459"/>
                  <a:pt x="0" y="790222"/>
                  <a:pt x="0" y="790222"/>
                </a:cubicBezTo>
                <a:lnTo>
                  <a:pt x="0" y="790222"/>
                </a:lnTo>
                <a:lnTo>
                  <a:pt x="0" y="7902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88"/>
          <p:cNvSpPr/>
          <p:nvPr/>
        </p:nvSpPr>
        <p:spPr>
          <a:xfrm>
            <a:off x="5273640" y="5157720"/>
            <a:ext cx="1104840" cy="198360"/>
          </a:xfrm>
          <a:custGeom>
            <a:avLst/>
            <a:gdLst/>
            <a:ahLst/>
            <a:rect l="l" t="t" r="r" b="b"/>
            <a:pathLst>
              <a:path w="1104429" h="197555">
                <a:moveTo>
                  <a:pt x="1083733" y="0"/>
                </a:moveTo>
                <a:cubicBezTo>
                  <a:pt x="1094081" y="17874"/>
                  <a:pt x="1104429" y="35748"/>
                  <a:pt x="1083733" y="56444"/>
                </a:cubicBezTo>
                <a:cubicBezTo>
                  <a:pt x="1063037" y="77140"/>
                  <a:pt x="1006592" y="107245"/>
                  <a:pt x="959555" y="124178"/>
                </a:cubicBezTo>
                <a:cubicBezTo>
                  <a:pt x="912518" y="141111"/>
                  <a:pt x="857955" y="152400"/>
                  <a:pt x="801511" y="158044"/>
                </a:cubicBezTo>
                <a:cubicBezTo>
                  <a:pt x="745067" y="163688"/>
                  <a:pt x="656636" y="152399"/>
                  <a:pt x="620888" y="158044"/>
                </a:cubicBezTo>
                <a:cubicBezTo>
                  <a:pt x="585140" y="163689"/>
                  <a:pt x="611481" y="188148"/>
                  <a:pt x="587022" y="191911"/>
                </a:cubicBezTo>
                <a:cubicBezTo>
                  <a:pt x="562563" y="195674"/>
                  <a:pt x="498592" y="180622"/>
                  <a:pt x="474133" y="180622"/>
                </a:cubicBezTo>
                <a:cubicBezTo>
                  <a:pt x="449674" y="180622"/>
                  <a:pt x="457199" y="197555"/>
                  <a:pt x="440266" y="191911"/>
                </a:cubicBezTo>
                <a:cubicBezTo>
                  <a:pt x="423333" y="186267"/>
                  <a:pt x="402637" y="156163"/>
                  <a:pt x="372533" y="146755"/>
                </a:cubicBezTo>
                <a:cubicBezTo>
                  <a:pt x="342429" y="137348"/>
                  <a:pt x="289748" y="133585"/>
                  <a:pt x="259644" y="135466"/>
                </a:cubicBezTo>
                <a:cubicBezTo>
                  <a:pt x="229540" y="137348"/>
                  <a:pt x="214489" y="156163"/>
                  <a:pt x="191911" y="158044"/>
                </a:cubicBezTo>
                <a:cubicBezTo>
                  <a:pt x="169333" y="159926"/>
                  <a:pt x="124177" y="146755"/>
                  <a:pt x="124177" y="146755"/>
                </a:cubicBezTo>
                <a:cubicBezTo>
                  <a:pt x="101599" y="142992"/>
                  <a:pt x="77140" y="141110"/>
                  <a:pt x="56444" y="135466"/>
                </a:cubicBezTo>
                <a:cubicBezTo>
                  <a:pt x="35748" y="129822"/>
                  <a:pt x="0" y="112889"/>
                  <a:pt x="0" y="112889"/>
                </a:cubicBezTo>
                <a:lnTo>
                  <a:pt x="0" y="1128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89"/>
          <p:cNvSpPr/>
          <p:nvPr/>
        </p:nvSpPr>
        <p:spPr>
          <a:xfrm>
            <a:off x="6284880" y="5641920"/>
            <a:ext cx="252360" cy="193680"/>
          </a:xfrm>
          <a:custGeom>
            <a:avLst/>
            <a:gdLst/>
            <a:ahLst/>
            <a:rect l="l" t="t" r="r" b="b"/>
            <a:pathLst>
              <a:path w="252118" h="193792">
                <a:moveTo>
                  <a:pt x="231422" y="193792"/>
                </a:moveTo>
                <a:lnTo>
                  <a:pt x="231422" y="58325"/>
                </a:lnTo>
                <a:cubicBezTo>
                  <a:pt x="231422" y="31984"/>
                  <a:pt x="252118" y="43274"/>
                  <a:pt x="231422" y="35748"/>
                </a:cubicBezTo>
                <a:cubicBezTo>
                  <a:pt x="210726" y="28222"/>
                  <a:pt x="142993" y="18815"/>
                  <a:pt x="107245" y="13170"/>
                </a:cubicBezTo>
                <a:cubicBezTo>
                  <a:pt x="71497" y="7525"/>
                  <a:pt x="33866" y="3762"/>
                  <a:pt x="16933" y="1881"/>
                </a:cubicBezTo>
                <a:cubicBezTo>
                  <a:pt x="0" y="0"/>
                  <a:pt x="2822" y="940"/>
                  <a:pt x="5645" y="188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90"/>
          <p:cNvSpPr/>
          <p:nvPr/>
        </p:nvSpPr>
        <p:spPr>
          <a:xfrm>
            <a:off x="6267600" y="5654520"/>
            <a:ext cx="253800" cy="181080"/>
          </a:xfrm>
          <a:custGeom>
            <a:avLst/>
            <a:gdLst/>
            <a:ahLst/>
            <a:rect l="l" t="t" r="r" b="b"/>
            <a:pathLst>
              <a:path w="253999" h="180622">
                <a:moveTo>
                  <a:pt x="0" y="0"/>
                </a:moveTo>
                <a:cubicBezTo>
                  <a:pt x="66792" y="15051"/>
                  <a:pt x="133585" y="30103"/>
                  <a:pt x="169333" y="45155"/>
                </a:cubicBezTo>
                <a:cubicBezTo>
                  <a:pt x="205081" y="60207"/>
                  <a:pt x="201319" y="71496"/>
                  <a:pt x="214489" y="90311"/>
                </a:cubicBezTo>
                <a:cubicBezTo>
                  <a:pt x="227659" y="109126"/>
                  <a:pt x="242711" y="142992"/>
                  <a:pt x="248355" y="158044"/>
                </a:cubicBezTo>
                <a:cubicBezTo>
                  <a:pt x="253999" y="173096"/>
                  <a:pt x="248355" y="180622"/>
                  <a:pt x="248355" y="180622"/>
                </a:cubicBezTo>
                <a:lnTo>
                  <a:pt x="248355" y="1806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91"/>
          <p:cNvSpPr/>
          <p:nvPr/>
        </p:nvSpPr>
        <p:spPr>
          <a:xfrm>
            <a:off x="5491080" y="5033880"/>
            <a:ext cx="314280" cy="314280"/>
          </a:xfrm>
          <a:custGeom>
            <a:avLst/>
            <a:gdLst/>
            <a:ahLst/>
            <a:rect l="l" t="t" r="r" b="b"/>
            <a:pathLst>
              <a:path w="314207" h="314207">
                <a:moveTo>
                  <a:pt x="122296" y="0"/>
                </a:moveTo>
                <a:cubicBezTo>
                  <a:pt x="70555" y="18814"/>
                  <a:pt x="18814" y="37629"/>
                  <a:pt x="9407" y="67733"/>
                </a:cubicBezTo>
                <a:cubicBezTo>
                  <a:pt x="0" y="97837"/>
                  <a:pt x="65852" y="180622"/>
                  <a:pt x="65852" y="180622"/>
                </a:cubicBezTo>
                <a:cubicBezTo>
                  <a:pt x="80904" y="210726"/>
                  <a:pt x="77140" y="227660"/>
                  <a:pt x="99718" y="248356"/>
                </a:cubicBezTo>
                <a:cubicBezTo>
                  <a:pt x="122296" y="269052"/>
                  <a:pt x="171214" y="295393"/>
                  <a:pt x="201318" y="304800"/>
                </a:cubicBezTo>
                <a:cubicBezTo>
                  <a:pt x="231422" y="314207"/>
                  <a:pt x="280341" y="304800"/>
                  <a:pt x="280341" y="304800"/>
                </a:cubicBezTo>
                <a:lnTo>
                  <a:pt x="314207" y="304800"/>
                </a:lnTo>
                <a:lnTo>
                  <a:pt x="314207" y="3048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06"/>
          <p:cNvSpPr/>
          <p:nvPr/>
        </p:nvSpPr>
        <p:spPr>
          <a:xfrm>
            <a:off x="4876920" y="4221000"/>
            <a:ext cx="577800" cy="836640"/>
          </a:xfrm>
          <a:custGeom>
            <a:avLst/>
            <a:gdLst/>
            <a:ahLst/>
            <a:rect l="l" t="t" r="r" b="b"/>
            <a:pathLst>
              <a:path w="577615" h="835378">
                <a:moveTo>
                  <a:pt x="577615" y="835378"/>
                </a:moveTo>
                <a:cubicBezTo>
                  <a:pt x="547511" y="825970"/>
                  <a:pt x="517408" y="816563"/>
                  <a:pt x="476015" y="801511"/>
                </a:cubicBezTo>
                <a:cubicBezTo>
                  <a:pt x="434622" y="786459"/>
                  <a:pt x="378178" y="773289"/>
                  <a:pt x="329259" y="745067"/>
                </a:cubicBezTo>
                <a:cubicBezTo>
                  <a:pt x="280341" y="716845"/>
                  <a:pt x="227659" y="696148"/>
                  <a:pt x="182504" y="632178"/>
                </a:cubicBezTo>
                <a:cubicBezTo>
                  <a:pt x="137349" y="568208"/>
                  <a:pt x="86548" y="432740"/>
                  <a:pt x="58326" y="361244"/>
                </a:cubicBezTo>
                <a:cubicBezTo>
                  <a:pt x="30104" y="289748"/>
                  <a:pt x="22577" y="255881"/>
                  <a:pt x="13170" y="203200"/>
                </a:cubicBezTo>
                <a:cubicBezTo>
                  <a:pt x="3763" y="150519"/>
                  <a:pt x="0" y="79023"/>
                  <a:pt x="1881" y="45156"/>
                </a:cubicBezTo>
                <a:cubicBezTo>
                  <a:pt x="3762" y="11289"/>
                  <a:pt x="24459" y="0"/>
                  <a:pt x="24459" y="0"/>
                </a:cubicBezTo>
                <a:lnTo>
                  <a:pt x="2445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45"/>
          <p:cNvSpPr/>
          <p:nvPr/>
        </p:nvSpPr>
        <p:spPr>
          <a:xfrm>
            <a:off x="4861080" y="3156120"/>
            <a:ext cx="917280" cy="1257120"/>
          </a:xfrm>
          <a:custGeom>
            <a:avLst/>
            <a:gdLst/>
            <a:ahLst/>
            <a:rect l="l" t="t" r="r" b="b"/>
            <a:pathLst>
              <a:path w="918164" h="1256830">
                <a:moveTo>
                  <a:pt x="131704" y="1256830"/>
                </a:moveTo>
                <a:cubicBezTo>
                  <a:pt x="84667" y="1183452"/>
                  <a:pt x="37630" y="1110074"/>
                  <a:pt x="18815" y="1042341"/>
                </a:cubicBezTo>
                <a:cubicBezTo>
                  <a:pt x="0" y="974608"/>
                  <a:pt x="11289" y="916282"/>
                  <a:pt x="18815" y="850430"/>
                </a:cubicBezTo>
                <a:cubicBezTo>
                  <a:pt x="26341" y="784578"/>
                  <a:pt x="45156" y="709319"/>
                  <a:pt x="63971" y="647230"/>
                </a:cubicBezTo>
                <a:cubicBezTo>
                  <a:pt x="82786" y="585141"/>
                  <a:pt x="112889" y="530578"/>
                  <a:pt x="131704" y="477897"/>
                </a:cubicBezTo>
                <a:cubicBezTo>
                  <a:pt x="150519" y="425216"/>
                  <a:pt x="137349" y="387585"/>
                  <a:pt x="176860" y="331141"/>
                </a:cubicBezTo>
                <a:cubicBezTo>
                  <a:pt x="216371" y="274697"/>
                  <a:pt x="304801" y="191912"/>
                  <a:pt x="368771" y="139230"/>
                </a:cubicBezTo>
                <a:cubicBezTo>
                  <a:pt x="432741" y="86549"/>
                  <a:pt x="477897" y="30104"/>
                  <a:pt x="560682" y="15052"/>
                </a:cubicBezTo>
                <a:cubicBezTo>
                  <a:pt x="643467" y="0"/>
                  <a:pt x="812801" y="41393"/>
                  <a:pt x="865482" y="48919"/>
                </a:cubicBezTo>
                <a:cubicBezTo>
                  <a:pt x="918164" y="56445"/>
                  <a:pt x="876771" y="58327"/>
                  <a:pt x="876771" y="60208"/>
                </a:cubicBezTo>
                <a:cubicBezTo>
                  <a:pt x="876771" y="62089"/>
                  <a:pt x="871126" y="61148"/>
                  <a:pt x="865482" y="602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46"/>
          <p:cNvSpPr/>
          <p:nvPr/>
        </p:nvSpPr>
        <p:spPr>
          <a:xfrm>
            <a:off x="5273640" y="3265560"/>
            <a:ext cx="419040" cy="774720"/>
          </a:xfrm>
          <a:custGeom>
            <a:avLst/>
            <a:gdLst/>
            <a:ahLst/>
            <a:rect l="l" t="t" r="r" b="b"/>
            <a:pathLst>
              <a:path w="417688" h="775171">
                <a:moveTo>
                  <a:pt x="417688" y="30104"/>
                </a:moveTo>
                <a:lnTo>
                  <a:pt x="259644" y="7526"/>
                </a:lnTo>
                <a:cubicBezTo>
                  <a:pt x="231422" y="3763"/>
                  <a:pt x="240829" y="0"/>
                  <a:pt x="248355" y="7526"/>
                </a:cubicBezTo>
                <a:cubicBezTo>
                  <a:pt x="255881" y="15052"/>
                  <a:pt x="295393" y="35749"/>
                  <a:pt x="304800" y="52682"/>
                </a:cubicBezTo>
                <a:cubicBezTo>
                  <a:pt x="314207" y="69615"/>
                  <a:pt x="301037" y="92193"/>
                  <a:pt x="304800" y="109126"/>
                </a:cubicBezTo>
                <a:cubicBezTo>
                  <a:pt x="308563" y="126059"/>
                  <a:pt x="331140" y="137349"/>
                  <a:pt x="327377" y="154282"/>
                </a:cubicBezTo>
                <a:cubicBezTo>
                  <a:pt x="323614" y="171215"/>
                  <a:pt x="295392" y="201319"/>
                  <a:pt x="282222" y="210726"/>
                </a:cubicBezTo>
                <a:cubicBezTo>
                  <a:pt x="269052" y="220133"/>
                  <a:pt x="259644" y="208844"/>
                  <a:pt x="248355" y="210726"/>
                </a:cubicBezTo>
                <a:cubicBezTo>
                  <a:pt x="237066" y="212608"/>
                  <a:pt x="222014" y="214489"/>
                  <a:pt x="214488" y="222015"/>
                </a:cubicBezTo>
                <a:cubicBezTo>
                  <a:pt x="206962" y="229541"/>
                  <a:pt x="212607" y="240830"/>
                  <a:pt x="203200" y="255882"/>
                </a:cubicBezTo>
                <a:cubicBezTo>
                  <a:pt x="193793" y="270934"/>
                  <a:pt x="178740" y="299156"/>
                  <a:pt x="158044" y="312326"/>
                </a:cubicBezTo>
                <a:cubicBezTo>
                  <a:pt x="137348" y="325496"/>
                  <a:pt x="95955" y="323615"/>
                  <a:pt x="79022" y="334904"/>
                </a:cubicBezTo>
                <a:cubicBezTo>
                  <a:pt x="62089" y="346193"/>
                  <a:pt x="67733" y="319853"/>
                  <a:pt x="56444" y="380060"/>
                </a:cubicBezTo>
                <a:cubicBezTo>
                  <a:pt x="45155" y="440268"/>
                  <a:pt x="11288" y="696149"/>
                  <a:pt x="11288" y="696149"/>
                </a:cubicBezTo>
                <a:lnTo>
                  <a:pt x="0" y="775171"/>
                </a:lnTo>
                <a:lnTo>
                  <a:pt x="0" y="775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47"/>
          <p:cNvSpPr/>
          <p:nvPr/>
        </p:nvSpPr>
        <p:spPr>
          <a:xfrm>
            <a:off x="5195880" y="3657600"/>
            <a:ext cx="211320" cy="596880"/>
          </a:xfrm>
          <a:custGeom>
            <a:avLst/>
            <a:gdLst/>
            <a:ahLst/>
            <a:rect l="l" t="t" r="r" b="b"/>
            <a:pathLst>
              <a:path w="210727" h="598310">
                <a:moveTo>
                  <a:pt x="146756" y="0"/>
                </a:moveTo>
                <a:cubicBezTo>
                  <a:pt x="172156" y="39510"/>
                  <a:pt x="197556" y="79021"/>
                  <a:pt x="203200" y="112888"/>
                </a:cubicBezTo>
                <a:cubicBezTo>
                  <a:pt x="208844" y="146755"/>
                  <a:pt x="210727" y="131704"/>
                  <a:pt x="180623" y="203200"/>
                </a:cubicBezTo>
                <a:cubicBezTo>
                  <a:pt x="150519" y="274696"/>
                  <a:pt x="45156" y="485422"/>
                  <a:pt x="22578" y="541866"/>
                </a:cubicBezTo>
                <a:cubicBezTo>
                  <a:pt x="0" y="598310"/>
                  <a:pt x="22578" y="570088"/>
                  <a:pt x="45156" y="54186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48"/>
          <p:cNvSpPr/>
          <p:nvPr/>
        </p:nvSpPr>
        <p:spPr>
          <a:xfrm>
            <a:off x="5003640" y="3589200"/>
            <a:ext cx="236520" cy="642960"/>
          </a:xfrm>
          <a:custGeom>
            <a:avLst/>
            <a:gdLst/>
            <a:ahLst/>
            <a:rect l="l" t="t" r="r" b="b"/>
            <a:pathLst>
              <a:path w="237067" h="643467">
                <a:moveTo>
                  <a:pt x="0" y="0"/>
                </a:moveTo>
                <a:cubicBezTo>
                  <a:pt x="35748" y="110066"/>
                  <a:pt x="71496" y="220133"/>
                  <a:pt x="101600" y="304800"/>
                </a:cubicBezTo>
                <a:cubicBezTo>
                  <a:pt x="131704" y="389467"/>
                  <a:pt x="158044" y="451556"/>
                  <a:pt x="180622" y="508000"/>
                </a:cubicBezTo>
                <a:cubicBezTo>
                  <a:pt x="203200" y="564444"/>
                  <a:pt x="220133" y="603955"/>
                  <a:pt x="237067" y="643467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149"/>
          <p:cNvSpPr/>
          <p:nvPr/>
        </p:nvSpPr>
        <p:spPr>
          <a:xfrm>
            <a:off x="5398920" y="3836880"/>
            <a:ext cx="12960" cy="497160"/>
          </a:xfrm>
          <a:custGeom>
            <a:avLst/>
            <a:gdLst/>
            <a:ahLst/>
            <a:rect l="l" t="t" r="r" b="b"/>
            <a:pathLst>
              <a:path w="13170" h="496711">
                <a:moveTo>
                  <a:pt x="0" y="0"/>
                </a:moveTo>
                <a:cubicBezTo>
                  <a:pt x="3763" y="82785"/>
                  <a:pt x="9408" y="165570"/>
                  <a:pt x="11289" y="248355"/>
                </a:cubicBezTo>
                <a:cubicBezTo>
                  <a:pt x="13170" y="331140"/>
                  <a:pt x="11289" y="496711"/>
                  <a:pt x="11289" y="496711"/>
                </a:cubicBezTo>
                <a:lnTo>
                  <a:pt x="11289" y="4967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150"/>
          <p:cNvSpPr/>
          <p:nvPr/>
        </p:nvSpPr>
        <p:spPr>
          <a:xfrm>
            <a:off x="5410080" y="4040280"/>
            <a:ext cx="349200" cy="112680"/>
          </a:xfrm>
          <a:custGeom>
            <a:avLst/>
            <a:gdLst/>
            <a:ahLst/>
            <a:rect l="l" t="t" r="r" b="b"/>
            <a:pathLst>
              <a:path w="349956" h="112889">
                <a:moveTo>
                  <a:pt x="0" y="0"/>
                </a:moveTo>
                <a:lnTo>
                  <a:pt x="112889" y="67733"/>
                </a:lnTo>
                <a:cubicBezTo>
                  <a:pt x="139230" y="82785"/>
                  <a:pt x="137349" y="84667"/>
                  <a:pt x="158045" y="90311"/>
                </a:cubicBezTo>
                <a:cubicBezTo>
                  <a:pt x="178741" y="95956"/>
                  <a:pt x="237067" y="101600"/>
                  <a:pt x="237067" y="101600"/>
                </a:cubicBezTo>
                <a:cubicBezTo>
                  <a:pt x="265289" y="105363"/>
                  <a:pt x="308563" y="112889"/>
                  <a:pt x="327378" y="112889"/>
                </a:cubicBezTo>
                <a:cubicBezTo>
                  <a:pt x="346193" y="112889"/>
                  <a:pt x="349956" y="101600"/>
                  <a:pt x="349956" y="101600"/>
                </a:cubicBezTo>
                <a:lnTo>
                  <a:pt x="349956" y="1016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151"/>
          <p:cNvSpPr/>
          <p:nvPr/>
        </p:nvSpPr>
        <p:spPr>
          <a:xfrm>
            <a:off x="6176880" y="3182760"/>
            <a:ext cx="947880" cy="1916280"/>
          </a:xfrm>
          <a:custGeom>
            <a:avLst/>
            <a:gdLst/>
            <a:ahLst/>
            <a:rect l="l" t="t" r="r" b="b"/>
            <a:pathLst>
              <a:path w="948266" h="1917229">
                <a:moveTo>
                  <a:pt x="0" y="1851378"/>
                </a:moveTo>
                <a:cubicBezTo>
                  <a:pt x="69615" y="1874896"/>
                  <a:pt x="139230" y="1898415"/>
                  <a:pt x="191911" y="1907822"/>
                </a:cubicBezTo>
                <a:cubicBezTo>
                  <a:pt x="244592" y="1917229"/>
                  <a:pt x="267171" y="1909703"/>
                  <a:pt x="316089" y="1907822"/>
                </a:cubicBezTo>
                <a:cubicBezTo>
                  <a:pt x="365007" y="1905941"/>
                  <a:pt x="442148" y="1913467"/>
                  <a:pt x="485422" y="1896534"/>
                </a:cubicBezTo>
                <a:cubicBezTo>
                  <a:pt x="528696" y="1879601"/>
                  <a:pt x="530578" y="1864548"/>
                  <a:pt x="575733" y="1806222"/>
                </a:cubicBezTo>
                <a:cubicBezTo>
                  <a:pt x="620888" y="1747896"/>
                  <a:pt x="713081" y="1616193"/>
                  <a:pt x="756355" y="1546578"/>
                </a:cubicBezTo>
                <a:cubicBezTo>
                  <a:pt x="799629" y="1476963"/>
                  <a:pt x="807155" y="1450623"/>
                  <a:pt x="835377" y="1388534"/>
                </a:cubicBezTo>
                <a:cubicBezTo>
                  <a:pt x="863599" y="1326445"/>
                  <a:pt x="906874" y="1239897"/>
                  <a:pt x="925689" y="1174045"/>
                </a:cubicBezTo>
                <a:cubicBezTo>
                  <a:pt x="944504" y="1108193"/>
                  <a:pt x="948266" y="1063037"/>
                  <a:pt x="948266" y="993422"/>
                </a:cubicBezTo>
                <a:cubicBezTo>
                  <a:pt x="948266" y="923807"/>
                  <a:pt x="935096" y="827852"/>
                  <a:pt x="925689" y="756356"/>
                </a:cubicBezTo>
                <a:cubicBezTo>
                  <a:pt x="916282" y="684860"/>
                  <a:pt x="908755" y="617127"/>
                  <a:pt x="891822" y="564445"/>
                </a:cubicBezTo>
                <a:cubicBezTo>
                  <a:pt x="874889" y="511764"/>
                  <a:pt x="841022" y="477897"/>
                  <a:pt x="824089" y="440267"/>
                </a:cubicBezTo>
                <a:cubicBezTo>
                  <a:pt x="807156" y="402637"/>
                  <a:pt x="812800" y="376297"/>
                  <a:pt x="790222" y="338667"/>
                </a:cubicBezTo>
                <a:cubicBezTo>
                  <a:pt x="767644" y="301037"/>
                  <a:pt x="720607" y="257763"/>
                  <a:pt x="688622" y="214489"/>
                </a:cubicBezTo>
                <a:cubicBezTo>
                  <a:pt x="656637" y="171215"/>
                  <a:pt x="634059" y="112889"/>
                  <a:pt x="598311" y="79022"/>
                </a:cubicBezTo>
                <a:cubicBezTo>
                  <a:pt x="562563" y="45155"/>
                  <a:pt x="524933" y="22578"/>
                  <a:pt x="474133" y="11289"/>
                </a:cubicBezTo>
                <a:cubicBezTo>
                  <a:pt x="423333" y="0"/>
                  <a:pt x="293511" y="11289"/>
                  <a:pt x="293511" y="11289"/>
                </a:cubicBezTo>
                <a:cubicBezTo>
                  <a:pt x="242711" y="11289"/>
                  <a:pt x="193792" y="5645"/>
                  <a:pt x="169333" y="11289"/>
                </a:cubicBezTo>
                <a:cubicBezTo>
                  <a:pt x="144874" y="16933"/>
                  <a:pt x="154281" y="37630"/>
                  <a:pt x="146755" y="45156"/>
                </a:cubicBezTo>
                <a:cubicBezTo>
                  <a:pt x="139229" y="52682"/>
                  <a:pt x="131703" y="54563"/>
                  <a:pt x="124177" y="564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52"/>
          <p:cNvSpPr/>
          <p:nvPr/>
        </p:nvSpPr>
        <p:spPr>
          <a:xfrm>
            <a:off x="6357960" y="3279600"/>
            <a:ext cx="334800" cy="974880"/>
          </a:xfrm>
          <a:custGeom>
            <a:avLst/>
            <a:gdLst/>
            <a:ahLst/>
            <a:rect l="l" t="t" r="r" b="b"/>
            <a:pathLst>
              <a:path w="334904" h="974608">
                <a:moveTo>
                  <a:pt x="0" y="3763"/>
                </a:moveTo>
                <a:cubicBezTo>
                  <a:pt x="92192" y="1881"/>
                  <a:pt x="184385" y="0"/>
                  <a:pt x="203200" y="15052"/>
                </a:cubicBezTo>
                <a:cubicBezTo>
                  <a:pt x="222015" y="30104"/>
                  <a:pt x="129822" y="73378"/>
                  <a:pt x="112889" y="94074"/>
                </a:cubicBezTo>
                <a:cubicBezTo>
                  <a:pt x="95956" y="114770"/>
                  <a:pt x="94074" y="126060"/>
                  <a:pt x="101600" y="139230"/>
                </a:cubicBezTo>
                <a:cubicBezTo>
                  <a:pt x="109126" y="152400"/>
                  <a:pt x="131703" y="150519"/>
                  <a:pt x="158044" y="173097"/>
                </a:cubicBezTo>
                <a:cubicBezTo>
                  <a:pt x="184385" y="195675"/>
                  <a:pt x="231422" y="248356"/>
                  <a:pt x="259644" y="274697"/>
                </a:cubicBezTo>
                <a:cubicBezTo>
                  <a:pt x="287866" y="301038"/>
                  <a:pt x="319852" y="214489"/>
                  <a:pt x="327378" y="331141"/>
                </a:cubicBezTo>
                <a:cubicBezTo>
                  <a:pt x="334904" y="447793"/>
                  <a:pt x="304800" y="974608"/>
                  <a:pt x="304800" y="974608"/>
                </a:cubicBezTo>
                <a:lnTo>
                  <a:pt x="304800" y="9746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153"/>
          <p:cNvSpPr/>
          <p:nvPr/>
        </p:nvSpPr>
        <p:spPr>
          <a:xfrm>
            <a:off x="6585120" y="3746520"/>
            <a:ext cx="66600" cy="507960"/>
          </a:xfrm>
          <a:custGeom>
            <a:avLst/>
            <a:gdLst/>
            <a:ahLst/>
            <a:rect l="l" t="t" r="r" b="b"/>
            <a:pathLst>
              <a:path w="65851" h="508000">
                <a:moveTo>
                  <a:pt x="65851" y="0"/>
                </a:moveTo>
                <a:cubicBezTo>
                  <a:pt x="42332" y="15992"/>
                  <a:pt x="18814" y="31985"/>
                  <a:pt x="9407" y="101600"/>
                </a:cubicBezTo>
                <a:cubicBezTo>
                  <a:pt x="0" y="171215"/>
                  <a:pt x="3763" y="349956"/>
                  <a:pt x="9407" y="417689"/>
                </a:cubicBezTo>
                <a:cubicBezTo>
                  <a:pt x="15051" y="485422"/>
                  <a:pt x="43273" y="508000"/>
                  <a:pt x="43273" y="508000"/>
                </a:cubicBezTo>
                <a:lnTo>
                  <a:pt x="43273" y="5080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54"/>
          <p:cNvSpPr/>
          <p:nvPr/>
        </p:nvSpPr>
        <p:spPr>
          <a:xfrm>
            <a:off x="6640560" y="3666960"/>
            <a:ext cx="382680" cy="609840"/>
          </a:xfrm>
          <a:custGeom>
            <a:avLst/>
            <a:gdLst/>
            <a:ahLst/>
            <a:rect l="l" t="t" r="r" b="b"/>
            <a:pathLst>
              <a:path w="383822" h="609600">
                <a:moveTo>
                  <a:pt x="383822" y="0"/>
                </a:moveTo>
                <a:cubicBezTo>
                  <a:pt x="348074" y="107244"/>
                  <a:pt x="312326" y="214489"/>
                  <a:pt x="248356" y="316089"/>
                </a:cubicBezTo>
                <a:cubicBezTo>
                  <a:pt x="184386" y="417689"/>
                  <a:pt x="0" y="609600"/>
                  <a:pt x="0" y="609600"/>
                </a:cubicBezTo>
                <a:lnTo>
                  <a:pt x="0" y="6096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55"/>
          <p:cNvSpPr/>
          <p:nvPr/>
        </p:nvSpPr>
        <p:spPr>
          <a:xfrm>
            <a:off x="6278400" y="3768840"/>
            <a:ext cx="351000" cy="422280"/>
          </a:xfrm>
          <a:custGeom>
            <a:avLst/>
            <a:gdLst/>
            <a:ahLst/>
            <a:rect l="l" t="t" r="r" b="b"/>
            <a:pathLst>
              <a:path w="349955" h="421453">
                <a:moveTo>
                  <a:pt x="349955" y="0"/>
                </a:moveTo>
                <a:cubicBezTo>
                  <a:pt x="317970" y="19755"/>
                  <a:pt x="285985" y="39511"/>
                  <a:pt x="270933" y="101600"/>
                </a:cubicBezTo>
                <a:cubicBezTo>
                  <a:pt x="255881" y="163689"/>
                  <a:pt x="269051" y="323615"/>
                  <a:pt x="259644" y="372534"/>
                </a:cubicBezTo>
                <a:cubicBezTo>
                  <a:pt x="250237" y="421453"/>
                  <a:pt x="233304" y="393231"/>
                  <a:pt x="214489" y="395112"/>
                </a:cubicBezTo>
                <a:cubicBezTo>
                  <a:pt x="195674" y="396993"/>
                  <a:pt x="165570" y="387586"/>
                  <a:pt x="146755" y="383823"/>
                </a:cubicBezTo>
                <a:cubicBezTo>
                  <a:pt x="127940" y="380060"/>
                  <a:pt x="116652" y="370653"/>
                  <a:pt x="101600" y="372534"/>
                </a:cubicBezTo>
                <a:cubicBezTo>
                  <a:pt x="86548" y="374415"/>
                  <a:pt x="56444" y="395112"/>
                  <a:pt x="56444" y="395112"/>
                </a:cubicBezTo>
                <a:lnTo>
                  <a:pt x="33866" y="406400"/>
                </a:lnTo>
                <a:lnTo>
                  <a:pt x="33866" y="406400"/>
                </a:lnTo>
                <a:lnTo>
                  <a:pt x="0" y="4064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156"/>
          <p:cNvSpPr/>
          <p:nvPr/>
        </p:nvSpPr>
        <p:spPr>
          <a:xfrm>
            <a:off x="5421240" y="3284640"/>
            <a:ext cx="127080" cy="188640"/>
          </a:xfrm>
          <a:custGeom>
            <a:avLst/>
            <a:gdLst/>
            <a:ahLst/>
            <a:rect l="l" t="t" r="r" b="b"/>
            <a:pathLst>
              <a:path w="127941" h="190029">
                <a:moveTo>
                  <a:pt x="0" y="0"/>
                </a:moveTo>
                <a:cubicBezTo>
                  <a:pt x="48918" y="47037"/>
                  <a:pt x="97837" y="94074"/>
                  <a:pt x="112889" y="124178"/>
                </a:cubicBezTo>
                <a:cubicBezTo>
                  <a:pt x="127941" y="154282"/>
                  <a:pt x="92192" y="171215"/>
                  <a:pt x="90311" y="180622"/>
                </a:cubicBezTo>
                <a:cubicBezTo>
                  <a:pt x="88430" y="190029"/>
                  <a:pt x="95015" y="185325"/>
                  <a:pt x="101600" y="18062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57"/>
          <p:cNvSpPr/>
          <p:nvPr/>
        </p:nvSpPr>
        <p:spPr>
          <a:xfrm>
            <a:off x="5398920" y="3397320"/>
            <a:ext cx="105120" cy="142920"/>
          </a:xfrm>
          <a:custGeom>
            <a:avLst/>
            <a:gdLst/>
            <a:ahLst/>
            <a:rect l="l" t="t" r="r" b="b"/>
            <a:pathLst>
              <a:path w="105363" h="142993">
                <a:moveTo>
                  <a:pt x="0" y="0"/>
                </a:moveTo>
                <a:cubicBezTo>
                  <a:pt x="37629" y="28222"/>
                  <a:pt x="75259" y="56444"/>
                  <a:pt x="90311" y="79022"/>
                </a:cubicBezTo>
                <a:cubicBezTo>
                  <a:pt x="105363" y="101600"/>
                  <a:pt x="92192" y="127941"/>
                  <a:pt x="90311" y="135467"/>
                </a:cubicBezTo>
                <a:cubicBezTo>
                  <a:pt x="88430" y="142993"/>
                  <a:pt x="83726" y="133585"/>
                  <a:pt x="79023" y="12417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58"/>
          <p:cNvSpPr/>
          <p:nvPr/>
        </p:nvSpPr>
        <p:spPr>
          <a:xfrm>
            <a:off x="6558120" y="3340080"/>
            <a:ext cx="93600" cy="147600"/>
          </a:xfrm>
          <a:custGeom>
            <a:avLst/>
            <a:gdLst/>
            <a:ahLst/>
            <a:rect l="l" t="t" r="r" b="b"/>
            <a:pathLst>
              <a:path w="94074" h="146755">
                <a:moveTo>
                  <a:pt x="94074" y="0"/>
                </a:moveTo>
                <a:cubicBezTo>
                  <a:pt x="62089" y="21637"/>
                  <a:pt x="30104" y="43274"/>
                  <a:pt x="15052" y="67733"/>
                </a:cubicBezTo>
                <a:cubicBezTo>
                  <a:pt x="0" y="92192"/>
                  <a:pt x="1881" y="119473"/>
                  <a:pt x="3763" y="14675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9"/>
          <p:cNvSpPr/>
          <p:nvPr/>
        </p:nvSpPr>
        <p:spPr>
          <a:xfrm>
            <a:off x="6600960" y="3419640"/>
            <a:ext cx="118800" cy="112680"/>
          </a:xfrm>
          <a:custGeom>
            <a:avLst/>
            <a:gdLst/>
            <a:ahLst/>
            <a:rect l="l" t="t" r="r" b="b"/>
            <a:pathLst>
              <a:path w="118533" h="112889">
                <a:moveTo>
                  <a:pt x="118533" y="0"/>
                </a:moveTo>
                <a:cubicBezTo>
                  <a:pt x="84666" y="26341"/>
                  <a:pt x="33866" y="63970"/>
                  <a:pt x="16933" y="79022"/>
                </a:cubicBezTo>
                <a:cubicBezTo>
                  <a:pt x="0" y="94074"/>
                  <a:pt x="16933" y="90311"/>
                  <a:pt x="16933" y="90311"/>
                </a:cubicBezTo>
                <a:lnTo>
                  <a:pt x="16933" y="1128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0"/>
          <p:cNvSpPr/>
          <p:nvPr/>
        </p:nvSpPr>
        <p:spPr>
          <a:xfrm>
            <a:off x="5591160" y="5045040"/>
            <a:ext cx="612720" cy="101520"/>
          </a:xfrm>
          <a:custGeom>
            <a:avLst/>
            <a:gdLst/>
            <a:ahLst/>
            <a:rect l="l" t="t" r="r" b="b"/>
            <a:pathLst>
              <a:path w="613363" h="101600">
                <a:moveTo>
                  <a:pt x="0" y="0"/>
                </a:moveTo>
                <a:cubicBezTo>
                  <a:pt x="21637" y="6585"/>
                  <a:pt x="43275" y="13171"/>
                  <a:pt x="56445" y="22578"/>
                </a:cubicBezTo>
                <a:cubicBezTo>
                  <a:pt x="69615" y="31985"/>
                  <a:pt x="50801" y="45155"/>
                  <a:pt x="79023" y="56444"/>
                </a:cubicBezTo>
                <a:cubicBezTo>
                  <a:pt x="107245" y="67733"/>
                  <a:pt x="173097" y="82785"/>
                  <a:pt x="225778" y="90311"/>
                </a:cubicBezTo>
                <a:cubicBezTo>
                  <a:pt x="278460" y="97837"/>
                  <a:pt x="338668" y="101600"/>
                  <a:pt x="395112" y="101600"/>
                </a:cubicBezTo>
                <a:cubicBezTo>
                  <a:pt x="451556" y="101600"/>
                  <a:pt x="528697" y="92192"/>
                  <a:pt x="564445" y="90311"/>
                </a:cubicBezTo>
                <a:cubicBezTo>
                  <a:pt x="600193" y="88430"/>
                  <a:pt x="605837" y="92193"/>
                  <a:pt x="609600" y="90311"/>
                </a:cubicBezTo>
                <a:cubicBezTo>
                  <a:pt x="613363" y="88430"/>
                  <a:pt x="600193" y="83726"/>
                  <a:pt x="587023" y="7902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161"/>
          <p:cNvSpPr/>
          <p:nvPr/>
        </p:nvSpPr>
        <p:spPr>
          <a:xfrm>
            <a:off x="6064200" y="5033880"/>
            <a:ext cx="293760" cy="135000"/>
          </a:xfrm>
          <a:custGeom>
            <a:avLst/>
            <a:gdLst/>
            <a:ahLst/>
            <a:rect l="l" t="t" r="r" b="b"/>
            <a:pathLst>
              <a:path w="293511" h="135467">
                <a:moveTo>
                  <a:pt x="0" y="0"/>
                </a:moveTo>
                <a:lnTo>
                  <a:pt x="293511" y="1354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162"/>
          <p:cNvSpPr/>
          <p:nvPr/>
        </p:nvSpPr>
        <p:spPr>
          <a:xfrm>
            <a:off x="6461280" y="4334040"/>
            <a:ext cx="563400" cy="415800"/>
          </a:xfrm>
          <a:custGeom>
            <a:avLst/>
            <a:gdLst/>
            <a:ahLst/>
            <a:rect l="l" t="t" r="r" b="b"/>
            <a:pathLst>
              <a:path w="562562" h="415807">
                <a:moveTo>
                  <a:pt x="562562" y="191911"/>
                </a:moveTo>
                <a:cubicBezTo>
                  <a:pt x="523051" y="237066"/>
                  <a:pt x="483540" y="282222"/>
                  <a:pt x="438385" y="316089"/>
                </a:cubicBezTo>
                <a:cubicBezTo>
                  <a:pt x="393230" y="349956"/>
                  <a:pt x="342429" y="385704"/>
                  <a:pt x="291629" y="395111"/>
                </a:cubicBezTo>
                <a:cubicBezTo>
                  <a:pt x="240829" y="404518"/>
                  <a:pt x="178740" y="415807"/>
                  <a:pt x="133585" y="372533"/>
                </a:cubicBezTo>
                <a:cubicBezTo>
                  <a:pt x="88430" y="329259"/>
                  <a:pt x="41392" y="197556"/>
                  <a:pt x="20696" y="135467"/>
                </a:cubicBezTo>
                <a:cubicBezTo>
                  <a:pt x="0" y="73378"/>
                  <a:pt x="9407" y="0"/>
                  <a:pt x="9407" y="0"/>
                </a:cubicBezTo>
                <a:lnTo>
                  <a:pt x="940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163"/>
          <p:cNvSpPr/>
          <p:nvPr/>
        </p:nvSpPr>
        <p:spPr>
          <a:xfrm>
            <a:off x="5410080" y="4492800"/>
            <a:ext cx="33480" cy="236520"/>
          </a:xfrm>
          <a:custGeom>
            <a:avLst/>
            <a:gdLst/>
            <a:ahLst/>
            <a:rect l="l" t="t" r="r" b="b"/>
            <a:pathLst>
              <a:path w="33867" h="237067">
                <a:moveTo>
                  <a:pt x="33867" y="237067"/>
                </a:moveTo>
                <a:cubicBezTo>
                  <a:pt x="26341" y="169334"/>
                  <a:pt x="16933" y="67734"/>
                  <a:pt x="11289" y="33867"/>
                </a:cubicBezTo>
                <a:cubicBezTo>
                  <a:pt x="5645" y="0"/>
                  <a:pt x="0" y="33867"/>
                  <a:pt x="0" y="33867"/>
                </a:cubicBezTo>
                <a:lnTo>
                  <a:pt x="0" y="338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164"/>
          <p:cNvSpPr/>
          <p:nvPr/>
        </p:nvSpPr>
        <p:spPr>
          <a:xfrm>
            <a:off x="5229360" y="4581360"/>
            <a:ext cx="191880" cy="339840"/>
          </a:xfrm>
          <a:custGeom>
            <a:avLst/>
            <a:gdLst/>
            <a:ahLst/>
            <a:rect l="l" t="t" r="r" b="b"/>
            <a:pathLst>
              <a:path w="191911" h="338667">
                <a:moveTo>
                  <a:pt x="191911" y="338667"/>
                </a:moveTo>
                <a:cubicBezTo>
                  <a:pt x="160866" y="301037"/>
                  <a:pt x="129822" y="263408"/>
                  <a:pt x="101600" y="214489"/>
                </a:cubicBezTo>
                <a:cubicBezTo>
                  <a:pt x="73378" y="165571"/>
                  <a:pt x="39511" y="80904"/>
                  <a:pt x="22578" y="45156"/>
                </a:cubicBezTo>
                <a:cubicBezTo>
                  <a:pt x="5645" y="9408"/>
                  <a:pt x="2822" y="4704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形标注 165"/>
          <p:cNvSpPr/>
          <p:nvPr/>
        </p:nvSpPr>
        <p:spPr>
          <a:xfrm>
            <a:off x="7072200" y="2500200"/>
            <a:ext cx="1857600" cy="785880"/>
          </a:xfrm>
          <a:prstGeom prst="wedgeEllipseCallout">
            <a:avLst>
              <a:gd name="adj1" fmla="val -51027"/>
              <a:gd name="adj2" fmla="val 4953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6"/>
          <p:cNvSpPr/>
          <p:nvPr/>
        </p:nvSpPr>
        <p:spPr>
          <a:xfrm>
            <a:off x="7429680" y="25718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休息、休息一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4857840" y="3000240"/>
            <a:ext cx="235728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77" name="组合 8253"/>
          <p:cNvGrpSpPr/>
          <p:nvPr/>
        </p:nvGrpSpPr>
        <p:grpSpPr>
          <a:xfrm>
            <a:off x="1071720" y="-2927880"/>
            <a:ext cx="1303200" cy="5428080"/>
            <a:chOff x="1071720" y="-2927880"/>
            <a:chExt cx="1303200" cy="5428080"/>
          </a:xfrm>
        </p:grpSpPr>
        <p:grpSp>
          <p:nvGrpSpPr>
            <p:cNvPr id="278" name="组合 8254"/>
            <p:cNvGrpSpPr/>
            <p:nvPr/>
          </p:nvGrpSpPr>
          <p:grpSpPr>
            <a:xfrm>
              <a:off x="1071720" y="214920"/>
              <a:ext cx="1160640" cy="2285280"/>
              <a:chOff x="1071720" y="214920"/>
              <a:chExt cx="1160640" cy="2285280"/>
            </a:xfrm>
          </p:grpSpPr>
          <p:pic>
            <p:nvPicPr>
              <p:cNvPr id="279" name="Pictur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5200" y="214920"/>
                <a:ext cx="357120" cy="9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732320" y="214920"/>
                <a:ext cx="357120" cy="92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椭圆 95"/>
              <p:cNvSpPr/>
              <p:nvPr/>
            </p:nvSpPr>
            <p:spPr>
              <a:xfrm flipV="1">
                <a:off x="1803960" y="572040"/>
                <a:ext cx="45720" cy="1425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任意多边形 96"/>
              <p:cNvSpPr/>
              <p:nvPr/>
            </p:nvSpPr>
            <p:spPr>
              <a:xfrm>
                <a:off x="1589400" y="643320"/>
                <a:ext cx="71280" cy="178560"/>
              </a:xfrm>
              <a:custGeom>
                <a:avLst/>
                <a:gdLst/>
                <a:ahLst/>
                <a:rect l="l" t="t" r="r" b="b"/>
                <a:pathLst>
                  <a:path w="56445" h="417689">
                    <a:moveTo>
                      <a:pt x="56445" y="0"/>
                    </a:moveTo>
                    <a:cubicBezTo>
                      <a:pt x="52682" y="90311"/>
                      <a:pt x="55138" y="181096"/>
                      <a:pt x="45156" y="270933"/>
                    </a:cubicBezTo>
                    <a:cubicBezTo>
                      <a:pt x="43658" y="284418"/>
                      <a:pt x="28088" y="292402"/>
                      <a:pt x="22578" y="304800"/>
                    </a:cubicBezTo>
                    <a:cubicBezTo>
                      <a:pt x="12912" y="326548"/>
                      <a:pt x="0" y="372533"/>
                      <a:pt x="0" y="372533"/>
                    </a:cubicBezTo>
                    <a:cubicBezTo>
                      <a:pt x="3763" y="383822"/>
                      <a:pt x="2875" y="397986"/>
                      <a:pt x="11289" y="406400"/>
                    </a:cubicBezTo>
                    <a:cubicBezTo>
                      <a:pt x="19703" y="414814"/>
                      <a:pt x="45156" y="417689"/>
                      <a:pt x="45156" y="4176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任意多边形 97"/>
              <p:cNvSpPr/>
              <p:nvPr/>
            </p:nvSpPr>
            <p:spPr>
              <a:xfrm flipV="1" rot="7036200">
                <a:off x="1604160" y="776520"/>
                <a:ext cx="255960" cy="189720"/>
              </a:xfrm>
              <a:custGeom>
                <a:avLst/>
                <a:gdLst/>
                <a:ahLst/>
                <a:rect l="l" t="t" r="r" b="b"/>
                <a:pathLst>
                  <a:path w="267171" h="269052">
                    <a:moveTo>
                      <a:pt x="0" y="257763"/>
                    </a:moveTo>
                    <a:cubicBezTo>
                      <a:pt x="44215" y="263407"/>
                      <a:pt x="88430" y="269052"/>
                      <a:pt x="124178" y="257763"/>
                    </a:cubicBezTo>
                    <a:cubicBezTo>
                      <a:pt x="159926" y="246474"/>
                      <a:pt x="191911" y="210726"/>
                      <a:pt x="214489" y="190030"/>
                    </a:cubicBezTo>
                    <a:cubicBezTo>
                      <a:pt x="237067" y="169334"/>
                      <a:pt x="252119" y="161807"/>
                      <a:pt x="259645" y="133585"/>
                    </a:cubicBezTo>
                    <a:cubicBezTo>
                      <a:pt x="267171" y="105363"/>
                      <a:pt x="261526" y="41392"/>
                      <a:pt x="259645" y="20696"/>
                    </a:cubicBezTo>
                    <a:cubicBezTo>
                      <a:pt x="257764" y="0"/>
                      <a:pt x="253060" y="4703"/>
                      <a:pt x="248356" y="9407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98"/>
              <p:cNvSpPr/>
              <p:nvPr/>
            </p:nvSpPr>
            <p:spPr>
              <a:xfrm flipV="1">
                <a:off x="1518120" y="572040"/>
                <a:ext cx="45720" cy="1425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任意多边形 99"/>
              <p:cNvSpPr/>
              <p:nvPr/>
            </p:nvSpPr>
            <p:spPr>
              <a:xfrm>
                <a:off x="1154160" y="1106640"/>
                <a:ext cx="466560" cy="1139760"/>
              </a:xfrm>
              <a:custGeom>
                <a:avLst/>
                <a:gdLst/>
                <a:ahLst/>
                <a:rect l="l" t="t" r="r" b="b"/>
                <a:pathLst>
                  <a:path w="466607" h="1140178">
                    <a:moveTo>
                      <a:pt x="466607" y="0"/>
                    </a:moveTo>
                    <a:cubicBezTo>
                      <a:pt x="435562" y="941"/>
                      <a:pt x="404518" y="1882"/>
                      <a:pt x="376296" y="22578"/>
                    </a:cubicBezTo>
                    <a:cubicBezTo>
                      <a:pt x="348074" y="43274"/>
                      <a:pt x="321733" y="75260"/>
                      <a:pt x="297274" y="124178"/>
                    </a:cubicBezTo>
                    <a:cubicBezTo>
                      <a:pt x="272815" y="173097"/>
                      <a:pt x="252119" y="246474"/>
                      <a:pt x="229541" y="316089"/>
                    </a:cubicBezTo>
                    <a:cubicBezTo>
                      <a:pt x="206963" y="385704"/>
                      <a:pt x="184385" y="464726"/>
                      <a:pt x="161807" y="541867"/>
                    </a:cubicBezTo>
                    <a:cubicBezTo>
                      <a:pt x="139229" y="619008"/>
                      <a:pt x="118533" y="694266"/>
                      <a:pt x="94074" y="778933"/>
                    </a:cubicBezTo>
                    <a:cubicBezTo>
                      <a:pt x="69615" y="863600"/>
                      <a:pt x="30104" y="989660"/>
                      <a:pt x="15052" y="1049867"/>
                    </a:cubicBezTo>
                    <a:cubicBezTo>
                      <a:pt x="0" y="1110075"/>
                      <a:pt x="3763" y="1140178"/>
                      <a:pt x="3763" y="1140178"/>
                    </a:cubicBezTo>
                    <a:lnTo>
                      <a:pt x="3763" y="1140178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任意多边形 100"/>
              <p:cNvSpPr/>
              <p:nvPr/>
            </p:nvSpPr>
            <p:spPr>
              <a:xfrm>
                <a:off x="1152360" y="2212920"/>
                <a:ext cx="355320" cy="161640"/>
              </a:xfrm>
              <a:custGeom>
                <a:avLst/>
                <a:gdLst/>
                <a:ahLst/>
                <a:rect l="l" t="t" r="r" b="b"/>
                <a:pathLst>
                  <a:path w="355599" h="161808">
                    <a:moveTo>
                      <a:pt x="5644" y="0"/>
                    </a:moveTo>
                    <a:cubicBezTo>
                      <a:pt x="2822" y="22578"/>
                      <a:pt x="0" y="45156"/>
                      <a:pt x="5644" y="56445"/>
                    </a:cubicBezTo>
                    <a:cubicBezTo>
                      <a:pt x="11288" y="67734"/>
                      <a:pt x="30103" y="62090"/>
                      <a:pt x="39510" y="67734"/>
                    </a:cubicBezTo>
                    <a:cubicBezTo>
                      <a:pt x="48917" y="73378"/>
                      <a:pt x="45155" y="82785"/>
                      <a:pt x="62088" y="90311"/>
                    </a:cubicBezTo>
                    <a:cubicBezTo>
                      <a:pt x="79021" y="97837"/>
                      <a:pt x="141110" y="112889"/>
                      <a:pt x="141110" y="112889"/>
                    </a:cubicBezTo>
                    <a:cubicBezTo>
                      <a:pt x="167451" y="120415"/>
                      <a:pt x="191911" y="127941"/>
                      <a:pt x="220133" y="135467"/>
                    </a:cubicBezTo>
                    <a:cubicBezTo>
                      <a:pt x="248355" y="142993"/>
                      <a:pt x="287866" y="154282"/>
                      <a:pt x="310444" y="158045"/>
                    </a:cubicBezTo>
                    <a:cubicBezTo>
                      <a:pt x="333022" y="161808"/>
                      <a:pt x="355599" y="158045"/>
                      <a:pt x="355599" y="158045"/>
                    </a:cubicBezTo>
                    <a:lnTo>
                      <a:pt x="355599" y="15804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任意多边形 101"/>
              <p:cNvSpPr/>
              <p:nvPr/>
            </p:nvSpPr>
            <p:spPr>
              <a:xfrm>
                <a:off x="1767600" y="1108440"/>
                <a:ext cx="464760" cy="1177560"/>
              </a:xfrm>
              <a:custGeom>
                <a:avLst/>
                <a:gdLst/>
                <a:ahLst/>
                <a:rect l="l" t="t" r="r" b="b"/>
                <a:pathLst>
                  <a:path w="406400" h="1053629">
                    <a:moveTo>
                      <a:pt x="0" y="9407"/>
                    </a:moveTo>
                    <a:cubicBezTo>
                      <a:pt x="28222" y="4703"/>
                      <a:pt x="56444" y="0"/>
                      <a:pt x="79022" y="9407"/>
                    </a:cubicBezTo>
                    <a:cubicBezTo>
                      <a:pt x="101600" y="18814"/>
                      <a:pt x="116651" y="39510"/>
                      <a:pt x="135466" y="65851"/>
                    </a:cubicBezTo>
                    <a:cubicBezTo>
                      <a:pt x="154281" y="92192"/>
                      <a:pt x="169333" y="118532"/>
                      <a:pt x="191911" y="167451"/>
                    </a:cubicBezTo>
                    <a:cubicBezTo>
                      <a:pt x="214489" y="216370"/>
                      <a:pt x="246474" y="291630"/>
                      <a:pt x="270933" y="359363"/>
                    </a:cubicBezTo>
                    <a:cubicBezTo>
                      <a:pt x="295392" y="427096"/>
                      <a:pt x="321733" y="506118"/>
                      <a:pt x="338666" y="573851"/>
                    </a:cubicBezTo>
                    <a:cubicBezTo>
                      <a:pt x="355599" y="641584"/>
                      <a:pt x="363126" y="705556"/>
                      <a:pt x="372533" y="765763"/>
                    </a:cubicBezTo>
                    <a:cubicBezTo>
                      <a:pt x="381940" y="825970"/>
                      <a:pt x="406400" y="889941"/>
                      <a:pt x="395111" y="935096"/>
                    </a:cubicBezTo>
                    <a:cubicBezTo>
                      <a:pt x="383822" y="980252"/>
                      <a:pt x="323615" y="1019763"/>
                      <a:pt x="304800" y="1036696"/>
                    </a:cubicBezTo>
                    <a:cubicBezTo>
                      <a:pt x="285985" y="1053629"/>
                      <a:pt x="284103" y="1045162"/>
                      <a:pt x="282222" y="10366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任意多边形 102"/>
              <p:cNvSpPr/>
              <p:nvPr/>
            </p:nvSpPr>
            <p:spPr>
              <a:xfrm>
                <a:off x="1508040" y="1591920"/>
                <a:ext cx="45000" cy="823680"/>
              </a:xfrm>
              <a:custGeom>
                <a:avLst/>
                <a:gdLst/>
                <a:ahLst/>
                <a:rect l="l" t="t" r="r" b="b"/>
                <a:pathLst>
                  <a:path w="45156" h="824089">
                    <a:moveTo>
                      <a:pt x="45156" y="0"/>
                    </a:moveTo>
                    <a:cubicBezTo>
                      <a:pt x="42333" y="16933"/>
                      <a:pt x="39511" y="33867"/>
                      <a:pt x="33867" y="90311"/>
                    </a:cubicBezTo>
                    <a:cubicBezTo>
                      <a:pt x="28223" y="146755"/>
                      <a:pt x="16933" y="235186"/>
                      <a:pt x="11289" y="338667"/>
                    </a:cubicBezTo>
                    <a:cubicBezTo>
                      <a:pt x="5645" y="442148"/>
                      <a:pt x="0" y="639704"/>
                      <a:pt x="0" y="711200"/>
                    </a:cubicBezTo>
                    <a:cubicBezTo>
                      <a:pt x="0" y="782696"/>
                      <a:pt x="9408" y="754475"/>
                      <a:pt x="11289" y="767645"/>
                    </a:cubicBezTo>
                    <a:cubicBezTo>
                      <a:pt x="13171" y="780816"/>
                      <a:pt x="11289" y="790223"/>
                      <a:pt x="11289" y="790223"/>
                    </a:cubicBezTo>
                    <a:lnTo>
                      <a:pt x="11289" y="824089"/>
                    </a:lnTo>
                    <a:lnTo>
                      <a:pt x="11289" y="82408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任意多边形 103"/>
              <p:cNvSpPr/>
              <p:nvPr/>
            </p:nvSpPr>
            <p:spPr>
              <a:xfrm>
                <a:off x="1797840" y="1251360"/>
                <a:ext cx="297000" cy="1017360"/>
              </a:xfrm>
              <a:custGeom>
                <a:avLst/>
                <a:gdLst/>
                <a:ahLst/>
                <a:rect l="l" t="t" r="r" b="b"/>
                <a:pathLst>
                  <a:path w="297275" h="1017882">
                    <a:moveTo>
                      <a:pt x="297275" y="1017882"/>
                    </a:moveTo>
                    <a:cubicBezTo>
                      <a:pt x="278460" y="912519"/>
                      <a:pt x="259645" y="807156"/>
                      <a:pt x="240830" y="724371"/>
                    </a:cubicBezTo>
                    <a:cubicBezTo>
                      <a:pt x="222015" y="641586"/>
                      <a:pt x="208845" y="602075"/>
                      <a:pt x="184386" y="521171"/>
                    </a:cubicBezTo>
                    <a:cubicBezTo>
                      <a:pt x="159927" y="440267"/>
                      <a:pt x="122297" y="319852"/>
                      <a:pt x="94075" y="238948"/>
                    </a:cubicBezTo>
                    <a:cubicBezTo>
                      <a:pt x="65853" y="158044"/>
                      <a:pt x="30104" y="71496"/>
                      <a:pt x="15052" y="35748"/>
                    </a:cubicBezTo>
                    <a:cubicBezTo>
                      <a:pt x="0" y="0"/>
                      <a:pt x="3763" y="26340"/>
                      <a:pt x="3763" y="24459"/>
                    </a:cubicBezTo>
                    <a:cubicBezTo>
                      <a:pt x="3763" y="22578"/>
                      <a:pt x="9407" y="23518"/>
                      <a:pt x="15052" y="2445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任意多边形 104"/>
              <p:cNvSpPr/>
              <p:nvPr/>
            </p:nvSpPr>
            <p:spPr>
              <a:xfrm>
                <a:off x="1508040" y="2253960"/>
                <a:ext cx="581400" cy="246240"/>
              </a:xfrm>
              <a:custGeom>
                <a:avLst/>
                <a:gdLst/>
                <a:ahLst/>
                <a:rect l="l" t="t" r="r" b="b"/>
                <a:pathLst>
                  <a:path w="598312" h="237067">
                    <a:moveTo>
                      <a:pt x="0" y="116652"/>
                    </a:moveTo>
                    <a:cubicBezTo>
                      <a:pt x="2822" y="138289"/>
                      <a:pt x="5645" y="159926"/>
                      <a:pt x="11289" y="173096"/>
                    </a:cubicBezTo>
                    <a:cubicBezTo>
                      <a:pt x="16933" y="186266"/>
                      <a:pt x="20697" y="188148"/>
                      <a:pt x="33867" y="195674"/>
                    </a:cubicBezTo>
                    <a:cubicBezTo>
                      <a:pt x="47037" y="203200"/>
                      <a:pt x="69615" y="212608"/>
                      <a:pt x="90311" y="218252"/>
                    </a:cubicBezTo>
                    <a:cubicBezTo>
                      <a:pt x="111007" y="223897"/>
                      <a:pt x="129823" y="227660"/>
                      <a:pt x="158045" y="229541"/>
                    </a:cubicBezTo>
                    <a:cubicBezTo>
                      <a:pt x="186267" y="231422"/>
                      <a:pt x="216371" y="237067"/>
                      <a:pt x="259645" y="229541"/>
                    </a:cubicBezTo>
                    <a:cubicBezTo>
                      <a:pt x="302919" y="222015"/>
                      <a:pt x="372534" y="199437"/>
                      <a:pt x="417689" y="184385"/>
                    </a:cubicBezTo>
                    <a:cubicBezTo>
                      <a:pt x="462845" y="169333"/>
                      <a:pt x="502356" y="156162"/>
                      <a:pt x="530578" y="139229"/>
                    </a:cubicBezTo>
                    <a:cubicBezTo>
                      <a:pt x="558800" y="122296"/>
                      <a:pt x="575734" y="101600"/>
                      <a:pt x="587023" y="82785"/>
                    </a:cubicBezTo>
                    <a:cubicBezTo>
                      <a:pt x="598312" y="63970"/>
                      <a:pt x="598311" y="39511"/>
                      <a:pt x="598311" y="26341"/>
                    </a:cubicBezTo>
                    <a:cubicBezTo>
                      <a:pt x="598311" y="13171"/>
                      <a:pt x="587023" y="7526"/>
                      <a:pt x="587023" y="3763"/>
                    </a:cubicBezTo>
                    <a:cubicBezTo>
                      <a:pt x="587023" y="0"/>
                      <a:pt x="592667" y="1881"/>
                      <a:pt x="598311" y="37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任意多边形 105"/>
              <p:cNvSpPr/>
              <p:nvPr/>
            </p:nvSpPr>
            <p:spPr>
              <a:xfrm>
                <a:off x="1071720" y="1693440"/>
                <a:ext cx="221760" cy="455040"/>
              </a:xfrm>
              <a:custGeom>
                <a:avLst/>
                <a:gdLst/>
                <a:ahLst/>
                <a:rect l="l" t="t" r="r" b="b"/>
                <a:pathLst>
                  <a:path w="222015" h="455319">
                    <a:moveTo>
                      <a:pt x="222015" y="0"/>
                    </a:moveTo>
                    <a:cubicBezTo>
                      <a:pt x="141111" y="156163"/>
                      <a:pt x="60208" y="312327"/>
                      <a:pt x="30104" y="383823"/>
                    </a:cubicBezTo>
                    <a:cubicBezTo>
                      <a:pt x="0" y="455319"/>
                      <a:pt x="37630" y="417689"/>
                      <a:pt x="41393" y="428978"/>
                    </a:cubicBezTo>
                    <a:cubicBezTo>
                      <a:pt x="45156" y="440267"/>
                      <a:pt x="43275" y="447793"/>
                      <a:pt x="52682" y="451556"/>
                    </a:cubicBezTo>
                    <a:cubicBezTo>
                      <a:pt x="62089" y="455319"/>
                      <a:pt x="97838" y="451556"/>
                      <a:pt x="97838" y="451556"/>
                    </a:cubicBezTo>
                    <a:lnTo>
                      <a:pt x="97838" y="45155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714320" y="-213480"/>
              <a:ext cx="720" cy="427680"/>
              <a:chOff x="1714320" y="-213480"/>
              <a:chExt cx="720" cy="427680"/>
            </a:xfrm>
          </p:grpSpPr>
          <p:sp>
            <p:nvSpPr>
              <p:cNvPr id="293" name="直接连接符 312"/>
              <p:cNvSpPr/>
              <p:nvPr/>
            </p:nvSpPr>
            <p:spPr>
              <a:xfrm flipH="1">
                <a:off x="1714320" y="-213480"/>
                <a:ext cx="720" cy="427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 rot="5400000">
                <a:off x="1500840" y="0"/>
                <a:ext cx="42768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8269"/>
            <p:cNvGrpSpPr/>
            <p:nvPr/>
          </p:nvGrpSpPr>
          <p:grpSpPr>
            <a:xfrm>
              <a:off x="1214280" y="-2927880"/>
              <a:ext cx="1160640" cy="2285640"/>
              <a:chOff x="1214280" y="-2927880"/>
              <a:chExt cx="1160640" cy="2285640"/>
            </a:xfrm>
          </p:grpSpPr>
          <p:pic>
            <p:nvPicPr>
              <p:cNvPr id="296" name="Picture 7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1714320" y="-1570680"/>
                <a:ext cx="357120" cy="9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Picture 5" descr="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1357200" y="-1570680"/>
                <a:ext cx="357120" cy="92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椭圆 333"/>
              <p:cNvSpPr/>
              <p:nvPr/>
            </p:nvSpPr>
            <p:spPr>
              <a:xfrm flipV="1" rot="10800000">
                <a:off x="1596960" y="-1142280"/>
                <a:ext cx="4572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任意多边形 334"/>
              <p:cNvSpPr/>
              <p:nvPr/>
            </p:nvSpPr>
            <p:spPr>
              <a:xfrm rot="10800000">
                <a:off x="1785960" y="-1249560"/>
                <a:ext cx="71280" cy="178560"/>
              </a:xfrm>
              <a:custGeom>
                <a:avLst/>
                <a:gdLst/>
                <a:ahLst/>
                <a:rect l="l" t="t" r="r" b="b"/>
                <a:pathLst>
                  <a:path w="56445" h="417689">
                    <a:moveTo>
                      <a:pt x="56445" y="0"/>
                    </a:moveTo>
                    <a:cubicBezTo>
                      <a:pt x="52682" y="90311"/>
                      <a:pt x="55138" y="181096"/>
                      <a:pt x="45156" y="270933"/>
                    </a:cubicBezTo>
                    <a:cubicBezTo>
                      <a:pt x="43658" y="284418"/>
                      <a:pt x="28088" y="292402"/>
                      <a:pt x="22578" y="304800"/>
                    </a:cubicBezTo>
                    <a:cubicBezTo>
                      <a:pt x="12912" y="326548"/>
                      <a:pt x="0" y="372533"/>
                      <a:pt x="0" y="372533"/>
                    </a:cubicBezTo>
                    <a:cubicBezTo>
                      <a:pt x="3763" y="383822"/>
                      <a:pt x="2875" y="397986"/>
                      <a:pt x="11289" y="406400"/>
                    </a:cubicBezTo>
                    <a:cubicBezTo>
                      <a:pt x="19703" y="414814"/>
                      <a:pt x="45156" y="417689"/>
                      <a:pt x="45156" y="417689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任意多边形 335"/>
              <p:cNvSpPr/>
              <p:nvPr/>
            </p:nvSpPr>
            <p:spPr>
              <a:xfrm flipV="1" rot="17836200">
                <a:off x="1586520" y="-1394640"/>
                <a:ext cx="255960" cy="189720"/>
              </a:xfrm>
              <a:custGeom>
                <a:avLst/>
                <a:gdLst/>
                <a:ahLst/>
                <a:rect l="l" t="t" r="r" b="b"/>
                <a:pathLst>
                  <a:path w="267171" h="269052">
                    <a:moveTo>
                      <a:pt x="0" y="257763"/>
                    </a:moveTo>
                    <a:cubicBezTo>
                      <a:pt x="44215" y="263407"/>
                      <a:pt x="88430" y="269052"/>
                      <a:pt x="124178" y="257763"/>
                    </a:cubicBezTo>
                    <a:cubicBezTo>
                      <a:pt x="159926" y="246474"/>
                      <a:pt x="191911" y="210726"/>
                      <a:pt x="214489" y="190030"/>
                    </a:cubicBezTo>
                    <a:cubicBezTo>
                      <a:pt x="237067" y="169334"/>
                      <a:pt x="252119" y="161807"/>
                      <a:pt x="259645" y="133585"/>
                    </a:cubicBezTo>
                    <a:cubicBezTo>
                      <a:pt x="267171" y="105363"/>
                      <a:pt x="261526" y="41392"/>
                      <a:pt x="259645" y="20696"/>
                    </a:cubicBezTo>
                    <a:cubicBezTo>
                      <a:pt x="257764" y="0"/>
                      <a:pt x="253060" y="4703"/>
                      <a:pt x="248356" y="9407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椭圆 336"/>
              <p:cNvSpPr/>
              <p:nvPr/>
            </p:nvSpPr>
            <p:spPr>
              <a:xfrm flipV="1" rot="10800000">
                <a:off x="1882800" y="-1142280"/>
                <a:ext cx="45720" cy="14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任意多边形 337"/>
              <p:cNvSpPr/>
              <p:nvPr/>
            </p:nvSpPr>
            <p:spPr>
              <a:xfrm rot="10800000">
                <a:off x="1825920" y="-2674080"/>
                <a:ext cx="466560" cy="1139760"/>
              </a:xfrm>
              <a:custGeom>
                <a:avLst/>
                <a:gdLst/>
                <a:ahLst/>
                <a:rect l="l" t="t" r="r" b="b"/>
                <a:pathLst>
                  <a:path w="466607" h="1140178">
                    <a:moveTo>
                      <a:pt x="466607" y="0"/>
                    </a:moveTo>
                    <a:cubicBezTo>
                      <a:pt x="435562" y="941"/>
                      <a:pt x="404518" y="1882"/>
                      <a:pt x="376296" y="22578"/>
                    </a:cubicBezTo>
                    <a:cubicBezTo>
                      <a:pt x="348074" y="43274"/>
                      <a:pt x="321733" y="75260"/>
                      <a:pt x="297274" y="124178"/>
                    </a:cubicBezTo>
                    <a:cubicBezTo>
                      <a:pt x="272815" y="173097"/>
                      <a:pt x="252119" y="246474"/>
                      <a:pt x="229541" y="316089"/>
                    </a:cubicBezTo>
                    <a:cubicBezTo>
                      <a:pt x="206963" y="385704"/>
                      <a:pt x="184385" y="464726"/>
                      <a:pt x="161807" y="541867"/>
                    </a:cubicBezTo>
                    <a:cubicBezTo>
                      <a:pt x="139229" y="619008"/>
                      <a:pt x="118533" y="694266"/>
                      <a:pt x="94074" y="778933"/>
                    </a:cubicBezTo>
                    <a:cubicBezTo>
                      <a:pt x="69615" y="863600"/>
                      <a:pt x="30104" y="989660"/>
                      <a:pt x="15052" y="1049867"/>
                    </a:cubicBezTo>
                    <a:cubicBezTo>
                      <a:pt x="0" y="1110075"/>
                      <a:pt x="3763" y="1140178"/>
                      <a:pt x="3763" y="1140178"/>
                    </a:cubicBezTo>
                    <a:lnTo>
                      <a:pt x="3763" y="1140178"/>
                    </a:ln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任意多边形 338"/>
              <p:cNvSpPr/>
              <p:nvPr/>
            </p:nvSpPr>
            <p:spPr>
              <a:xfrm rot="10800000">
                <a:off x="1938960" y="-2802240"/>
                <a:ext cx="355320" cy="161640"/>
              </a:xfrm>
              <a:custGeom>
                <a:avLst/>
                <a:gdLst/>
                <a:ahLst/>
                <a:rect l="l" t="t" r="r" b="b"/>
                <a:pathLst>
                  <a:path w="355599" h="161808">
                    <a:moveTo>
                      <a:pt x="5644" y="0"/>
                    </a:moveTo>
                    <a:cubicBezTo>
                      <a:pt x="2822" y="22578"/>
                      <a:pt x="0" y="45156"/>
                      <a:pt x="5644" y="56445"/>
                    </a:cubicBezTo>
                    <a:cubicBezTo>
                      <a:pt x="11288" y="67734"/>
                      <a:pt x="30103" y="62090"/>
                      <a:pt x="39510" y="67734"/>
                    </a:cubicBezTo>
                    <a:cubicBezTo>
                      <a:pt x="48917" y="73378"/>
                      <a:pt x="45155" y="82785"/>
                      <a:pt x="62088" y="90311"/>
                    </a:cubicBezTo>
                    <a:cubicBezTo>
                      <a:pt x="79021" y="97837"/>
                      <a:pt x="141110" y="112889"/>
                      <a:pt x="141110" y="112889"/>
                    </a:cubicBezTo>
                    <a:cubicBezTo>
                      <a:pt x="167451" y="120415"/>
                      <a:pt x="191911" y="127941"/>
                      <a:pt x="220133" y="135467"/>
                    </a:cubicBezTo>
                    <a:cubicBezTo>
                      <a:pt x="248355" y="142993"/>
                      <a:pt x="287866" y="154282"/>
                      <a:pt x="310444" y="158045"/>
                    </a:cubicBezTo>
                    <a:cubicBezTo>
                      <a:pt x="333022" y="161808"/>
                      <a:pt x="355599" y="158045"/>
                      <a:pt x="355599" y="158045"/>
                    </a:cubicBezTo>
                    <a:lnTo>
                      <a:pt x="355599" y="158045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任意多边形 339"/>
              <p:cNvSpPr/>
              <p:nvPr/>
            </p:nvSpPr>
            <p:spPr>
              <a:xfrm rot="10800000">
                <a:off x="1214280" y="-2713680"/>
                <a:ext cx="464760" cy="1177560"/>
              </a:xfrm>
              <a:custGeom>
                <a:avLst/>
                <a:gdLst/>
                <a:ahLst/>
                <a:rect l="l" t="t" r="r" b="b"/>
                <a:pathLst>
                  <a:path w="406400" h="1053629">
                    <a:moveTo>
                      <a:pt x="0" y="9407"/>
                    </a:moveTo>
                    <a:cubicBezTo>
                      <a:pt x="28222" y="4703"/>
                      <a:pt x="56444" y="0"/>
                      <a:pt x="79022" y="9407"/>
                    </a:cubicBezTo>
                    <a:cubicBezTo>
                      <a:pt x="101600" y="18814"/>
                      <a:pt x="116651" y="39510"/>
                      <a:pt x="135466" y="65851"/>
                    </a:cubicBezTo>
                    <a:cubicBezTo>
                      <a:pt x="154281" y="92192"/>
                      <a:pt x="169333" y="118532"/>
                      <a:pt x="191911" y="167451"/>
                    </a:cubicBezTo>
                    <a:cubicBezTo>
                      <a:pt x="214489" y="216370"/>
                      <a:pt x="246474" y="291630"/>
                      <a:pt x="270933" y="359363"/>
                    </a:cubicBezTo>
                    <a:cubicBezTo>
                      <a:pt x="295392" y="427096"/>
                      <a:pt x="321733" y="506118"/>
                      <a:pt x="338666" y="573851"/>
                    </a:cubicBezTo>
                    <a:cubicBezTo>
                      <a:pt x="355599" y="641584"/>
                      <a:pt x="363126" y="705556"/>
                      <a:pt x="372533" y="765763"/>
                    </a:cubicBezTo>
                    <a:cubicBezTo>
                      <a:pt x="381940" y="825970"/>
                      <a:pt x="406400" y="889941"/>
                      <a:pt x="395111" y="935096"/>
                    </a:cubicBezTo>
                    <a:cubicBezTo>
                      <a:pt x="383822" y="980252"/>
                      <a:pt x="323615" y="1019763"/>
                      <a:pt x="304800" y="1036696"/>
                    </a:cubicBezTo>
                    <a:cubicBezTo>
                      <a:pt x="285985" y="1053629"/>
                      <a:pt x="284103" y="1045162"/>
                      <a:pt x="282222" y="1036696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任意多边形 340"/>
              <p:cNvSpPr/>
              <p:nvPr/>
            </p:nvSpPr>
            <p:spPr>
              <a:xfrm rot="10800000">
                <a:off x="1893600" y="-2843280"/>
                <a:ext cx="45000" cy="823680"/>
              </a:xfrm>
              <a:custGeom>
                <a:avLst/>
                <a:gdLst/>
                <a:ahLst/>
                <a:rect l="l" t="t" r="r" b="b"/>
                <a:pathLst>
                  <a:path w="45156" h="824089">
                    <a:moveTo>
                      <a:pt x="45156" y="0"/>
                    </a:moveTo>
                    <a:cubicBezTo>
                      <a:pt x="42333" y="16933"/>
                      <a:pt x="39511" y="33867"/>
                      <a:pt x="33867" y="90311"/>
                    </a:cubicBezTo>
                    <a:cubicBezTo>
                      <a:pt x="28223" y="146755"/>
                      <a:pt x="16933" y="235186"/>
                      <a:pt x="11289" y="338667"/>
                    </a:cubicBezTo>
                    <a:cubicBezTo>
                      <a:pt x="5645" y="442148"/>
                      <a:pt x="0" y="639704"/>
                      <a:pt x="0" y="711200"/>
                    </a:cubicBezTo>
                    <a:cubicBezTo>
                      <a:pt x="0" y="782696"/>
                      <a:pt x="9408" y="754475"/>
                      <a:pt x="11289" y="767645"/>
                    </a:cubicBezTo>
                    <a:cubicBezTo>
                      <a:pt x="13171" y="780816"/>
                      <a:pt x="11289" y="790223"/>
                      <a:pt x="11289" y="790223"/>
                    </a:cubicBezTo>
                    <a:lnTo>
                      <a:pt x="11289" y="824089"/>
                    </a:lnTo>
                    <a:lnTo>
                      <a:pt x="11289" y="824089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任意多边形 341"/>
              <p:cNvSpPr/>
              <p:nvPr/>
            </p:nvSpPr>
            <p:spPr>
              <a:xfrm rot="10800000">
                <a:off x="1351800" y="-2696400"/>
                <a:ext cx="297000" cy="1017360"/>
              </a:xfrm>
              <a:custGeom>
                <a:avLst/>
                <a:gdLst/>
                <a:ahLst/>
                <a:rect l="l" t="t" r="r" b="b"/>
                <a:pathLst>
                  <a:path w="297275" h="1017882">
                    <a:moveTo>
                      <a:pt x="297275" y="1017882"/>
                    </a:moveTo>
                    <a:cubicBezTo>
                      <a:pt x="278460" y="912519"/>
                      <a:pt x="259645" y="807156"/>
                      <a:pt x="240830" y="724371"/>
                    </a:cubicBezTo>
                    <a:cubicBezTo>
                      <a:pt x="222015" y="641586"/>
                      <a:pt x="208845" y="602075"/>
                      <a:pt x="184386" y="521171"/>
                    </a:cubicBezTo>
                    <a:cubicBezTo>
                      <a:pt x="159927" y="440267"/>
                      <a:pt x="122297" y="319852"/>
                      <a:pt x="94075" y="238948"/>
                    </a:cubicBezTo>
                    <a:cubicBezTo>
                      <a:pt x="65853" y="158044"/>
                      <a:pt x="30104" y="71496"/>
                      <a:pt x="15052" y="35748"/>
                    </a:cubicBezTo>
                    <a:cubicBezTo>
                      <a:pt x="0" y="0"/>
                      <a:pt x="3763" y="26340"/>
                      <a:pt x="3763" y="24459"/>
                    </a:cubicBezTo>
                    <a:cubicBezTo>
                      <a:pt x="3763" y="22578"/>
                      <a:pt x="9407" y="23518"/>
                      <a:pt x="15052" y="2445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任意多边形 342"/>
              <p:cNvSpPr/>
              <p:nvPr/>
            </p:nvSpPr>
            <p:spPr>
              <a:xfrm rot="10800000">
                <a:off x="1357200" y="-2927880"/>
                <a:ext cx="581400" cy="246240"/>
              </a:xfrm>
              <a:custGeom>
                <a:avLst/>
                <a:gdLst/>
                <a:ahLst/>
                <a:rect l="l" t="t" r="r" b="b"/>
                <a:pathLst>
                  <a:path w="598312" h="237067">
                    <a:moveTo>
                      <a:pt x="0" y="116652"/>
                    </a:moveTo>
                    <a:cubicBezTo>
                      <a:pt x="2822" y="138289"/>
                      <a:pt x="5645" y="159926"/>
                      <a:pt x="11289" y="173096"/>
                    </a:cubicBezTo>
                    <a:cubicBezTo>
                      <a:pt x="16933" y="186266"/>
                      <a:pt x="20697" y="188148"/>
                      <a:pt x="33867" y="195674"/>
                    </a:cubicBezTo>
                    <a:cubicBezTo>
                      <a:pt x="47037" y="203200"/>
                      <a:pt x="69615" y="212608"/>
                      <a:pt x="90311" y="218252"/>
                    </a:cubicBezTo>
                    <a:cubicBezTo>
                      <a:pt x="111007" y="223897"/>
                      <a:pt x="129823" y="227660"/>
                      <a:pt x="158045" y="229541"/>
                    </a:cubicBezTo>
                    <a:cubicBezTo>
                      <a:pt x="186267" y="231422"/>
                      <a:pt x="216371" y="237067"/>
                      <a:pt x="259645" y="229541"/>
                    </a:cubicBezTo>
                    <a:cubicBezTo>
                      <a:pt x="302919" y="222015"/>
                      <a:pt x="372534" y="199437"/>
                      <a:pt x="417689" y="184385"/>
                    </a:cubicBezTo>
                    <a:cubicBezTo>
                      <a:pt x="462845" y="169333"/>
                      <a:pt x="502356" y="156162"/>
                      <a:pt x="530578" y="139229"/>
                    </a:cubicBezTo>
                    <a:cubicBezTo>
                      <a:pt x="558800" y="122296"/>
                      <a:pt x="575734" y="101600"/>
                      <a:pt x="587023" y="82785"/>
                    </a:cubicBezTo>
                    <a:cubicBezTo>
                      <a:pt x="598312" y="63970"/>
                      <a:pt x="598311" y="39511"/>
                      <a:pt x="598311" y="26341"/>
                    </a:cubicBezTo>
                    <a:cubicBezTo>
                      <a:pt x="598311" y="13171"/>
                      <a:pt x="587023" y="7526"/>
                      <a:pt x="587023" y="3763"/>
                    </a:cubicBezTo>
                    <a:cubicBezTo>
                      <a:pt x="587023" y="0"/>
                      <a:pt x="592667" y="1881"/>
                      <a:pt x="598311" y="3763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任意多边形 343"/>
              <p:cNvSpPr/>
              <p:nvPr/>
            </p:nvSpPr>
            <p:spPr>
              <a:xfrm rot="10800000">
                <a:off x="2153160" y="-2576160"/>
                <a:ext cx="221760" cy="455040"/>
              </a:xfrm>
              <a:custGeom>
                <a:avLst/>
                <a:gdLst/>
                <a:ahLst/>
                <a:rect l="l" t="t" r="r" b="b"/>
                <a:pathLst>
                  <a:path w="222015" h="455319">
                    <a:moveTo>
                      <a:pt x="222015" y="0"/>
                    </a:moveTo>
                    <a:cubicBezTo>
                      <a:pt x="141111" y="156163"/>
                      <a:pt x="60208" y="312327"/>
                      <a:pt x="30104" y="383823"/>
                    </a:cubicBezTo>
                    <a:cubicBezTo>
                      <a:pt x="0" y="455319"/>
                      <a:pt x="37630" y="417689"/>
                      <a:pt x="41393" y="428978"/>
                    </a:cubicBezTo>
                    <a:cubicBezTo>
                      <a:pt x="45156" y="440267"/>
                      <a:pt x="43275" y="447793"/>
                      <a:pt x="52682" y="451556"/>
                    </a:cubicBezTo>
                    <a:cubicBezTo>
                      <a:pt x="62089" y="455319"/>
                      <a:pt x="97838" y="451556"/>
                      <a:pt x="97838" y="451556"/>
                    </a:cubicBezTo>
                    <a:lnTo>
                      <a:pt x="97838" y="45155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731600" y="-641160"/>
              <a:ext cx="720" cy="427680"/>
              <a:chOff x="1731600" y="-641160"/>
              <a:chExt cx="720" cy="427680"/>
            </a:xfrm>
          </p:grpSpPr>
          <p:sp>
            <p:nvSpPr>
              <p:cNvPr id="310" name="直接连接符 344"/>
              <p:cNvSpPr/>
              <p:nvPr/>
            </p:nvSpPr>
            <p:spPr>
              <a:xfrm flipV="1">
                <a:off x="1731600" y="-641160"/>
                <a:ext cx="720" cy="427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 rot="16200000">
                <a:off x="1518120" y="-427680"/>
                <a:ext cx="42768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2" name="Picture 2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1"/>
                            </p:stCondLst>
                            <p:childTnLst>
                              <p:par>
                                <p:cTn id="4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2"/>
                            </p:stCondLst>
                            <p:childTnLst>
                              <p:par>
                                <p:cTn id="4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1"/>
                            </p:stCondLst>
                            <p:childTnLst>
                              <p:par>
                                <p:cTn id="4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2"/>
                            </p:stCondLst>
                            <p:childTnLst>
                              <p:par>
                                <p:cTn id="4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2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2"/>
                            </p:stCondLst>
                            <p:childTnLst>
                              <p:par>
                                <p:cTn id="4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2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502"/>
                            </p:stCondLst>
                            <p:childTnLst>
                              <p:par>
                                <p:cTn id="4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2"/>
                            </p:stCondLst>
                            <p:childTnLst>
                              <p:par>
                                <p:cTn id="4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502"/>
                            </p:stCondLst>
                            <p:childTnLst>
                              <p:par>
                                <p:cTn id="4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2"/>
                            </p:stCondLst>
                            <p:childTnLst>
                              <p:par>
                                <p:cTn id="44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50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53" dur="1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56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59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62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65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68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71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74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80" dur="1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83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89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4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2"/>
                            </p:stCondLst>
                            <p:childTnLst>
                              <p:par>
                                <p:cTn id="4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502"/>
                            </p:stCondLst>
                            <p:childTnLst>
                              <p:par>
                                <p:cTn id="5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002"/>
                            </p:stCondLst>
                            <p:childTnLst>
                              <p:par>
                                <p:cTn id="5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2"/>
                            </p:stCondLst>
                            <p:childTnLst>
                              <p:par>
                                <p:cTn id="5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2002"/>
                            </p:stCondLst>
                            <p:childTnLst>
                              <p:par>
                                <p:cTn id="5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2502"/>
                            </p:stCondLst>
                            <p:childTnLst>
                              <p:par>
                                <p:cTn id="5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3002"/>
                            </p:stCondLst>
                            <p:childTnLst>
                              <p:par>
                                <p:cTn id="5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3502"/>
                            </p:stCondLst>
                            <p:childTnLst>
                              <p:par>
                                <p:cTn id="5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4002"/>
                            </p:stCondLst>
                            <p:childTnLst>
                              <p:par>
                                <p:cTn id="5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4502"/>
                            </p:stCondLst>
                            <p:childTnLst>
                              <p:par>
                                <p:cTn id="5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2"/>
                            </p:stCondLst>
                            <p:childTnLst>
                              <p:par>
                                <p:cTn id="5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502"/>
                            </p:stCondLst>
                            <p:childTnLst>
                              <p:par>
                                <p:cTn id="5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6001"/>
                            </p:stCondLst>
                            <p:childTnLst>
                              <p:par>
                                <p:cTn id="5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6502"/>
                            </p:stCondLst>
                            <p:childTnLst>
                              <p:par>
                                <p:cTn id="5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002"/>
                            </p:stCondLst>
                            <p:childTnLst>
                              <p:par>
                                <p:cTn id="55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7502"/>
                            </p:stCondLst>
                            <p:childTnLst>
                              <p:par>
                                <p:cTn id="5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8002"/>
                            </p:stCondLst>
                            <p:childTnLst>
                              <p:par>
                                <p:cTn id="5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8502"/>
                            </p:stCondLst>
                            <p:childTnLst>
                              <p:par>
                                <p:cTn id="5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9002"/>
                            </p:stCondLst>
                            <p:childTnLst>
                              <p:par>
                                <p:cTn id="5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9502"/>
                            </p:stCondLst>
                            <p:childTnLst>
                              <p:par>
                                <p:cTn id="5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2"/>
                            </p:stCondLst>
                            <p:childTnLst>
                              <p:par>
                                <p:cTn id="5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502"/>
                            </p:stCondLst>
                            <p:childTnLst>
                              <p:par>
                                <p:cTn id="5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1002"/>
                            </p:stCondLst>
                            <p:childTnLst>
                              <p:par>
                                <p:cTn id="5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2"/>
                            </p:stCondLst>
                            <p:childTnLst>
                              <p:par>
                                <p:cTn id="5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2002"/>
                            </p:stCondLst>
                            <p:childTnLst>
                              <p:par>
                                <p:cTn id="5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2502"/>
                            </p:stCondLst>
                            <p:childTnLst>
                              <p:par>
                                <p:cTn id="5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3002"/>
                            </p:stCondLst>
                            <p:childTnLst>
                              <p:par>
                                <p:cTn id="60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502"/>
                            </p:stCondLst>
                            <p:childTnLst>
                              <p:par>
                                <p:cTn id="6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002"/>
                            </p:stCondLst>
                            <p:childTnLst>
                              <p:par>
                                <p:cTn id="6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4502"/>
                            </p:stCondLst>
                            <p:childTnLst>
                              <p:par>
                                <p:cTn id="6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2"/>
                            </p:stCondLst>
                            <p:childTnLst>
                              <p:par>
                                <p:cTn id="6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502"/>
                            </p:stCondLst>
                            <p:childTnLst>
                              <p:par>
                                <p:cTn id="6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6002"/>
                            </p:stCondLst>
                            <p:childTnLst>
                              <p:par>
                                <p:cTn id="6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6502"/>
                            </p:stCondLst>
                            <p:childTnLst>
                              <p:par>
                                <p:cTn id="6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7002"/>
                            </p:stCondLst>
                            <p:childTnLst>
                              <p:par>
                                <p:cTn id="6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7502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2"/>
                            </p:stCondLst>
                            <p:childTnLst>
                              <p:par>
                                <p:cTn id="6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8502"/>
                            </p:stCondLst>
                            <p:childTnLst>
                              <p:par>
                                <p:cTn id="6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9002"/>
                            </p:stCondLst>
                            <p:childTnLst>
                              <p:par>
                                <p:cTn id="6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31002"/>
                            </p:stCondLst>
                            <p:childTnLst>
                              <p:par>
                                <p:cTn id="7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1302"/>
                            </p:stCondLst>
                            <p:childTnLst>
                              <p:par>
                                <p:cTn id="77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31802"/>
                            </p:stCondLst>
                            <p:childTnLst>
                              <p:par>
                                <p:cTn id="7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3802"/>
                            </p:stCondLst>
                            <p:childTnLst>
                              <p:par>
                                <p:cTn id="7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4302"/>
                            </p:stCondLst>
                            <p:childTnLst>
                              <p:par>
                                <p:cTn id="796" dur="indefinite" nodeType="after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5:33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55Z</dcterms:modified>
  <cp:revision>1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