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7C7F-FFA1-401F-A494-DD9468F9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2B7F-A15D-4AFA-B199-9A7CAA86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41F8-4B00-40C5-9AD6-BE5EBDFA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8A05-7D7E-48AF-8A6A-3FFE5E56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AE7D-788D-4262-82FB-E9CB4E1E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FE1D-6220-419D-9CB7-86B65EF6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E730-FD85-4DDF-BFCC-B27D4752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2469-ABDD-4ED9-8068-47546ED9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9AE9-FF39-40D1-ACA0-6D00EA11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70992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F6F0-4072-4773-9725-B7C12ADA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4D52-7A67-4B16-8E8B-71098D8C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BA23-692B-4152-B450-9E343C0D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C2DB-DC6B-4E16-B593-AF8E6B8E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A1D7-8A6D-4845-948A-4B78CC16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F7BA-1B52-41A9-AB26-AE742788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2F74-23A0-4D77-849F-E163F983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319A-B7C5-427D-8C23-E9D804EF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E5C7-A675-4EEA-B49F-3CA2334A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F0E5-F112-4684-ABFE-46F2A0B4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3CA8-462D-44D0-AC4D-91FCE184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70992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5670-4535-418D-8054-333412D2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6B00-AD1D-4F3F-B030-8419D37D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0818-BB66-4D6B-8487-A67FCACE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6C58-F64A-4AC6-BCAE-B3EF8FFC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4"/>
          <p:cNvSpPr/>
          <p:nvPr/>
        </p:nvSpPr>
        <p:spPr>
          <a:xfrm flipH="1">
            <a:off x="-7920" y="-22320"/>
            <a:ext cx="9151920" cy="9129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064"/>
          <p:cNvSpPr/>
          <p:nvPr/>
        </p:nvSpPr>
        <p:spPr>
          <a:xfrm>
            <a:off x="-7920" y="-22320"/>
            <a:ext cx="9151920" cy="82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"/>
          <p:cNvPicPr/>
          <p:nvPr/>
        </p:nvPicPr>
        <p:blipFill>
          <a:blip r:embed="rId2"/>
          <a:srcRect l="0" t="0" r="31183" b="8208"/>
          <a:stretch/>
        </p:blipFill>
        <p:spPr>
          <a:xfrm flipH="1">
            <a:off x="0" y="92160"/>
            <a:ext cx="6075360" cy="6764400"/>
          </a:xfrm>
          <a:prstGeom prst="rect">
            <a:avLst/>
          </a:prstGeom>
          <a:ln w="0">
            <a:noFill/>
          </a:ln>
        </p:spPr>
      </p:pic>
      <p:sp>
        <p:nvSpPr>
          <p:cNvPr id="3" name="矩形 2065"/>
          <p:cNvSpPr/>
          <p:nvPr/>
        </p:nvSpPr>
        <p:spPr>
          <a:xfrm>
            <a:off x="468360" y="981000"/>
            <a:ext cx="8196120" cy="540072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rcRect l="0" t="0" r="9757" b="9748"/>
          <a:stretch/>
        </p:blipFill>
        <p:spPr>
          <a:xfrm>
            <a:off x="-106200" y="800280"/>
            <a:ext cx="9358200" cy="107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fld id="{8EDDD95F-AE60-4D66-9917-12FEEA02ECD1}" type="slidenum">
              <a:rPr b="0" lang="zh-CN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2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3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15"/>
          <p:cNvSpPr/>
          <p:nvPr/>
        </p:nvSpPr>
        <p:spPr>
          <a:xfrm>
            <a:off x="7556400" y="2826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-360"/>
            <a:ext cx="709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D91E-46D7-4CB5-930C-5154B5B2C6C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AB49-BAC5-4499-AF2D-B4B515F399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ordridesign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nordridesign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40"/>
          <p:cNvSpPr/>
          <p:nvPr/>
        </p:nvSpPr>
        <p:spPr>
          <a:xfrm flipH="1">
            <a:off x="34200" y="0"/>
            <a:ext cx="9109080" cy="687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右箭头 25"/>
          <p:cNvSpPr/>
          <p:nvPr/>
        </p:nvSpPr>
        <p:spPr>
          <a:xfrm rot="5400000">
            <a:off x="-648000" y="277560"/>
            <a:ext cx="486000" cy="482760"/>
          </a:xfrm>
          <a:prstGeom prst="rightArrow">
            <a:avLst>
              <a:gd name="adj1" fmla="val 50000"/>
              <a:gd name="adj2" fmla="val 50191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7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右箭头 26"/>
          <p:cNvSpPr/>
          <p:nvPr/>
        </p:nvSpPr>
        <p:spPr>
          <a:xfrm rot="5400000">
            <a:off x="-1132200" y="493560"/>
            <a:ext cx="486000" cy="485640"/>
          </a:xfrm>
          <a:prstGeom prst="rightArrow">
            <a:avLst>
              <a:gd name="adj1" fmla="val 50000"/>
              <a:gd name="adj2" fmla="val 49893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6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右箭头 27"/>
          <p:cNvSpPr/>
          <p:nvPr/>
        </p:nvSpPr>
        <p:spPr>
          <a:xfrm rot="5400000">
            <a:off x="-584280" y="300816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右箭头 28"/>
          <p:cNvSpPr/>
          <p:nvPr/>
        </p:nvSpPr>
        <p:spPr>
          <a:xfrm rot="5400000">
            <a:off x="-647640" y="5893920"/>
            <a:ext cx="485640" cy="482760"/>
          </a:xfrm>
          <a:prstGeom prst="rightArrow">
            <a:avLst>
              <a:gd name="adj1" fmla="val 50000"/>
              <a:gd name="adj2" fmla="val 50154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8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右箭头 29"/>
          <p:cNvSpPr/>
          <p:nvPr/>
        </p:nvSpPr>
        <p:spPr>
          <a:xfrm rot="5400000">
            <a:off x="-1131480" y="5964840"/>
            <a:ext cx="486000" cy="48420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8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右箭头 30"/>
          <p:cNvSpPr/>
          <p:nvPr/>
        </p:nvSpPr>
        <p:spPr>
          <a:xfrm rot="5400000">
            <a:off x="-1559520" y="6253560"/>
            <a:ext cx="48564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右箭头 31"/>
          <p:cNvSpPr/>
          <p:nvPr/>
        </p:nvSpPr>
        <p:spPr>
          <a:xfrm>
            <a:off x="-14400" y="-673200"/>
            <a:ext cx="484200" cy="484200"/>
          </a:xfrm>
          <a:prstGeom prst="rightArrow">
            <a:avLst>
              <a:gd name="adj1" fmla="val 50000"/>
              <a:gd name="adj2" fmla="val 49856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右箭头 32"/>
          <p:cNvSpPr/>
          <p:nvPr/>
        </p:nvSpPr>
        <p:spPr>
          <a:xfrm>
            <a:off x="4086360" y="-673200"/>
            <a:ext cx="48564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右箭头 33"/>
          <p:cNvSpPr/>
          <p:nvPr/>
        </p:nvSpPr>
        <p:spPr>
          <a:xfrm>
            <a:off x="8190000" y="-673200"/>
            <a:ext cx="48564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0"/>
          <p:cNvSpPr/>
          <p:nvPr/>
        </p:nvSpPr>
        <p:spPr>
          <a:xfrm>
            <a:off x="7553160" y="4176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>
            <a:hlinkClick r:id="rId1"/>
          </p:cNvPr>
          <p:cNvSpPr/>
          <p:nvPr/>
        </p:nvSpPr>
        <p:spPr>
          <a:xfrm>
            <a:off x="324000" y="5803920"/>
            <a:ext cx="305892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3e3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由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ordri®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设计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3086"/>
          <p:cNvGrpSpPr/>
          <p:nvPr/>
        </p:nvGrpSpPr>
        <p:grpSpPr>
          <a:xfrm>
            <a:off x="454680" y="2336760"/>
            <a:ext cx="6496560" cy="1536120"/>
            <a:chOff x="454680" y="2336760"/>
            <a:chExt cx="6496560" cy="1536120"/>
          </a:xfrm>
        </p:grpSpPr>
        <p:sp>
          <p:nvSpPr>
            <p:cNvPr id="102" name="直角三角形 6"/>
            <p:cNvSpPr/>
            <p:nvPr/>
          </p:nvSpPr>
          <p:spPr>
            <a:xfrm rot="21447600">
              <a:off x="461520" y="3314160"/>
              <a:ext cx="5290200" cy="441360"/>
            </a:xfrm>
            <a:custGeom>
              <a:avLst/>
              <a:gdLst/>
              <a:ahLst/>
              <a:rect l="l" t="t" r="r" b="b"/>
              <a:pathLst>
                <a:path w="5290316" h="441470">
                  <a:moveTo>
                    <a:pt x="8051" y="0"/>
                  </a:moveTo>
                  <a:lnTo>
                    <a:pt x="5290316" y="441470"/>
                  </a:lnTo>
                  <a:lnTo>
                    <a:pt x="239969" y="441470"/>
                  </a:lnTo>
                  <a:lnTo>
                    <a:pt x="0" y="181833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d8d8d8"/>
                </a:gs>
              </a:gsLst>
              <a:lin ang="25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 flipH="1">
              <a:off x="461880" y="2336760"/>
              <a:ext cx="6489000" cy="12898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2670120" y="196920"/>
            <a:ext cx="6473880" cy="6676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3"/>
          <a:srcRect l="0" t="0" r="0" b="36153"/>
          <a:stretch/>
        </p:blipFill>
        <p:spPr>
          <a:xfrm>
            <a:off x="6951600" y="5918040"/>
            <a:ext cx="1238400" cy="954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7105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卡通小人建筑设计方案</a:t>
            </a:r>
            <a:r>
              <a:rPr b="0" lang="en-US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打包下载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14520" y="3200400"/>
            <a:ext cx="529272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副标题</a:t>
            </a:r>
            <a:r>
              <a:rPr b="0" lang="en-US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/18</a:t>
            </a:r>
            <a:r>
              <a:rPr b="0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3093"/>
          <p:cNvSpPr/>
          <p:nvPr/>
        </p:nvSpPr>
        <p:spPr>
          <a:xfrm>
            <a:off x="676440" y="284040"/>
            <a:ext cx="3031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内容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需对此处占位符文本进行修改，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07/10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中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；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03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4909AA9A-AF86-4C62-AF4F-F00EC73F3B24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826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文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2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号字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5121"/>
          <p:cNvGrpSpPr/>
          <p:nvPr/>
        </p:nvGrpSpPr>
        <p:grpSpPr>
          <a:xfrm>
            <a:off x="740880" y="1398600"/>
            <a:ext cx="7673040" cy="4811760"/>
            <a:chOff x="740880" y="1398600"/>
            <a:chExt cx="7673040" cy="4811760"/>
          </a:xfrm>
        </p:grpSpPr>
        <p:sp>
          <p:nvSpPr>
            <p:cNvPr id="114" name="矩形 5"/>
            <p:cNvSpPr/>
            <p:nvPr/>
          </p:nvSpPr>
          <p:spPr>
            <a:xfrm>
              <a:off x="728424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6"/>
            <p:cNvSpPr/>
            <p:nvPr/>
          </p:nvSpPr>
          <p:spPr>
            <a:xfrm>
              <a:off x="335340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7"/>
            <p:cNvSpPr/>
            <p:nvPr/>
          </p:nvSpPr>
          <p:spPr>
            <a:xfrm>
              <a:off x="741240" y="2882520"/>
              <a:ext cx="243324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左大括号 9"/>
            <p:cNvSpPr/>
            <p:nvPr/>
          </p:nvSpPr>
          <p:spPr>
            <a:xfrm rot="5400000">
              <a:off x="4357800" y="-1829160"/>
              <a:ext cx="424440" cy="7658280"/>
            </a:xfrm>
            <a:custGeom>
              <a:avLst/>
              <a:gdLst>
                <a:gd name="textAreaLeft" fmla="*/ 271080 w 424440"/>
                <a:gd name="textAreaRight" fmla="*/ 424800 w 424440"/>
                <a:gd name="textAreaTop" fmla="*/ 67680 h 7658280"/>
                <a:gd name="textAreaBottom" fmla="*/ 7590600 h 765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05"/>
                    <a:pt x="10800" y="610"/>
                  </a:cubicBezTo>
                  <a:lnTo>
                    <a:pt x="10800" y="10190"/>
                  </a:lnTo>
                  <a:cubicBezTo>
                    <a:pt x="10800" y="10495"/>
                    <a:pt x="5400" y="10800"/>
                    <a:pt x="0" y="10800"/>
                  </a:cubicBezTo>
                  <a:cubicBezTo>
                    <a:pt x="5400" y="10800"/>
                    <a:pt x="10800" y="11105"/>
                    <a:pt x="10800" y="11410"/>
                  </a:cubicBezTo>
                  <a:lnTo>
                    <a:pt x="10800" y="20990"/>
                  </a:lnTo>
                  <a:cubicBezTo>
                    <a:pt x="10800" y="21295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10"/>
            <p:cNvSpPr/>
            <p:nvPr/>
          </p:nvSpPr>
          <p:spPr>
            <a:xfrm>
              <a:off x="741240" y="264708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11"/>
            <p:cNvSpPr/>
            <p:nvPr/>
          </p:nvSpPr>
          <p:spPr>
            <a:xfrm>
              <a:off x="1395360" y="264708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 12"/>
            <p:cNvSpPr/>
            <p:nvPr/>
          </p:nvSpPr>
          <p:spPr>
            <a:xfrm>
              <a:off x="2049840" y="264708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13"/>
            <p:cNvSpPr/>
            <p:nvPr/>
          </p:nvSpPr>
          <p:spPr>
            <a:xfrm>
              <a:off x="2703960" y="264708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14"/>
            <p:cNvSpPr/>
            <p:nvPr/>
          </p:nvSpPr>
          <p:spPr>
            <a:xfrm>
              <a:off x="3358440" y="264708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椭圆 15"/>
            <p:cNvSpPr/>
            <p:nvPr/>
          </p:nvSpPr>
          <p:spPr>
            <a:xfrm>
              <a:off x="4012560" y="2647080"/>
              <a:ext cx="470520" cy="4705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16"/>
            <p:cNvSpPr/>
            <p:nvPr/>
          </p:nvSpPr>
          <p:spPr>
            <a:xfrm>
              <a:off x="4667040" y="2647080"/>
              <a:ext cx="470520" cy="47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7"/>
            <p:cNvSpPr/>
            <p:nvPr/>
          </p:nvSpPr>
          <p:spPr>
            <a:xfrm>
              <a:off x="5321520" y="2647080"/>
              <a:ext cx="470520" cy="4705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18"/>
            <p:cNvSpPr/>
            <p:nvPr/>
          </p:nvSpPr>
          <p:spPr>
            <a:xfrm>
              <a:off x="5975640" y="2647080"/>
              <a:ext cx="470520" cy="470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9"/>
            <p:cNvSpPr/>
            <p:nvPr/>
          </p:nvSpPr>
          <p:spPr>
            <a:xfrm>
              <a:off x="6630120" y="2647080"/>
              <a:ext cx="470520" cy="470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20"/>
            <p:cNvSpPr/>
            <p:nvPr/>
          </p:nvSpPr>
          <p:spPr>
            <a:xfrm>
              <a:off x="7284240" y="264708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21"/>
            <p:cNvSpPr/>
            <p:nvPr/>
          </p:nvSpPr>
          <p:spPr>
            <a:xfrm>
              <a:off x="7938720" y="264708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左大括号 22"/>
            <p:cNvSpPr/>
            <p:nvPr/>
          </p:nvSpPr>
          <p:spPr>
            <a:xfrm rot="5400000">
              <a:off x="37918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6"/>
                    <a:pt x="10800" y="2172"/>
                  </a:cubicBezTo>
                  <a:lnTo>
                    <a:pt x="10800" y="8628"/>
                  </a:lnTo>
                  <a:cubicBezTo>
                    <a:pt x="10800" y="9714"/>
                    <a:pt x="5400" y="10800"/>
                    <a:pt x="0" y="10800"/>
                  </a:cubicBezTo>
                  <a:cubicBezTo>
                    <a:pt x="5400" y="10800"/>
                    <a:pt x="10800" y="11886"/>
                    <a:pt x="10800" y="12972"/>
                  </a:cubicBezTo>
                  <a:lnTo>
                    <a:pt x="10800" y="19428"/>
                  </a:lnTo>
                  <a:cubicBezTo>
                    <a:pt x="10800" y="2051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左大括号 23"/>
            <p:cNvSpPr/>
            <p:nvPr/>
          </p:nvSpPr>
          <p:spPr>
            <a:xfrm rot="5400000">
              <a:off x="5800320" y="1233360"/>
              <a:ext cx="212040" cy="23878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87880"/>
                <a:gd name="textAreaBottom" fmla="*/ 2354040 h 23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90"/>
                    <a:pt x="10800" y="980"/>
                  </a:cubicBezTo>
                  <a:lnTo>
                    <a:pt x="10800" y="9820"/>
                  </a:lnTo>
                  <a:cubicBezTo>
                    <a:pt x="10800" y="10310"/>
                    <a:pt x="5400" y="10800"/>
                    <a:pt x="0" y="10800"/>
                  </a:cubicBezTo>
                  <a:cubicBezTo>
                    <a:pt x="5400" y="10800"/>
                    <a:pt x="10800" y="11290"/>
                    <a:pt x="10800" y="11780"/>
                  </a:cubicBezTo>
                  <a:lnTo>
                    <a:pt x="10800" y="20620"/>
                  </a:lnTo>
                  <a:cubicBezTo>
                    <a:pt x="10800" y="2111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左大括号 24"/>
            <p:cNvSpPr/>
            <p:nvPr/>
          </p:nvSpPr>
          <p:spPr>
            <a:xfrm rot="5400000">
              <a:off x="77176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6"/>
                    <a:pt x="10800" y="2172"/>
                  </a:cubicBezTo>
                  <a:lnTo>
                    <a:pt x="10800" y="8628"/>
                  </a:lnTo>
                  <a:cubicBezTo>
                    <a:pt x="10800" y="9714"/>
                    <a:pt x="5400" y="10800"/>
                    <a:pt x="0" y="10800"/>
                  </a:cubicBezTo>
                  <a:cubicBezTo>
                    <a:pt x="5400" y="10800"/>
                    <a:pt x="10800" y="11886"/>
                    <a:pt x="10800" y="12972"/>
                  </a:cubicBezTo>
                  <a:lnTo>
                    <a:pt x="10800" y="19428"/>
                  </a:lnTo>
                  <a:cubicBezTo>
                    <a:pt x="10800" y="2051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左大括号 25"/>
            <p:cNvSpPr/>
            <p:nvPr/>
          </p:nvSpPr>
          <p:spPr>
            <a:xfrm rot="5400000">
              <a:off x="1802520" y="1259640"/>
              <a:ext cx="212040" cy="233532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35320"/>
                <a:gd name="textAreaBottom" fmla="*/ 230148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01"/>
                    <a:pt x="10800" y="1002"/>
                  </a:cubicBezTo>
                  <a:lnTo>
                    <a:pt x="10800" y="9798"/>
                  </a:lnTo>
                  <a:cubicBezTo>
                    <a:pt x="10800" y="10299"/>
                    <a:pt x="5400" y="10800"/>
                    <a:pt x="0" y="10800"/>
                  </a:cubicBezTo>
                  <a:cubicBezTo>
                    <a:pt x="5400" y="10800"/>
                    <a:pt x="10800" y="11301"/>
                    <a:pt x="10800" y="11802"/>
                  </a:cubicBezTo>
                  <a:lnTo>
                    <a:pt x="10800" y="20598"/>
                  </a:lnTo>
                  <a:cubicBezTo>
                    <a:pt x="10800" y="2109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左大括号 26"/>
            <p:cNvSpPr/>
            <p:nvPr/>
          </p:nvSpPr>
          <p:spPr>
            <a:xfrm flipH="1" rot="5400000">
              <a:off x="4357440" y="843120"/>
              <a:ext cx="388080" cy="7622280"/>
            </a:xfrm>
            <a:custGeom>
              <a:avLst/>
              <a:gdLst>
                <a:gd name="textAreaLeft" fmla="*/ 248040 w 388080"/>
                <a:gd name="textAreaRight" fmla="*/ 388440 w 388080"/>
                <a:gd name="textAreaTop" fmla="*/ 61920 h 7622280"/>
                <a:gd name="textAreaBottom" fmla="*/ 7560360 h 76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1"/>
                    <a:pt x="10800" y="561"/>
                  </a:cubicBezTo>
                  <a:lnTo>
                    <a:pt x="10800" y="10239"/>
                  </a:lnTo>
                  <a:cubicBezTo>
                    <a:pt x="10800" y="10520"/>
                    <a:pt x="5400" y="10800"/>
                    <a:pt x="0" y="10800"/>
                  </a:cubicBezTo>
                  <a:cubicBezTo>
                    <a:pt x="5400" y="10800"/>
                    <a:pt x="10800" y="11081"/>
                    <a:pt x="10800" y="11361"/>
                  </a:cubicBezTo>
                  <a:lnTo>
                    <a:pt x="10800" y="21039"/>
                  </a:lnTo>
                  <a:cubicBezTo>
                    <a:pt x="10800" y="2132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内容占位符 4"/>
            <p:cNvSpPr/>
            <p:nvPr/>
          </p:nvSpPr>
          <p:spPr>
            <a:xfrm>
              <a:off x="741240" y="492876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3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28"/>
            <p:cNvSpPr/>
            <p:nvPr/>
          </p:nvSpPr>
          <p:spPr>
            <a:xfrm>
              <a:off x="1657080" y="204192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29"/>
            <p:cNvSpPr/>
            <p:nvPr/>
          </p:nvSpPr>
          <p:spPr>
            <a:xfrm>
              <a:off x="369324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30"/>
            <p:cNvSpPr/>
            <p:nvPr/>
          </p:nvSpPr>
          <p:spPr>
            <a:xfrm>
              <a:off x="570168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31"/>
            <p:cNvSpPr/>
            <p:nvPr/>
          </p:nvSpPr>
          <p:spPr>
            <a:xfrm>
              <a:off x="758952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810000" y="2716200"/>
              <a:ext cx="332640" cy="332640"/>
              <a:chOff x="810000" y="2716200"/>
              <a:chExt cx="332640" cy="332640"/>
            </a:xfrm>
          </p:grpSpPr>
          <p:sp>
            <p:nvSpPr>
              <p:cNvPr id="141" name="直接连接符 32"/>
              <p:cNvSpPr/>
              <p:nvPr/>
            </p:nvSpPr>
            <p:spPr>
              <a:xfrm flipH="1">
                <a:off x="810000" y="2716200"/>
                <a:ext cx="332640" cy="332640"/>
              </a:xfrm>
              <a:prstGeom prst="line">
                <a:avLst/>
              </a:prstGeom>
              <a:ln w="9360">
                <a:solidFill>
                  <a:srgbClr val="b2b2b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810000" y="2716200"/>
                <a:ext cx="332640" cy="33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1464480" y="2716200"/>
              <a:ext cx="332640" cy="332640"/>
              <a:chOff x="1464480" y="2716200"/>
              <a:chExt cx="332640" cy="332640"/>
            </a:xfrm>
          </p:grpSpPr>
          <p:sp>
            <p:nvSpPr>
              <p:cNvPr id="144" name="直接连接符 33"/>
              <p:cNvSpPr/>
              <p:nvPr/>
            </p:nvSpPr>
            <p:spPr>
              <a:xfrm flipH="1">
                <a:off x="1464480" y="2716200"/>
                <a:ext cx="332640" cy="332640"/>
              </a:xfrm>
              <a:prstGeom prst="line">
                <a:avLst/>
              </a:prstGeom>
              <a:ln w="9360">
                <a:solidFill>
                  <a:srgbClr val="b2b2b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1464480" y="2716200"/>
                <a:ext cx="332640" cy="33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118600" y="2716200"/>
              <a:ext cx="332640" cy="332640"/>
              <a:chOff x="2118600" y="2716200"/>
              <a:chExt cx="332640" cy="332640"/>
            </a:xfrm>
          </p:grpSpPr>
          <p:sp>
            <p:nvSpPr>
              <p:cNvPr id="147" name="直接连接符 34"/>
              <p:cNvSpPr/>
              <p:nvPr/>
            </p:nvSpPr>
            <p:spPr>
              <a:xfrm flipH="1">
                <a:off x="2118600" y="2716200"/>
                <a:ext cx="332640" cy="332640"/>
              </a:xfrm>
              <a:prstGeom prst="line">
                <a:avLst/>
              </a:prstGeom>
              <a:ln w="9360">
                <a:solidFill>
                  <a:srgbClr val="b2b2b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2118600" y="2716200"/>
                <a:ext cx="332640" cy="33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773080" y="2716200"/>
              <a:ext cx="332640" cy="332640"/>
              <a:chOff x="2773080" y="2716200"/>
              <a:chExt cx="332640" cy="332640"/>
            </a:xfrm>
          </p:grpSpPr>
          <p:sp>
            <p:nvSpPr>
              <p:cNvPr id="150" name="直接连接符 35"/>
              <p:cNvSpPr/>
              <p:nvPr/>
            </p:nvSpPr>
            <p:spPr>
              <a:xfrm flipH="1">
                <a:off x="2773080" y="2716200"/>
                <a:ext cx="332640" cy="332640"/>
              </a:xfrm>
              <a:prstGeom prst="line">
                <a:avLst/>
              </a:prstGeom>
              <a:ln w="9360">
                <a:solidFill>
                  <a:srgbClr val="b2b2b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 txBox="1"/>
              <p:nvPr/>
            </p:nvSpPr>
            <p:spPr>
              <a:xfrm>
                <a:off x="2773080" y="2716200"/>
                <a:ext cx="332640" cy="33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Box 36"/>
            <p:cNvSpPr/>
            <p:nvPr/>
          </p:nvSpPr>
          <p:spPr>
            <a:xfrm>
              <a:off x="741240" y="5490720"/>
              <a:ext cx="7658280" cy="719640"/>
            </a:xfrm>
            <a:prstGeom prst="rect">
              <a:avLst/>
            </a:prstGeom>
            <a:solidFill>
              <a:srgbClr val="cccccc">
                <a:alpha val="27000"/>
              </a:srgbClr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通常情况下，配色方案中的前四种色彩文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——“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字与背景色”固定不变。常用色与模板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设计】菜单中 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【颜色】中修改；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格式】菜单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【幻灯片设计】 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【配色方案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37"/>
            <p:cNvSpPr/>
            <p:nvPr/>
          </p:nvSpPr>
          <p:spPr>
            <a:xfrm>
              <a:off x="741240" y="378036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38"/>
            <p:cNvSpPr/>
            <p:nvPr/>
          </p:nvSpPr>
          <p:spPr>
            <a:xfrm>
              <a:off x="1395360" y="378036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39"/>
            <p:cNvSpPr/>
            <p:nvPr/>
          </p:nvSpPr>
          <p:spPr>
            <a:xfrm>
              <a:off x="2049840" y="378036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40"/>
            <p:cNvSpPr/>
            <p:nvPr/>
          </p:nvSpPr>
          <p:spPr>
            <a:xfrm>
              <a:off x="2703960" y="378036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810000" y="3849480"/>
              <a:ext cx="332640" cy="332640"/>
              <a:chOff x="810000" y="3849480"/>
              <a:chExt cx="332640" cy="332640"/>
            </a:xfrm>
          </p:grpSpPr>
          <p:sp>
            <p:nvSpPr>
              <p:cNvPr id="158" name="直接连接符 41"/>
              <p:cNvSpPr/>
              <p:nvPr/>
            </p:nvSpPr>
            <p:spPr>
              <a:xfrm flipH="1">
                <a:off x="810000" y="3849480"/>
                <a:ext cx="332640" cy="332640"/>
              </a:xfrm>
              <a:prstGeom prst="line">
                <a:avLst/>
              </a:prstGeom>
              <a:ln w="9360">
                <a:solidFill>
                  <a:srgbClr val="b2b2b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810000" y="3849480"/>
                <a:ext cx="332640" cy="33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464480" y="3849480"/>
              <a:ext cx="332640" cy="332640"/>
              <a:chOff x="1464480" y="3849480"/>
              <a:chExt cx="332640" cy="332640"/>
            </a:xfrm>
          </p:grpSpPr>
          <p:sp>
            <p:nvSpPr>
              <p:cNvPr id="161" name="直接连接符 42"/>
              <p:cNvSpPr/>
              <p:nvPr/>
            </p:nvSpPr>
            <p:spPr>
              <a:xfrm flipH="1">
                <a:off x="1464480" y="3849480"/>
                <a:ext cx="332640" cy="332640"/>
              </a:xfrm>
              <a:prstGeom prst="line">
                <a:avLst/>
              </a:prstGeom>
              <a:ln w="9360">
                <a:solidFill>
                  <a:srgbClr val="b2b2b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1464480" y="3849480"/>
                <a:ext cx="332640" cy="33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118600" y="3849480"/>
              <a:ext cx="332640" cy="332640"/>
              <a:chOff x="2118600" y="3849480"/>
              <a:chExt cx="332640" cy="332640"/>
            </a:xfrm>
          </p:grpSpPr>
          <p:sp>
            <p:nvSpPr>
              <p:cNvPr id="164" name="直接连接符 43"/>
              <p:cNvSpPr/>
              <p:nvPr/>
            </p:nvSpPr>
            <p:spPr>
              <a:xfrm flipH="1">
                <a:off x="2118600" y="3849480"/>
                <a:ext cx="332640" cy="332640"/>
              </a:xfrm>
              <a:prstGeom prst="line">
                <a:avLst/>
              </a:prstGeom>
              <a:ln w="9360">
                <a:solidFill>
                  <a:srgbClr val="b2b2b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2118600" y="3849480"/>
                <a:ext cx="332640" cy="33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773080" y="3849480"/>
              <a:ext cx="332640" cy="332640"/>
              <a:chOff x="2773080" y="3849480"/>
              <a:chExt cx="332640" cy="332640"/>
            </a:xfrm>
          </p:grpSpPr>
          <p:sp>
            <p:nvSpPr>
              <p:cNvPr id="167" name="直接连接符 44"/>
              <p:cNvSpPr/>
              <p:nvPr/>
            </p:nvSpPr>
            <p:spPr>
              <a:xfrm flipH="1">
                <a:off x="2773080" y="3849480"/>
                <a:ext cx="332640" cy="332640"/>
              </a:xfrm>
              <a:prstGeom prst="line">
                <a:avLst/>
              </a:prstGeom>
              <a:ln w="9360">
                <a:solidFill>
                  <a:srgbClr val="b2b2b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2773080" y="3849480"/>
                <a:ext cx="332640" cy="33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椭圆 45"/>
            <p:cNvSpPr/>
            <p:nvPr/>
          </p:nvSpPr>
          <p:spPr>
            <a:xfrm>
              <a:off x="3358440" y="378036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46"/>
            <p:cNvSpPr/>
            <p:nvPr/>
          </p:nvSpPr>
          <p:spPr>
            <a:xfrm>
              <a:off x="4012560" y="3780360"/>
              <a:ext cx="470520" cy="4705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47"/>
            <p:cNvSpPr/>
            <p:nvPr/>
          </p:nvSpPr>
          <p:spPr>
            <a:xfrm>
              <a:off x="7284240" y="378036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48"/>
            <p:cNvSpPr/>
            <p:nvPr/>
          </p:nvSpPr>
          <p:spPr>
            <a:xfrm>
              <a:off x="7938720" y="378036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内容占位符 4"/>
            <p:cNvSpPr/>
            <p:nvPr/>
          </p:nvSpPr>
          <p:spPr>
            <a:xfrm>
              <a:off x="741240" y="139860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7/2010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04840"/>
            <a:ext cx="7088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色方案说明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灯片编号占位符 2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EFA6D5E5-7A2D-44C4-BEFF-205AFC14F06D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8198"/>
          <p:cNvSpPr/>
          <p:nvPr/>
        </p:nvSpPr>
        <p:spPr>
          <a:xfrm>
            <a:off x="1547640" y="1125360"/>
            <a:ext cx="5059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8597-D193-4683-96CE-0BF872292C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6145"/>
          <p:cNvGrpSpPr/>
          <p:nvPr/>
        </p:nvGrpSpPr>
        <p:grpSpPr>
          <a:xfrm>
            <a:off x="1619280" y="2825640"/>
            <a:ext cx="6498000" cy="1536120"/>
            <a:chOff x="1619280" y="2825640"/>
            <a:chExt cx="6498000" cy="1536120"/>
          </a:xfrm>
        </p:grpSpPr>
        <p:sp>
          <p:nvSpPr>
            <p:cNvPr id="182" name="直角三角形 6"/>
            <p:cNvSpPr/>
            <p:nvPr/>
          </p:nvSpPr>
          <p:spPr>
            <a:xfrm flipH="1" rot="152400">
              <a:off x="2818440" y="3803040"/>
              <a:ext cx="5291280" cy="441360"/>
            </a:xfrm>
            <a:custGeom>
              <a:avLst/>
              <a:gdLst/>
              <a:ahLst/>
              <a:rect l="l" t="t" r="r" b="b"/>
              <a:pathLst>
                <a:path w="5290316" h="441470">
                  <a:moveTo>
                    <a:pt x="8051" y="0"/>
                  </a:moveTo>
                  <a:lnTo>
                    <a:pt x="5290316" y="441470"/>
                  </a:lnTo>
                  <a:lnTo>
                    <a:pt x="239969" y="441470"/>
                  </a:lnTo>
                  <a:lnTo>
                    <a:pt x="0" y="181833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d8d8d8"/>
                </a:gs>
              </a:gsLst>
              <a:lin ang="25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6"/>
            <p:cNvSpPr/>
            <p:nvPr/>
          </p:nvSpPr>
          <p:spPr>
            <a:xfrm>
              <a:off x="1619280" y="2825640"/>
              <a:ext cx="6490440" cy="1290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6" descr=""/>
          <p:cNvPicPr/>
          <p:nvPr/>
        </p:nvPicPr>
        <p:blipFill>
          <a:blip r:embed="rId1"/>
          <a:srcRect l="0" t="0" r="16187" b="4196"/>
          <a:stretch/>
        </p:blipFill>
        <p:spPr>
          <a:xfrm flipH="1">
            <a:off x="0" y="0"/>
            <a:ext cx="6084720" cy="6856560"/>
          </a:xfrm>
          <a:prstGeom prst="rect">
            <a:avLst/>
          </a:prstGeom>
          <a:ln w="0">
            <a:noFill/>
          </a:ln>
        </p:spPr>
      </p:pic>
      <p:sp>
        <p:nvSpPr>
          <p:cNvPr id="185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>
            <a:hlinkClick r:id="rId2"/>
          </p:cNvPr>
          <p:cNvSpPr/>
          <p:nvPr/>
        </p:nvSpPr>
        <p:spPr>
          <a:xfrm>
            <a:off x="6083280" y="6056280"/>
            <a:ext cx="3060720" cy="504720"/>
          </a:xfrm>
          <a:prstGeom prst="rect">
            <a:avLst/>
          </a:prstGeom>
          <a:gradFill rotWithShape="0">
            <a:gsLst>
              <a:gs pos="0">
                <a:srgbClr val="e3e3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由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ordri®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设计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标题 3"/>
          <p:cNvSpPr/>
          <p:nvPr/>
        </p:nvSpPr>
        <p:spPr>
          <a:xfrm>
            <a:off x="1692360" y="2822400"/>
            <a:ext cx="63928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副标题 4"/>
          <p:cNvSpPr/>
          <p:nvPr/>
        </p:nvSpPr>
        <p:spPr>
          <a:xfrm>
            <a:off x="1692360" y="3614760"/>
            <a:ext cx="6392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副标题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7531200" y="7812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3060720" y="1130400"/>
            <a:ext cx="183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8:0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49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NXPowerLiteLastOptimized">
    <vt:lpwstr>280499</vt:lpwstr>
  </property>
  <property fmtid="{D5CDD505-2E9C-101B-9397-08002B2CF9AE}" pid="4" name="NXPowerLiteSettings">
    <vt:lpwstr>F7000400038000</vt:lpwstr>
  </property>
  <property fmtid="{D5CDD505-2E9C-101B-9397-08002B2CF9AE}" pid="5" name="NXPowerLiteVersion">
    <vt:lpwstr>D5.0.6</vt:lpwstr>
  </property>
</Properties>
</file>