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137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CCC-9130-400C-B778-88819EE0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B62-9DC3-4061-B9A8-EF59FC0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4F3-369E-4C96-94C5-CC1B8CFE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C4E-01C7-4AEA-97BB-AA64EDE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1E3-8071-4C81-9C29-DA6E9C6E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44B-5F2E-4C22-AC3D-840874BF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FD9D-F674-4AD3-BB17-B07C77E4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5D24-9064-43EC-939E-5DF3D34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DE8-F02E-4767-A673-931034F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DE5-0A04-4E52-ABDF-45F12E6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78DA-4392-49C7-B173-836A0E0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9AF-CE5E-4F2E-9055-FF5FB8E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3688-62F9-45A6-87DE-83BF286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5E9F-69BE-4841-A42E-4971E1C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F8C9-D69E-4D53-98B4-08AA36CB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80BF-D27E-480C-8FC3-5848BC06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3172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47800"/>
            <a:ext cx="264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D39-8B3A-46B2-A9B0-A1A735D1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B23-352F-4B44-9B37-42D8CA8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53F-42FD-438B-91E8-07180BCF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CB8-B97C-4241-9C27-3519B8F9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5880"/>
            <a:ext cx="82296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E01-CB5A-406F-A666-47AAC6A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FC8-F4BC-4353-808F-BA4CC25E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4780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86A-6623-41DE-9C3C-A8A1C60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31720"/>
            <a:ext cx="401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4780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100-7038-4DAC-A114-797FBBE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1720"/>
            <a:ext cx="82296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DB7-4776-49C5-BD90-7F45B2C90E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C10-B170-488B-B32C-5AADA6E257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884-1A08-4A58-9C02-86C27A3198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467-4EAD-48BC-99CA-F7BFF7A674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656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中秋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77960"/>
            <a:ext cx="6400800" cy="15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108000" y="5661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9:08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