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FA40-C81A-4DB7-A743-3ED35F910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EBA1-03FA-47D6-9FAB-B11DEAAB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D188-BAAD-482D-B6F5-4485D0A5A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D3C8-8A45-4A8C-88C0-F9AE0AAAD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8D19-68A1-4414-B6EF-9167DC9B3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F577-4923-4BF3-B36F-DA3466A2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0F9A-4FE8-4E8D-8EFB-6D3992F3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37EB-0528-4FB3-9903-33EA0B73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089B-3563-413F-91E5-1B940FFB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B9BE8-41CE-46FC-9D63-6B2AF552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1B94-6213-47E4-80E6-0B44F085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53F4-996D-43D6-945C-24DDAC6D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97F3-E2E0-42FD-8186-68DB32E3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0915-3B8E-49F9-8CDB-6CBC2BAB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BE8F-B31C-4152-A751-740ABA2C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F655-41C0-4144-B23D-2EF841E9F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DEBB0-334B-4900-B876-4F99803E4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38B5-3943-495F-BEA6-895352A6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5A30-7713-41E9-9CB0-DB859E39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F9CC-ACC5-4FDB-95F3-3504D70D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D27C-F148-4E18-BAD8-87172992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9E4E-8A9B-4E05-AAD9-33B54E72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4E69-4747-461E-B39B-1B76B75A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06AD-C634-4FDB-9968-2BFBBF65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3CDD-1E62-4435-8FBA-8796AE62DD4B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D36E-07B2-498E-ABC3-2369786697D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2276-6175-4F28-AF79-30EDFA4108B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hyperlink" Target="http://www.cca.gov.tw/Culture/Arts/cyears/b237/" TargetMode="External"/><Relationship Id="rId4" Type="http://schemas.openxmlformats.org/officeDocument/2006/relationships/hyperlink" Target="http://www.cca.gov.tw/Culture/Arts/cyears/b237/" TargetMode="External"/><Relationship Id="rId5" Type="http://schemas.openxmlformats.org/officeDocument/2006/relationships/hyperlink" Target="http://www.cca.gov.tw/Culture/Arts/cyears/b237/" TargetMode="External"/><Relationship Id="rId6" Type="http://schemas.openxmlformats.org/officeDocument/2006/relationships/hyperlink" Target="http://www.gio.gov.tw/info/festival_c/moon/moon.htm" TargetMode="External"/><Relationship Id="rId7" Type="http://schemas.openxmlformats.org/officeDocument/2006/relationships/hyperlink" Target="http://www.gio.gov.tw/info/festival_c/moon/moon.htm" TargetMode="External"/><Relationship Id="rId8" Type="http://schemas.openxmlformats.org/officeDocument/2006/relationships/hyperlink" Target="http://www.gio.gov.tw/info/festival_c/moon/moon.htm" TargetMode="External"/><Relationship Id="rId9" Type="http://schemas.openxmlformats.org/officeDocument/2006/relationships/hyperlink" Target="http://content.edu.tw/local/taipei/tpteach/holiday/c7.htm" TargetMode="External"/><Relationship Id="rId10" Type="http://schemas.openxmlformats.org/officeDocument/2006/relationships/hyperlink" Target="http://content.edu.tw/local/taipei/tpteach/holiday/c7.htm" TargetMode="External"/><Relationship Id="rId11" Type="http://schemas.openxmlformats.org/officeDocument/2006/relationships/hyperlink" Target="http://content.edu.tw/local/taipei/tpteach/holiday/c7.htm" TargetMode="External"/><Relationship Id="rId12" Type="http://schemas.openxmlformats.org/officeDocument/2006/relationships/hyperlink" Target="http://www.lanyangnet.com.tw/moon/" TargetMode="External"/><Relationship Id="rId13" Type="http://schemas.openxmlformats.org/officeDocument/2006/relationships/hyperlink" Target="http://www.mdnkids.com/fall/" TargetMode="External"/><Relationship Id="rId14" Type="http://schemas.openxmlformats.org/officeDocument/2006/relationships/hyperlink" Target="http://www2.ctps.tp.edu.tw/country/holiday/hldy_b/hldy_b8.htm" TargetMode="External"/><Relationship Id="rId15" Type="http://schemas.openxmlformats.org/officeDocument/2006/relationships/hyperlink" Target="http://www2.ctps.tp.edu.tw/country/holiday/hldy_b/hldy_b8.htm" TargetMode="External"/><Relationship Id="rId16" Type="http://schemas.openxmlformats.org/officeDocument/2006/relationships/hyperlink" Target="http://www2.ctps.tp.edu.tw/country/holiday/hldy_b/hldy_b8.htm" TargetMode="External"/><Relationship Id="rId17" Type="http://schemas.openxmlformats.org/officeDocument/2006/relationships/hyperlink" Target="http://www.eeppt.com" TargetMode="External"/><Relationship Id="rId18" Type="http://schemas.openxmlformats.org/officeDocument/2006/relationships/hyperlink" Target="http://www.eeppt.com" TargetMode="External"/><Relationship Id="rId1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2049"/>
          <p:cNvSpPr txBox="1"/>
          <p:nvPr/>
        </p:nvSpPr>
        <p:spPr>
          <a:xfrm>
            <a:off x="2286000" y="228600"/>
            <a:ext cx="44197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華康超圓體(P)"/>
              </a:rPr>
              <a:t>浪漫的中秋節</a:t>
            </a:r>
            <a:endParaRPr b="0" lang="en-US" sz="24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華康超圓體(P)"/>
              <a:ea typeface="華康超圓體(P)"/>
            </a:endParaRPr>
          </a:p>
        </p:txBody>
      </p:sp>
      <p:sp>
        <p:nvSpPr>
          <p:cNvPr id="83" name="矩形 2050"/>
          <p:cNvSpPr/>
          <p:nvPr/>
        </p:nvSpPr>
        <p:spPr>
          <a:xfrm>
            <a:off x="2346480" y="192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图片 2053" descr="moon1"/>
          <p:cNvPicPr/>
          <p:nvPr/>
        </p:nvPicPr>
        <p:blipFill>
          <a:blip r:embed="rId1"/>
          <a:stretch/>
        </p:blipFill>
        <p:spPr>
          <a:xfrm>
            <a:off x="2514600" y="2057400"/>
            <a:ext cx="3505320" cy="388620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2054"/>
          <p:cNvSpPr/>
          <p:nvPr/>
        </p:nvSpPr>
        <p:spPr>
          <a:xfrm>
            <a:off x="67816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華康超圓體"/>
              </a:rPr>
              <a:t>xxxxxxx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8000" y="1341360"/>
            <a:ext cx="90136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浪漫的中秋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6145"/>
          <p:cNvSpPr/>
          <p:nvPr/>
        </p:nvSpPr>
        <p:spPr>
          <a:xfrm>
            <a:off x="0" y="173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矩形 6146"/>
          <p:cNvSpPr/>
          <p:nvPr/>
        </p:nvSpPr>
        <p:spPr>
          <a:xfrm>
            <a:off x="1676520" y="1739880"/>
            <a:ext cx="7010280" cy="33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抬 頭 仰 望 明 月 ， 可 見 當 中 有 些 黑 影 ， 在 我 國 便 傳 說 這 就 是 吳 剛 在 伐 桂 。 相 傳 吳 剛 在 凡 間 本 為 樵 夫 ， 醉 心 於 仙 道 ， 但 始 終 不 肯 專 心 學 習 ， 因 此 天 帝 震 怒 ， 把 他 居 留 在 月 宮 ， 並 說 ： 「 如 果 你 砍 倒 桂 樹 ， 就 可 獲 仙 術 。 」 但 吳 剛 每 砍 完 一 段 時 間 ， 桂 樹 便 會 自 動 癒 合 ， 日 復 一 日 ， 吳 剛 伐 桂 的 願 望 仍 未 達 成 ， 而 他 也 不 斷 的 砍 下 去 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图片 6147" descr="man"/>
          <p:cNvPicPr/>
          <p:nvPr/>
        </p:nvPicPr>
        <p:blipFill>
          <a:blip r:embed="rId1"/>
          <a:stretch/>
        </p:blipFill>
        <p:spPr>
          <a:xfrm>
            <a:off x="0" y="2362320"/>
            <a:ext cx="1521000" cy="1942920"/>
          </a:xfrm>
          <a:prstGeom prst="rect">
            <a:avLst/>
          </a:prstGeom>
          <a:ln w="0">
            <a:noFill/>
          </a:ln>
        </p:spPr>
      </p:pic>
      <p:sp>
        <p:nvSpPr>
          <p:cNvPr id="113" name="矩形 6148"/>
          <p:cNvSpPr txBox="1"/>
          <p:nvPr/>
        </p:nvSpPr>
        <p:spPr>
          <a:xfrm>
            <a:off x="2743200" y="457200"/>
            <a:ext cx="3200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華康超圓體(P)"/>
              </a:rPr>
              <a:t>吳剛伐桂</a:t>
            </a:r>
            <a:endParaRPr b="0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華康超圓體(P)"/>
              <a:ea typeface="華康超圓體(P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17411"/>
          <p:cNvSpPr txBox="1"/>
          <p:nvPr/>
        </p:nvSpPr>
        <p:spPr>
          <a:xfrm>
            <a:off x="2916360" y="620640"/>
            <a:ext cx="28335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ffff"/>
                  </a:solidFill>
                  <a:round/>
                </a:ln>
                <a:solidFill>
                  <a:srgbClr val="00ff00"/>
                </a:solidFill>
                <a:latin typeface="華康娃娃體W7"/>
              </a:rPr>
              <a:t>語句</a:t>
            </a:r>
            <a:endParaRPr b="0" lang="en-US" sz="2400" spc="1" strike="noStrike">
              <a:ln w="9360">
                <a:solidFill>
                  <a:srgbClr val="00ffff"/>
                </a:solidFill>
                <a:round/>
              </a:ln>
              <a:solidFill>
                <a:srgbClr val="00ff00"/>
              </a:solidFill>
              <a:latin typeface="華康娃娃體W7"/>
              <a:ea typeface="華康娃娃體W7"/>
            </a:endParaRPr>
          </a:p>
        </p:txBody>
      </p:sp>
      <p:sp>
        <p:nvSpPr>
          <p:cNvPr id="115" name="矩形 17412"/>
          <p:cNvSpPr/>
          <p:nvPr/>
        </p:nvSpPr>
        <p:spPr>
          <a:xfrm>
            <a:off x="3279240" y="2522880"/>
            <a:ext cx="3550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c58da"/>
                </a:solidFill>
                <a:latin typeface="華康流隸體(P)"/>
                <a:ea typeface="華康流隸體(P)"/>
              </a:rPr>
              <a:t>1.</a:t>
            </a:r>
            <a:r>
              <a:rPr b="0" lang="zh-CN" sz="2800" spc="-1" strike="noStrike">
                <a:solidFill>
                  <a:srgbClr val="ac58da"/>
                </a:solidFill>
                <a:latin typeface="華康流隸體(P)"/>
                <a:ea typeface="華康流隸體(P)"/>
              </a:rPr>
              <a:t>中秋節吃月餅和文旦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c58da"/>
                </a:solidFill>
                <a:latin typeface="華康流隸體(P)"/>
                <a:ea typeface="華康流隸體(P)"/>
              </a:rPr>
              <a:t>2.</a:t>
            </a:r>
            <a:r>
              <a:rPr b="0" lang="zh-CN" sz="2800" spc="-1" strike="noStrike">
                <a:solidFill>
                  <a:srgbClr val="ac58da"/>
                </a:solidFill>
                <a:latin typeface="華康流隸體(P)"/>
                <a:ea typeface="華康流隸體(P)"/>
              </a:rPr>
              <a:t>細漢（小）時最愛用柚仔皮做帽子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c58da"/>
                </a:solidFill>
                <a:latin typeface="華康流隸體(P)"/>
                <a:ea typeface="華康流隸體(P)"/>
              </a:rPr>
              <a:t>3.</a:t>
            </a:r>
            <a:r>
              <a:rPr b="0" lang="zh-CN" sz="2800" spc="-1" strike="noStrike">
                <a:solidFill>
                  <a:srgbClr val="ac58da"/>
                </a:solidFill>
                <a:latin typeface="華康流隸體(P)"/>
                <a:ea typeface="華康流隸體(P)"/>
              </a:rPr>
              <a:t>月餅有很多款，你甲意哪一款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c58da"/>
                </a:solidFill>
                <a:latin typeface="華康流隸體(P)"/>
                <a:ea typeface="華康流隸體(P)"/>
              </a:rPr>
              <a:t>4.</a:t>
            </a:r>
            <a:r>
              <a:rPr b="0" lang="zh-CN" sz="2800" spc="-1" strike="noStrike">
                <a:solidFill>
                  <a:srgbClr val="ac58da"/>
                </a:solidFill>
                <a:latin typeface="華康流隸體(P)"/>
                <a:ea typeface="華康流隸體(P)"/>
              </a:rPr>
              <a:t>中秋時陣的柚仔較有湯（汁）又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c58da"/>
                </a:solidFill>
                <a:latin typeface="華康流隸體(P)"/>
                <a:ea typeface="華康流隸體(P)"/>
              </a:rPr>
              <a:t>5.</a:t>
            </a:r>
            <a:r>
              <a:rPr b="0" lang="zh-CN" sz="2800" spc="-1" strike="noStrike">
                <a:solidFill>
                  <a:srgbClr val="ac58da"/>
                </a:solidFill>
                <a:latin typeface="華康流隸體(P)"/>
                <a:ea typeface="華康流隸體(P)"/>
              </a:rPr>
              <a:t>古早的月餅你吃過嗎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c58da"/>
                </a:solidFill>
                <a:latin typeface="華康流隸體(P)"/>
                <a:ea typeface="華康流隸體(P)"/>
              </a:rPr>
              <a:t>6.</a:t>
            </a:r>
            <a:r>
              <a:rPr b="0" lang="zh-CN" sz="2800" spc="-1" strike="noStrike">
                <a:solidFill>
                  <a:srgbClr val="ac58da"/>
                </a:solidFill>
                <a:latin typeface="華康流隸體(P)"/>
                <a:ea typeface="華康流隸體(P)"/>
              </a:rPr>
              <a:t>現在的月餅，皮薄餡多又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7169"/>
          <p:cNvSpPr/>
          <p:nvPr/>
        </p:nvSpPr>
        <p:spPr>
          <a:xfrm>
            <a:off x="0" y="247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矩形 7170"/>
          <p:cNvSpPr/>
          <p:nvPr/>
        </p:nvSpPr>
        <p:spPr>
          <a:xfrm>
            <a:off x="2209680" y="2470320"/>
            <a:ext cx="647712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相 傳 有 三 位 神 仙 變 成 三 個 可 憐 的 老 人 ， 向 狐 狸 、 猴 子 、 兔 子 求 食 ， 狐 狸 與 猴 子 都 有 食 物 可 以 濟 助 ， 唯 有 兔 子 束 手 無 策 。 後 來 兔 子 說 ： 「 你 們 吃 我 的 肉 吧 ！ 」 就 躍 入 烈 火 中 ， 將 自 己 燒 熟 ， 神 仙 大 受 感 動 ， 把 兔 子 送 到 月 宮 內 ， 成 了 玉 兔 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矩形 7171"/>
          <p:cNvSpPr/>
          <p:nvPr/>
        </p:nvSpPr>
        <p:spPr>
          <a:xfrm>
            <a:off x="0" y="247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图片 7173" descr="rabbir1"/>
          <p:cNvPicPr/>
          <p:nvPr/>
        </p:nvPicPr>
        <p:blipFill>
          <a:blip r:embed="rId1"/>
          <a:stretch/>
        </p:blipFill>
        <p:spPr>
          <a:xfrm>
            <a:off x="0" y="2514600"/>
            <a:ext cx="2171880" cy="1744560"/>
          </a:xfrm>
          <a:prstGeom prst="rect">
            <a:avLst/>
          </a:prstGeom>
          <a:ln w="0">
            <a:noFill/>
          </a:ln>
        </p:spPr>
      </p:pic>
      <p:sp>
        <p:nvSpPr>
          <p:cNvPr id="120" name="矩形 7174"/>
          <p:cNvSpPr txBox="1"/>
          <p:nvPr/>
        </p:nvSpPr>
        <p:spPr>
          <a:xfrm>
            <a:off x="2514600" y="380880"/>
            <a:ext cx="34290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華康勘亭流(P)"/>
              </a:rPr>
              <a:t>玉兔搗藥</a:t>
            </a:r>
            <a:endParaRPr b="0" lang="en-US" sz="2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華康勘亭流(P)"/>
              <a:ea typeface="華康勘亭流(P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11267"/>
          <p:cNvSpPr txBox="1"/>
          <p:nvPr/>
        </p:nvSpPr>
        <p:spPr>
          <a:xfrm>
            <a:off x="2556000" y="189000"/>
            <a:ext cx="3435120" cy="15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華康超圓體"/>
              </a:rPr>
              <a:t>好站連結</a:t>
            </a:r>
            <a:endParaRPr b="0" lang="en-US" sz="2400" spc="-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華康超圓體"/>
              <a:ea typeface="華康超圓體"/>
            </a:endParaRPr>
          </a:p>
        </p:txBody>
      </p:sp>
      <p:sp>
        <p:nvSpPr>
          <p:cNvPr id="122" name="文本框 11268"/>
          <p:cNvSpPr/>
          <p:nvPr/>
        </p:nvSpPr>
        <p:spPr>
          <a:xfrm>
            <a:off x="826920" y="1989000"/>
            <a:ext cx="187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文本框 11269"/>
          <p:cNvSpPr/>
          <p:nvPr/>
        </p:nvSpPr>
        <p:spPr>
          <a:xfrm>
            <a:off x="1187280" y="2133720"/>
            <a:ext cx="158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華康超圓體"/>
                <a:ea typeface="華康超圓體"/>
                <a:hlinkClick r:id="rId3"/>
              </a:rPr>
              <a:t>中秋節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華康超圓體"/>
                <a:ea typeface="華康超圓體"/>
                <a:hlinkClick r:id="rId4"/>
              </a:rPr>
              <a:t>(cca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華康超圓體"/>
                <a:ea typeface="華康超圓體"/>
                <a:hlinkClick r:id="rId5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文本框 11270"/>
          <p:cNvSpPr/>
          <p:nvPr/>
        </p:nvSpPr>
        <p:spPr>
          <a:xfrm>
            <a:off x="1332000" y="3213000"/>
            <a:ext cx="172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文本框 11271"/>
          <p:cNvSpPr/>
          <p:nvPr/>
        </p:nvSpPr>
        <p:spPr>
          <a:xfrm>
            <a:off x="1258920" y="3068640"/>
            <a:ext cx="158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華康少女文字W7(P)"/>
                <a:ea typeface="華康少女文字W7(P)"/>
                <a:hlinkClick r:id="rId6"/>
              </a:rPr>
              <a:t>中秋節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華康少女文字W7(P)"/>
                <a:ea typeface="華康少女文字W7(P)"/>
                <a:hlinkClick r:id="rId7"/>
              </a:rPr>
              <a:t>(gio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華康少女文字W7(P)"/>
                <a:ea typeface="華康少女文字W7(P)"/>
                <a:hlinkClick r:id="rId8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文本框 11273"/>
          <p:cNvSpPr/>
          <p:nvPr/>
        </p:nvSpPr>
        <p:spPr>
          <a:xfrm>
            <a:off x="1258920" y="4437000"/>
            <a:ext cx="252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華康超圓體"/>
                <a:ea typeface="華康超圓體"/>
                <a:hlinkClick r:id="rId9"/>
              </a:rPr>
              <a:t>中秋節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華康超圓體"/>
                <a:ea typeface="華康超圓體"/>
                <a:hlinkClick r:id="rId10"/>
              </a:rPr>
              <a:t>(edu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華康超圓體"/>
                <a:ea typeface="華康超圓體"/>
                <a:hlinkClick r:id="rId11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文本框 11274"/>
          <p:cNvSpPr/>
          <p:nvPr/>
        </p:nvSpPr>
        <p:spPr>
          <a:xfrm>
            <a:off x="3635280" y="2133720"/>
            <a:ext cx="252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ea typeface="華康超圓體"/>
                <a:hlinkClick r:id="rId12"/>
              </a:rPr>
              <a:t>中秋佳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文本框 11275"/>
          <p:cNvSpPr/>
          <p:nvPr/>
        </p:nvSpPr>
        <p:spPr>
          <a:xfrm>
            <a:off x="3635280" y="3068640"/>
            <a:ext cx="208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ea typeface="華康超圓體"/>
                <a:hlinkClick r:id="rId13"/>
              </a:rPr>
              <a:t>中秋節特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文本框 11277"/>
          <p:cNvSpPr/>
          <p:nvPr/>
        </p:nvSpPr>
        <p:spPr>
          <a:xfrm>
            <a:off x="3492360" y="4437000"/>
            <a:ext cx="259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華康超圓體"/>
                <a:ea typeface="華康超圓體"/>
                <a:hlinkClick r:id="rId14"/>
              </a:rPr>
              <a:t>中秋節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華康超圓體"/>
                <a:ea typeface="華康超圓體"/>
                <a:hlinkClick r:id="rId15"/>
              </a:rPr>
              <a:t>(hldy_b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華康超圓體"/>
                <a:ea typeface="華康超圓體"/>
                <a:hlinkClick r:id="rId16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文本框 8198"/>
          <p:cNvSpPr/>
          <p:nvPr/>
        </p:nvSpPr>
        <p:spPr>
          <a:xfrm>
            <a:off x="539640" y="1844640"/>
            <a:ext cx="5061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7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8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8193"/>
          <p:cNvSpPr txBox="1"/>
          <p:nvPr/>
        </p:nvSpPr>
        <p:spPr>
          <a:xfrm>
            <a:off x="2438280" y="457200"/>
            <a:ext cx="40388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華康勘亭流"/>
              </a:rPr>
              <a:t>心得感想</a:t>
            </a:r>
            <a:endParaRPr b="0" lang="en-US" sz="24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華康勘亭流"/>
              <a:ea typeface="華康勘亭流"/>
            </a:endParaRPr>
          </a:p>
        </p:txBody>
      </p:sp>
      <p:sp>
        <p:nvSpPr>
          <p:cNvPr id="132" name="文本框 8195"/>
          <p:cNvSpPr/>
          <p:nvPr/>
        </p:nvSpPr>
        <p:spPr>
          <a:xfrm>
            <a:off x="1676520" y="274320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我覺得這次的簡報不但可以讓我們更加深入的研究簡報的主題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還可以讓我們練習用簡報製作報告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雖然我做的頁數不是很多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但是我已經很用心了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!!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我會繼續加油的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!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C595-B00C-4915-AE12-5E071965190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文本框 10242"/>
          <p:cNvSpPr/>
          <p:nvPr/>
        </p:nvSpPr>
        <p:spPr>
          <a:xfrm>
            <a:off x="990720" y="251460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矩形 10243"/>
          <p:cNvSpPr txBox="1"/>
          <p:nvPr/>
        </p:nvSpPr>
        <p:spPr>
          <a:xfrm>
            <a:off x="1752480" y="1676520"/>
            <a:ext cx="495324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華康勘亭流(P)"/>
              </a:rPr>
              <a:t>謝謝觀賞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華康勘亭流(P)"/>
              <a:ea typeface="華康勘亭流(P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文本框 3073"/>
          <p:cNvSpPr/>
          <p:nvPr/>
        </p:nvSpPr>
        <p:spPr>
          <a:xfrm>
            <a:off x="1143000" y="762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華康超圓體(P)"/>
              </a:rPr>
              <a:t>中秋節的由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矩形 3074"/>
          <p:cNvSpPr/>
          <p:nvPr/>
        </p:nvSpPr>
        <p:spPr>
          <a:xfrm>
            <a:off x="0" y="251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矩形 3075"/>
          <p:cNvSpPr/>
          <p:nvPr/>
        </p:nvSpPr>
        <p:spPr>
          <a:xfrm>
            <a:off x="990720" y="1600200"/>
            <a:ext cx="7086600" cy="15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一 輪 皎 潔 的 明 月 ， 自 古 就 是 人 們 吟 詠 歌 頌 的 主 角 ， 中 秋 節 的 月 亮 ， 更 令 人 有 溫 馨 的 感 受 。 相 傳 中 秋 節 源 自 於 古 代 祭 祀 月 神 的 禮 儀 ， 後 來 加 入 了 吃 月 餅 的 傳 說 ， 又 為 中 秋 節 增 添 了 民 族 意 識 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矩形 3076"/>
          <p:cNvSpPr/>
          <p:nvPr/>
        </p:nvSpPr>
        <p:spPr>
          <a:xfrm>
            <a:off x="0" y="17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矩形 3078"/>
          <p:cNvSpPr/>
          <p:nvPr/>
        </p:nvSpPr>
        <p:spPr>
          <a:xfrm>
            <a:off x="0" y="17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矩形 3079"/>
          <p:cNvSpPr/>
          <p:nvPr/>
        </p:nvSpPr>
        <p:spPr>
          <a:xfrm>
            <a:off x="914400" y="2514600"/>
            <a:ext cx="731520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「 月 圓 人 團 圓 」 ， 中 國 人 素 喜 以 月 圓 象 徵 人 團 圓 ， 因 此 中 秋 節 也 是 團 圓 的 日 子 。 當 夜 全 家 一 同 到 各 地 風 景 名 勝 迎 風 賞 月 ， 吃 著 月 餅 及 柚 子 ， 祈 求 全 家 平 安 ， 而 月 亮 在 「 嫦 娥 奔 月 」 、 「 吳 剛 伐 桂 」 及 「 玉 兔 搗 藥 」 等 傳 說 中 ， 變 得 更 富 生 命 力 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 秋 節 正 值 秋 收 時 節 ， 台 灣 民 間 也 同 時 在 這 一 天 祭 拜 土 地 公 ， 以 求 來 年 有 更 好 的 收 成 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13315"/>
          <p:cNvSpPr txBox="1"/>
          <p:nvPr/>
        </p:nvSpPr>
        <p:spPr>
          <a:xfrm>
            <a:off x="2268360" y="2133720"/>
            <a:ext cx="4105440" cy="20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華康超圓體(P)"/>
              </a:rPr>
              <a:t>相關習俗</a:t>
            </a:r>
            <a:endParaRPr b="0" lang="en-US" sz="4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華康超圓體(P)"/>
              <a:ea typeface="華康超圓體(P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14341"/>
          <p:cNvSpPr txBox="1"/>
          <p:nvPr/>
        </p:nvSpPr>
        <p:spPr>
          <a:xfrm>
            <a:off x="3348000" y="549360"/>
            <a:ext cx="132084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PMingLiU"/>
              </a:rPr>
              <a:t>賞月</a:t>
            </a:r>
            <a:endParaRPr b="0" lang="en-US" sz="24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PMingLiU"/>
              <a:ea typeface="PMingLiU"/>
            </a:endParaRPr>
          </a:p>
        </p:txBody>
      </p:sp>
      <p:sp>
        <p:nvSpPr>
          <p:cNvPr id="96" name="文本框 14343"/>
          <p:cNvSpPr/>
          <p:nvPr/>
        </p:nvSpPr>
        <p:spPr>
          <a:xfrm>
            <a:off x="1116000" y="2781360"/>
            <a:ext cx="68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99"/>
                </a:solidFill>
                <a:latin typeface="Times New Roman"/>
                <a:ea typeface="華康少女文字W7"/>
              </a:rPr>
              <a:t>中秋節的月亮是特別皎潔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  <a:ea typeface="華康少女文字W7"/>
              </a:rPr>
              <a:t>,</a:t>
            </a:r>
            <a:r>
              <a:rPr b="0" lang="zh-CN" sz="3200" spc="-1" strike="noStrike">
                <a:solidFill>
                  <a:srgbClr val="00cc99"/>
                </a:solidFill>
                <a:latin typeface="Times New Roman"/>
                <a:ea typeface="華康少女文字W7"/>
              </a:rPr>
              <a:t>明亮與圓滿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  <a:ea typeface="華康少女文字W7"/>
              </a:rPr>
              <a:t>,</a:t>
            </a:r>
            <a:r>
              <a:rPr b="0" lang="zh-CN" sz="3200" spc="-1" strike="noStrike">
                <a:solidFill>
                  <a:srgbClr val="00cc99"/>
                </a:solidFill>
                <a:latin typeface="Times New Roman"/>
                <a:ea typeface="華康少女文字W7"/>
              </a:rPr>
              <a:t>具有象徵性的意義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  <a:ea typeface="華康少女文字W7"/>
              </a:rPr>
              <a:t>,</a:t>
            </a:r>
            <a:r>
              <a:rPr b="0" lang="zh-CN" sz="3200" spc="-1" strike="noStrike">
                <a:solidFill>
                  <a:srgbClr val="00cc99"/>
                </a:solidFill>
                <a:latin typeface="Times New Roman"/>
                <a:ea typeface="華康少女文字W7"/>
              </a:rPr>
              <a:t>更有很多人想看月亮裡的玉兔和吳剛伐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4097"/>
          <p:cNvSpPr/>
          <p:nvPr/>
        </p:nvSpPr>
        <p:spPr>
          <a:xfrm>
            <a:off x="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矩形 4098"/>
          <p:cNvSpPr/>
          <p:nvPr/>
        </p:nvSpPr>
        <p:spPr>
          <a:xfrm>
            <a:off x="2590920" y="1828800"/>
            <a:ext cx="64008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柚 子 與 「 佑 子 」 的 諧 音 ， 含 有 吉 祥 之 意 ， 中 秋 節 前 後 又 適 逢 盛 產 期 ， 柚 子 便 成 了 中 秋 節 的 應 節 食 物 。 柚 子 以 麻 豆 文 旦 最 著 名 ， 因 當 地 水 土 因 素 ， 品 質 在 寶 島 柚 產 中 獨 占 鼇 頭 ， 當 中 又 以 尖 頂 圓 底 、 外 皮 皺 薄 者 ， 是 為 正 宗 上 品 ， 其 肉 白 汁 多 而 味 甘 如 蜜 ， 風 味 絕 佳 ， 馳 名 中 外 。 近 年 來 ， 台 灣 其 他 地 方 的 柚 子 亦 經 過 品 種 改 良 ， 品 質 優 秀 ， 成 為 廣 受 歡 迎 的 應 景 水 果 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矩形 4099"/>
          <p:cNvSpPr txBox="1"/>
          <p:nvPr/>
        </p:nvSpPr>
        <p:spPr>
          <a:xfrm>
            <a:off x="2590920" y="304920"/>
            <a:ext cx="3429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華康超圓體(P)"/>
              </a:rPr>
              <a:t>柚子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華康超圓體(P)"/>
              <a:ea typeface="華康超圓體(P)"/>
            </a:endParaRPr>
          </a:p>
        </p:txBody>
      </p:sp>
      <p:pic>
        <p:nvPicPr>
          <p:cNvPr id="100" name="图片 4100" descr="x"/>
          <p:cNvPicPr/>
          <p:nvPr/>
        </p:nvPicPr>
        <p:blipFill>
          <a:blip r:embed="rId1"/>
          <a:stretch/>
        </p:blipFill>
        <p:spPr>
          <a:xfrm>
            <a:off x="304920" y="2286000"/>
            <a:ext cx="20955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15363"/>
          <p:cNvSpPr txBox="1"/>
          <p:nvPr/>
        </p:nvSpPr>
        <p:spPr>
          <a:xfrm>
            <a:off x="3635280" y="692280"/>
            <a:ext cx="1825560" cy="10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華康海報體W12"/>
              </a:rPr>
              <a:t>月餅</a:t>
            </a:r>
            <a:endParaRPr b="0" lang="en-US" sz="2400" spc="-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華康海報體W12"/>
              <a:ea typeface="華康海報體W12"/>
            </a:endParaRPr>
          </a:p>
        </p:txBody>
      </p:sp>
      <p:sp>
        <p:nvSpPr>
          <p:cNvPr id="102" name="矩形 15366"/>
          <p:cNvSpPr/>
          <p:nvPr/>
        </p:nvSpPr>
        <p:spPr>
          <a:xfrm>
            <a:off x="611280" y="2284560"/>
            <a:ext cx="787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華康勘亭流(P)"/>
              </a:rPr>
              <a:t>吃月餅的習俗有文字記載是始於明代，傳說把節慶的食品神奇化，並賦予愛國的意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矩形 15367"/>
          <p:cNvSpPr/>
          <p:nvPr/>
        </p:nvSpPr>
        <p:spPr>
          <a:xfrm>
            <a:off x="611280" y="3075120"/>
            <a:ext cx="75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華康勘亭流(P)"/>
              </a:rPr>
              <a:t>中秋應景的品是「月餅」，與端午節吃粽子一樣。月餅是紀念反抗異族的統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16387"/>
          <p:cNvSpPr/>
          <p:nvPr/>
        </p:nvSpPr>
        <p:spPr>
          <a:xfrm>
            <a:off x="1403280" y="2366280"/>
            <a:ext cx="676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華康流隸體(P)"/>
                <a:ea typeface="華康流隸體(P)"/>
              </a:rPr>
              <a:t>大家吃月餅、賞月、酬謝社區之　</a:t>
            </a:r>
            <a:r>
              <a:rPr b="0" lang="en-US" sz="3000" spc="-1" strike="noStrike">
                <a:solidFill>
                  <a:srgbClr val="000000"/>
                </a:solidFill>
                <a:latin typeface="華康流隸體(P)"/>
                <a:ea typeface="華康流隸體(P)"/>
              </a:rPr>
              <a:t>─</a:t>
            </a:r>
            <a:r>
              <a:rPr b="0" lang="zh-CN" sz="3000" spc="-1" strike="noStrike">
                <a:solidFill>
                  <a:srgbClr val="000000"/>
                </a:solidFill>
                <a:latin typeface="華康流隸體(P)"/>
                <a:ea typeface="華康流隸體(P)"/>
              </a:rPr>
              <a:t>土地公等習俗，都在祈求人生圓滿光輝，家庭團圓幸福，社區平安，表現出月圓人亦圓的理想</a:t>
            </a:r>
            <a:r>
              <a:rPr b="0" lang="zh-CN" sz="2400" spc="-1" strike="noStrike">
                <a:solidFill>
                  <a:srgbClr val="000000"/>
                </a:solidFill>
                <a:latin typeface="華康流隸體(P)"/>
                <a:ea typeface="華康流隸體(P)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矩形 16388"/>
          <p:cNvSpPr txBox="1"/>
          <p:nvPr/>
        </p:nvSpPr>
        <p:spPr>
          <a:xfrm>
            <a:off x="3203640" y="549360"/>
            <a:ext cx="257184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華康娃娃體W7(P)"/>
              </a:rPr>
              <a:t>團圓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華康娃娃體W7(P)"/>
              <a:ea typeface="華康娃娃體W7(P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2292"/>
          <p:cNvSpPr txBox="1"/>
          <p:nvPr/>
        </p:nvSpPr>
        <p:spPr>
          <a:xfrm>
            <a:off x="1908000" y="2205000"/>
            <a:ext cx="5256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華康超圓體(P)"/>
              </a:rPr>
              <a:t>相關故事</a:t>
            </a:r>
            <a:endParaRPr b="0" lang="en-US" sz="24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華康超圓體(P)"/>
              <a:ea typeface="華康超圓體(P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5121"/>
          <p:cNvSpPr/>
          <p:nvPr/>
        </p:nvSpPr>
        <p:spPr>
          <a:xfrm>
            <a:off x="0" y="27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矩形 5122"/>
          <p:cNvSpPr/>
          <p:nvPr/>
        </p:nvSpPr>
        <p:spPr>
          <a:xfrm>
            <a:off x="914400" y="914400"/>
            <a:ext cx="7315200" cy="62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相 傳 遠 古 時 ， 有 十 個 太 陽 一 起 升 空 ， 烤 焦 了 所 有 莊 稼 草 木 ， 使 民 不 聊 生 。 后 羿 為 救 助 百 姓 ， 用 弓 箭 射 下 九 個 太 陽 ， 還 除 掉 大 地 上 的 毒 蛇 猛 獸 ， 人 們 才 得 安 居 樂 業 。 不 料 ， 被 射 落 九 個 的 太 陽 皆 是 天 帝 之 子 ， 天 帝 便 十 分 惱 怒 地 將 后 羿 和 妻 子 嫦 娥 貶 入 凡 間 。 西 王 母 很 同 情 后 羿 的 遭 遇 ， 就 把 長 生 不 老 藥 送 給 他 ， 但 嫦 娥 起 了 私 心 ， 一 個 人 偷 偷 吞 服 ， 身 體 竟 輕 飄 上 天 。 然 而 ， 嫦 娥 怕 到 天 庭 會 受 到 眾 仙 取 笑 ， 只 好 奔 往 月 亮 ， 成 了 廣 寒 宮 主 － － 月 神 娘 娘 。 嫦 娥 奔 月 的 當 天 ， 據 說 就 是 八 月 十 五 日 ， 於 是 後 人 便 在 每 年 的 八 月 十 五 日 祭 月 。 民 間 傳 說 ， 月 神 常 化 身 為 月 華 ， 降 身 人 間 賜 福 。 所 以 情 人 熱 戀 時 會 在 月 下 盟 誓 定 情 ， 失 散 的 戀 人 也 會 拜 求 月 亮 祈 團 圓 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矩形 5123"/>
          <p:cNvSpPr txBox="1"/>
          <p:nvPr/>
        </p:nvSpPr>
        <p:spPr>
          <a:xfrm>
            <a:off x="2438280" y="762120"/>
            <a:ext cx="3200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華康超圓體(P)"/>
              </a:rPr>
              <a:t>嫦娥奔月</a:t>
            </a:r>
            <a:endParaRPr b="0" lang="en-US" sz="24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華康超圓體(P)"/>
              <a:ea typeface="華康超圓體(P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2T13:31:0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3:31Z</dcterms:modified>
  <cp:revision>1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