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72343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137-18CA-4F66-8114-053DEA27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5C7-94D1-4079-8CBB-C123B4D8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AC2-2E0D-408C-A808-116DF059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C23-51CD-4FFA-8794-D854F979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894C-0DEF-423D-822E-8169C600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8DFF-2B8F-434E-B2BE-87707481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D688-16B9-490E-A010-1EF34FBF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00D6-A2D3-4782-BE5B-22AFCA6A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D57E-43D8-4808-9E3C-EACE24F1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280" y="258480"/>
            <a:ext cx="87505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D841-71B6-4752-AA7C-7D6C79E2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E09E-ADF9-4904-835D-61C42357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5A0-B107-4C8A-B4A7-C5E23C42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8A43-B48F-4859-80E6-5E9D5AD0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38C1-2406-42A0-8EC8-B0044AF0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8A1C-87F6-4271-A44A-2A9B1635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3564-5459-4B0E-8F7F-AF6924CB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4376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260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28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4376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260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C6BB-D7D0-451C-A07F-E3CB9F22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6DF-88E3-4422-826D-6519DE5F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C32-48D1-4EEA-9F14-D577A7DB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0BE-4592-43C3-870A-C57D47E2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480"/>
            <a:ext cx="875052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F75-0264-4006-BF56-55730647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8D0-EF67-492D-9F78-57301276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FCD-9C6D-432A-857D-965188E8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044-35EA-4786-A4D8-B9E115BB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0760"/>
            <a:ext cx="2268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5900760"/>
            <a:ext cx="3079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5900760"/>
            <a:ext cx="2268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19F3-9D18-47D2-B12D-8F4118EE91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A6FC-0A80-4D7E-AE25-A6320DF607D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7ADA-114E-4060-942D-67EDCE2B12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36360" y="6192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1909800" y="4316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海洋简历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3997-7210-4F55-8E3E-4A9FD56F79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280" y="258480"/>
            <a:ext cx="8750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123"/>
          <p:cNvSpPr/>
          <p:nvPr/>
        </p:nvSpPr>
        <p:spPr>
          <a:xfrm>
            <a:off x="901800" y="2664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0:58:01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4:1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