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091-2B0F-4338-B1D4-8CA2D15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30D-299B-47B5-85CB-E7E9EE77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B96-EE29-4187-9541-511BA9E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451-E9E9-4341-A36A-12A13112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E41A-C1C9-4357-8A6C-DF39B375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629E-1F4D-4FE6-A587-066DD25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D56D-6175-48B0-89C3-D8B1F97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2898-6C13-422A-B697-7E91FCD8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0AD9-FD61-4B39-8F8F-B8839661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C81-FB13-4CF6-A374-BD35073F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FBD-7DC7-49EF-BF09-F6FA3B0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A44-93D2-4F50-84AF-25044E1B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085F-EC49-43A7-B0C8-9A62FBB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B553-6E41-4A4D-B81C-40A2C99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B984-AE8F-43DD-B24D-D2D539E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8D7-79B1-43FD-B101-14AB6D0B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A137-399B-4E55-89B4-90B8A9B4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C43-9F06-43A0-934E-45D106F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45A-1507-42DA-B59B-FB7A895F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7DF-00F4-4228-9A4B-39480E8D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C67-EB61-43A4-85A8-0BAFDD57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F39-D7DB-4DD9-A2B4-1ECFBB2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B9F-AC03-476F-9EF2-A981295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A8-492A-47C8-BBCC-3650612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CA5C-8955-4C31-9EBF-9FEDF914B023}" type="slidenum">
              <a:rPr b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B867-E4BC-449A-940C-ECBC1139555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2E27-F063-4CA9-BC0C-EDAF6C7DEB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4865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张某某求职简历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79640" y="4005360"/>
            <a:ext cx="2984400" cy="177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6"/>
          <p:cNvSpPr/>
          <p:nvPr/>
        </p:nvSpPr>
        <p:spPr>
          <a:xfrm>
            <a:off x="2882160" y="765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蓝色跨栏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0000" y="40428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本信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26920" y="1844280"/>
            <a:ext cx="4894200" cy="40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姓名：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身高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户籍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学历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现居住地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毕业学校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所学专业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联系方式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121"/>
          <p:cNvSpPr/>
          <p:nvPr/>
        </p:nvSpPr>
        <p:spPr>
          <a:xfrm>
            <a:off x="2700360" y="40464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22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145"/>
          <p:cNvSpPr/>
          <p:nvPr/>
        </p:nvSpPr>
        <p:spPr>
          <a:xfrm>
            <a:off x="2700360" y="40464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169"/>
          <p:cNvSpPr/>
          <p:nvPr/>
        </p:nvSpPr>
        <p:spPr>
          <a:xfrm>
            <a:off x="2700360" y="40464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教育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193"/>
          <p:cNvSpPr/>
          <p:nvPr/>
        </p:nvSpPr>
        <p:spPr>
          <a:xfrm>
            <a:off x="2411280" y="520560"/>
            <a:ext cx="395928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专业技能及证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9217"/>
          <p:cNvSpPr/>
          <p:nvPr/>
        </p:nvSpPr>
        <p:spPr>
          <a:xfrm>
            <a:off x="2700360" y="52056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求职意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9AD-4856-4011-B0B8-47980227BF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0241"/>
          <p:cNvSpPr/>
          <p:nvPr/>
        </p:nvSpPr>
        <p:spPr>
          <a:xfrm>
            <a:off x="2987640" y="2924280"/>
            <a:ext cx="2590920" cy="89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致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17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