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DAA4C-A79E-4108-A41D-8DC34FC23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909360"/>
            <a:ext cx="87804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2199960"/>
            <a:ext cx="8780400" cy="16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954600"/>
            <a:ext cx="8780400" cy="16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BA03A-749A-42E7-B254-671B93E8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909360"/>
            <a:ext cx="87804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2199960"/>
            <a:ext cx="4284720" cy="16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8560" y="2199960"/>
            <a:ext cx="4284720" cy="16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954600"/>
            <a:ext cx="4284720" cy="16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8560" y="3954600"/>
            <a:ext cx="4284720" cy="16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74121-1F37-442C-B50B-C1ECCC13C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909360"/>
            <a:ext cx="87804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2199960"/>
            <a:ext cx="2827080" cy="16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8200" y="2199960"/>
            <a:ext cx="2827080" cy="16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16760" y="2199960"/>
            <a:ext cx="2827080" cy="16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954600"/>
            <a:ext cx="2827080" cy="16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8200" y="3954600"/>
            <a:ext cx="2827080" cy="16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16760" y="3954600"/>
            <a:ext cx="2827080" cy="16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3FC79-61EC-409D-A2A5-F315ACDA2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029A-3D11-4590-9A71-DA45DE3B4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909360"/>
            <a:ext cx="87804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79280" y="2199960"/>
            <a:ext cx="8780400" cy="33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D351-E665-47BD-9AC6-D70BA47C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909360"/>
            <a:ext cx="87804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2199960"/>
            <a:ext cx="8780400" cy="33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9A7C-C4A9-4A56-BD04-054304B2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909360"/>
            <a:ext cx="87804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2199960"/>
            <a:ext cx="4284720" cy="33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560" y="2199960"/>
            <a:ext cx="4284720" cy="33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9EC0-8073-450C-AB05-1A342220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909360"/>
            <a:ext cx="87804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DCA4-D906-40CB-B440-CA3091F2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79280" y="909360"/>
            <a:ext cx="8780400" cy="127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F097D-6745-47A3-87DF-9E8EB907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909360"/>
            <a:ext cx="87804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2199960"/>
            <a:ext cx="4284720" cy="16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560" y="2199960"/>
            <a:ext cx="4284720" cy="33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79280" y="3954600"/>
            <a:ext cx="4284720" cy="16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6F9B-60C8-4B07-AA1C-20FA11F8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909360"/>
            <a:ext cx="87804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2199960"/>
            <a:ext cx="8780400" cy="33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E2FA7-C6AD-4CA7-A7C5-37CF29D8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909360"/>
            <a:ext cx="87804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2199960"/>
            <a:ext cx="4284720" cy="33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8560" y="2199960"/>
            <a:ext cx="4284720" cy="16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8560" y="3954600"/>
            <a:ext cx="4284720" cy="16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E32CE-305C-4FD8-8F1B-8B860689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909360"/>
            <a:ext cx="87804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2199960"/>
            <a:ext cx="4284720" cy="16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560" y="2199960"/>
            <a:ext cx="4284720" cy="16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9280" y="3954600"/>
            <a:ext cx="8780400" cy="16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215A1-0927-4FBE-B06A-690D2A95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909360"/>
            <a:ext cx="87804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2199960"/>
            <a:ext cx="8780400" cy="16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79280" y="3954600"/>
            <a:ext cx="8780400" cy="16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6F8F9-E0C2-4345-929A-0DDD426F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280" y="909360"/>
            <a:ext cx="87804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2199960"/>
            <a:ext cx="4284720" cy="16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8560" y="2199960"/>
            <a:ext cx="4284720" cy="16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79280" y="3954600"/>
            <a:ext cx="4284720" cy="16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8560" y="3954600"/>
            <a:ext cx="4284720" cy="16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92DA-CBD9-4823-B274-057257271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909360"/>
            <a:ext cx="87804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2199960"/>
            <a:ext cx="2827080" cy="16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48200" y="2199960"/>
            <a:ext cx="2827080" cy="16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16760" y="2199960"/>
            <a:ext cx="2827080" cy="16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79280" y="3954600"/>
            <a:ext cx="2827080" cy="16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48200" y="3954600"/>
            <a:ext cx="2827080" cy="16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16760" y="3954600"/>
            <a:ext cx="2827080" cy="16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BB4E-12D5-4421-9FDE-FAFFCBBFC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909360"/>
            <a:ext cx="87804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79280" y="2199960"/>
            <a:ext cx="8780400" cy="33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909360"/>
            <a:ext cx="87804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2199960"/>
            <a:ext cx="8780400" cy="33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909360"/>
            <a:ext cx="87804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2199960"/>
            <a:ext cx="4284720" cy="33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560" y="2199960"/>
            <a:ext cx="4284720" cy="33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909360"/>
            <a:ext cx="87804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909360"/>
            <a:ext cx="87804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2199960"/>
            <a:ext cx="8780400" cy="33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0B395-8EB4-4BC4-AF23-D5223291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79280" y="909360"/>
            <a:ext cx="8780400" cy="127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909360"/>
            <a:ext cx="87804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9280" y="2199960"/>
            <a:ext cx="4284720" cy="16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8560" y="2199960"/>
            <a:ext cx="4284720" cy="33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79280" y="3954600"/>
            <a:ext cx="4284720" cy="16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80" y="909360"/>
            <a:ext cx="87804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9280" y="2199960"/>
            <a:ext cx="4284720" cy="33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8560" y="2199960"/>
            <a:ext cx="4284720" cy="16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8560" y="3954600"/>
            <a:ext cx="4284720" cy="16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909360"/>
            <a:ext cx="87804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80" y="2199960"/>
            <a:ext cx="4284720" cy="16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8560" y="2199960"/>
            <a:ext cx="4284720" cy="16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79280" y="3954600"/>
            <a:ext cx="8780400" cy="16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909360"/>
            <a:ext cx="87804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2199960"/>
            <a:ext cx="8780400" cy="16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79280" y="3954600"/>
            <a:ext cx="8780400" cy="16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909360"/>
            <a:ext cx="87804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9280" y="2199960"/>
            <a:ext cx="4284720" cy="16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8560" y="2199960"/>
            <a:ext cx="4284720" cy="16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79280" y="3954600"/>
            <a:ext cx="4284720" cy="16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8560" y="3954600"/>
            <a:ext cx="4284720" cy="16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909360"/>
            <a:ext cx="87804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9280" y="2199960"/>
            <a:ext cx="2827080" cy="16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148200" y="2199960"/>
            <a:ext cx="2827080" cy="16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16760" y="2199960"/>
            <a:ext cx="2827080" cy="16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79280" y="3954600"/>
            <a:ext cx="2827080" cy="16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148200" y="3954600"/>
            <a:ext cx="2827080" cy="16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16760" y="3954600"/>
            <a:ext cx="2827080" cy="16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909360"/>
            <a:ext cx="87804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2199960"/>
            <a:ext cx="4284720" cy="33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560" y="2199960"/>
            <a:ext cx="4284720" cy="33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B4AE4-4369-4588-9078-81072510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909360"/>
            <a:ext cx="87804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8043E-07E9-4FBB-8AD2-827FA69B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909360"/>
            <a:ext cx="8780400" cy="127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AAF8D-C516-4C7F-A820-C98F9724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909360"/>
            <a:ext cx="87804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2199960"/>
            <a:ext cx="4284720" cy="16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560" y="2199960"/>
            <a:ext cx="4284720" cy="33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954600"/>
            <a:ext cx="4284720" cy="16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75445-394F-4488-B863-533AF9DB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909360"/>
            <a:ext cx="87804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2199960"/>
            <a:ext cx="4284720" cy="33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8560" y="2199960"/>
            <a:ext cx="4284720" cy="16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8560" y="3954600"/>
            <a:ext cx="4284720" cy="16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29915-397C-473E-B756-C4F7065C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909360"/>
            <a:ext cx="87804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2199960"/>
            <a:ext cx="4284720" cy="16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2199960"/>
            <a:ext cx="4284720" cy="16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954600"/>
            <a:ext cx="8780400" cy="16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6934A-E63A-440F-A18A-E84E591B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79280" y="2199960"/>
            <a:ext cx="8780400" cy="33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91296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79280" indent="735120">
              <a:spcBef>
                <a:spcPts val="34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4520" indent="569880">
              <a:spcBef>
                <a:spcPts val="34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34960" indent="379440">
              <a:spcBef>
                <a:spcPts val="349"/>
              </a:spcBef>
              <a:buClr>
                <a:srgbClr val="000000"/>
              </a:buClr>
              <a:buFont typeface="Wingdings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534960" indent="379440">
              <a:spcBef>
                <a:spcPts val="349"/>
              </a:spcBef>
              <a:buClr>
                <a:srgbClr val="000000"/>
              </a:buClr>
              <a:buFont typeface="Wingdings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534960" indent="379440">
              <a:spcBef>
                <a:spcPts val="349"/>
              </a:spcBef>
              <a:buClr>
                <a:srgbClr val="000000"/>
              </a:buClr>
              <a:buFont typeface="Wingdings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QptBanner"/>
          <p:cNvSpPr/>
          <p:nvPr/>
        </p:nvSpPr>
        <p:spPr>
          <a:xfrm>
            <a:off x="0" y="0"/>
            <a:ext cx="9140760" cy="13240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79280" y="909360"/>
            <a:ext cx="87804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9280" y="6617880"/>
            <a:ext cx="2286000" cy="1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marL="216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2006 Accenture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240400" y="6620040"/>
            <a:ext cx="718920" cy="1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996B-7C95-4742-8C1F-FCAFBFEAFC0C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cnFootnote" hidden="1"/>
          <p:cNvSpPr/>
          <p:nvPr/>
        </p:nvSpPr>
        <p:spPr>
          <a:xfrm>
            <a:off x="179280" y="6253200"/>
            <a:ext cx="8780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538200" indent="-53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otnot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38200" indent="-538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ource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ourc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2730600" y="6631920"/>
            <a:ext cx="368280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cnRoadmap_ID_1121" hidden="1"/>
          <p:cNvSpPr/>
          <p:nvPr/>
        </p:nvSpPr>
        <p:spPr>
          <a:xfrm>
            <a:off x="4773600" y="88920"/>
            <a:ext cx="41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Roadma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cnSubjectTitle_ID_1124" hidden="1"/>
          <p:cNvSpPr/>
          <p:nvPr/>
        </p:nvSpPr>
        <p:spPr>
          <a:xfrm>
            <a:off x="179280" y="1420920"/>
            <a:ext cx="698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ubject Titl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AcnUnitofMeasure_ID_1125" hidden="1"/>
          <p:cNvSpPr/>
          <p:nvPr/>
        </p:nvSpPr>
        <p:spPr>
          <a:xfrm>
            <a:off x="179280" y="1697040"/>
            <a:ext cx="698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Unit of Measur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cnStamp_ID_1126" hidden="1"/>
          <p:cNvSpPr/>
          <p:nvPr/>
        </p:nvSpPr>
        <p:spPr>
          <a:xfrm>
            <a:off x="7537320" y="1411200"/>
            <a:ext cx="1422360" cy="26388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5560" bIns="25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STER STAMP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" name="AcnStpConnector_ID_1127"/>
          <p:cNvCxnSpPr/>
          <p:nvPr/>
        </p:nvCxnSpPr>
        <p:spPr>
          <a:xfrm>
            <a:off x="7536960" y="1410840"/>
            <a:ext cx="1423080" cy="108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12" name="AcnStpConnector_ID_1128"/>
          <p:cNvCxnSpPr/>
          <p:nvPr/>
        </p:nvCxnSpPr>
        <p:spPr>
          <a:xfrm>
            <a:off x="7536960" y="1674360"/>
            <a:ext cx="1423080" cy="108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  <p:sp>
        <p:nvSpPr>
          <p:cNvPr id="13" name="AcnFootnote_ID_1129" hidden="1"/>
          <p:cNvSpPr/>
          <p:nvPr/>
        </p:nvSpPr>
        <p:spPr>
          <a:xfrm>
            <a:off x="179280" y="6253200"/>
            <a:ext cx="8780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538200" indent="-53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otnot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38200" indent="-538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ource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ourc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B1B3-3236-42BF-B3D5-88AE4F64FEC4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938E-625A-465E-A083-97BF842B8561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QptBanner"/>
          <p:cNvSpPr/>
          <p:nvPr/>
        </p:nvSpPr>
        <p:spPr>
          <a:xfrm>
            <a:off x="0" y="0"/>
            <a:ext cx="9144000" cy="34275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图片 10314" descr=""/>
          <p:cNvPicPr/>
          <p:nvPr/>
        </p:nvPicPr>
        <p:blipFill>
          <a:blip r:embed="rId2"/>
          <a:stretch/>
        </p:blipFill>
        <p:spPr>
          <a:xfrm>
            <a:off x="419040" y="2154240"/>
            <a:ext cx="3675240" cy="18543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909360"/>
            <a:ext cx="87804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79280" y="2199960"/>
            <a:ext cx="8780400" cy="33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91296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79280" indent="735120">
              <a:spcBef>
                <a:spcPts val="34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4520" indent="569880">
              <a:spcBef>
                <a:spcPts val="34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34960" indent="379440">
              <a:spcBef>
                <a:spcPts val="349"/>
              </a:spcBef>
              <a:buClr>
                <a:srgbClr val="000000"/>
              </a:buClr>
              <a:buFont typeface="Wingdings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534960" indent="379440">
              <a:spcBef>
                <a:spcPts val="349"/>
              </a:spcBef>
              <a:buClr>
                <a:srgbClr val="000000"/>
              </a:buClr>
              <a:buFont typeface="Wingdings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534960" indent="379440">
              <a:spcBef>
                <a:spcPts val="349"/>
              </a:spcBef>
              <a:buClr>
                <a:srgbClr val="000000"/>
              </a:buClr>
              <a:buFont typeface="Wingdings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7"/>
          </p:nvPr>
        </p:nvSpPr>
        <p:spPr>
          <a:xfrm>
            <a:off x="179280" y="632628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marL="216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2006 Accenture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60400" y="4530240"/>
            <a:ext cx="7383600" cy="4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EPENING CUSTOMER RELATIONSHIP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844640" y="5347800"/>
            <a:ext cx="6275520" cy="10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nkaj Va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SSCOM 2008: India Leadership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ebruary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页脚占位符 1"/>
          <p:cNvSpPr/>
          <p:nvPr/>
        </p:nvSpPr>
        <p:spPr>
          <a:xfrm>
            <a:off x="179280" y="632628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6 Accenture. 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灯片编号占位符 2"/>
          <p:cNvSpPr/>
          <p:nvPr/>
        </p:nvSpPr>
        <p:spPr>
          <a:xfrm>
            <a:off x="8240760" y="6620040"/>
            <a:ext cx="71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598B-523B-4198-9658-89DE13817B0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文本框 6155"/>
          <p:cNvSpPr/>
          <p:nvPr/>
        </p:nvSpPr>
        <p:spPr>
          <a:xfrm>
            <a:off x="104760" y="62895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文本框 3"/>
          <p:cNvSpPr/>
          <p:nvPr/>
        </p:nvSpPr>
        <p:spPr>
          <a:xfrm>
            <a:off x="1576440" y="947880"/>
            <a:ext cx="557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蓝色企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完整版下载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280" y="817920"/>
            <a:ext cx="87804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WER OF A STRONG RELATIONSHI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639800" y="1863720"/>
          <a:ext cx="6548400" cy="3897360"/>
        </p:xfrm>
        <a:graphic>
          <a:graphicData uri="http://schemas.openxmlformats.org/drawingml/2006/table">
            <a:tbl>
              <a:tblPr/>
              <a:tblGrid>
                <a:gridCol w="2131920"/>
                <a:gridCol w="2156040"/>
                <a:gridCol w="2260440"/>
              </a:tblGrid>
              <a:tr h="1306440">
                <a:tc>
                  <a:txBody>
                    <a:bodyPr lIns="73080" rIns="73080" tIns="73080" bIns="73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73080" rIns="73080" tIns="73080" bIns="73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73080" rIns="73080" tIns="73080" bIns="73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254240">
                <a:tc>
                  <a:txBody>
                    <a:bodyPr lIns="73080" rIns="73080" tIns="73080" bIns="73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73080" rIns="73080" tIns="73080" bIns="73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73080" rIns="73080" tIns="73080" bIns="73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73080" rIns="73080" tIns="73080" bIns="73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73080" rIns="73080" tIns="73080" bIns="73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73080" rIns="73080" tIns="73080" bIns="73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AcnBodyText_ID_200878"/>
          <p:cNvSpPr/>
          <p:nvPr/>
        </p:nvSpPr>
        <p:spPr>
          <a:xfrm rot="16200000">
            <a:off x="261000" y="3679560"/>
            <a:ext cx="1509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LATIONSHI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cnBodyText_ID_200880"/>
          <p:cNvSpPr/>
          <p:nvPr/>
        </p:nvSpPr>
        <p:spPr>
          <a:xfrm>
            <a:off x="3310200" y="6294600"/>
            <a:ext cx="320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RACTUAL ARRANGEMEN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cnBodyText_ID_200878"/>
          <p:cNvSpPr/>
          <p:nvPr/>
        </p:nvSpPr>
        <p:spPr>
          <a:xfrm rot="16200000">
            <a:off x="1122480" y="48754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EAK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cnBodyText_ID_200878"/>
          <p:cNvSpPr/>
          <p:nvPr/>
        </p:nvSpPr>
        <p:spPr>
          <a:xfrm rot="16200000">
            <a:off x="998280" y="2285640"/>
            <a:ext cx="866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RON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cnBodyText_ID_200880"/>
          <p:cNvSpPr/>
          <p:nvPr/>
        </p:nvSpPr>
        <p:spPr>
          <a:xfrm>
            <a:off x="2348640" y="58626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EAK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cnBodyText_ID_200880"/>
          <p:cNvSpPr/>
          <p:nvPr/>
        </p:nvSpPr>
        <p:spPr>
          <a:xfrm>
            <a:off x="6771600" y="5862600"/>
            <a:ext cx="866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RON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页脚占位符 1"/>
          <p:cNvSpPr/>
          <p:nvPr/>
        </p:nvSpPr>
        <p:spPr>
          <a:xfrm>
            <a:off x="179280" y="6618240"/>
            <a:ext cx="2286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6 Accenture. 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灯片编号占位符 2"/>
          <p:cNvSpPr/>
          <p:nvPr/>
        </p:nvSpPr>
        <p:spPr>
          <a:xfrm>
            <a:off x="8240760" y="6620040"/>
            <a:ext cx="71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A061-67DD-47F9-AB8B-2D3277392E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文本框 8194"/>
          <p:cNvSpPr/>
          <p:nvPr/>
        </p:nvSpPr>
        <p:spPr>
          <a:xfrm>
            <a:off x="1325520" y="14461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 u="sng">
                <a:solidFill>
                  <a:srgbClr val="408cb3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227344" descr=""/>
          <p:cNvPicPr/>
          <p:nvPr/>
        </p:nvPicPr>
        <p:blipFill>
          <a:blip r:embed="rId1"/>
          <a:stretch/>
        </p:blipFill>
        <p:spPr>
          <a:xfrm>
            <a:off x="963720" y="1460520"/>
            <a:ext cx="7549920" cy="51055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280" y="817920"/>
            <a:ext cx="87804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TO DEEPEN CUSTOMER RELATIONSHIP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cnBodyText_ID_221189"/>
          <p:cNvSpPr/>
          <p:nvPr/>
        </p:nvSpPr>
        <p:spPr>
          <a:xfrm>
            <a:off x="2693880" y="4287960"/>
            <a:ext cx="40230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ER RELATIONSHIP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cnBodyText_ID_221189"/>
          <p:cNvSpPr/>
          <p:nvPr/>
        </p:nvSpPr>
        <p:spPr>
          <a:xfrm rot="3220800">
            <a:off x="3828600" y="3571920"/>
            <a:ext cx="575964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ER EXPERIEN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cnBodyText_ID_221189"/>
          <p:cNvSpPr/>
          <p:nvPr/>
        </p:nvSpPr>
        <p:spPr>
          <a:xfrm>
            <a:off x="1763640" y="6067440"/>
            <a:ext cx="56451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VALUE CREATE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cnBodyText_ID_221189"/>
          <p:cNvSpPr/>
          <p:nvPr/>
        </p:nvSpPr>
        <p:spPr>
          <a:xfrm rot="18381000">
            <a:off x="258480" y="3547800"/>
            <a:ext cx="496872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MART CLIEN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页脚占位符 1"/>
          <p:cNvSpPr/>
          <p:nvPr/>
        </p:nvSpPr>
        <p:spPr>
          <a:xfrm>
            <a:off x="179280" y="6618240"/>
            <a:ext cx="2286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6 Accenture. 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灯片编号占位符 2"/>
          <p:cNvSpPr/>
          <p:nvPr/>
        </p:nvSpPr>
        <p:spPr>
          <a:xfrm>
            <a:off x="8240760" y="6620040"/>
            <a:ext cx="71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69F3-02B8-4F5D-959C-EE5EEB9239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817920"/>
            <a:ext cx="87804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MART CLI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18600" y="1514520"/>
            <a:ext cx="878076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 a joint vision; steer everyone to achiev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ge to business outcomes – for b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ively govern the 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nforce success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m to outper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图片 226316" descr=""/>
          <p:cNvPicPr/>
          <p:nvPr/>
        </p:nvPicPr>
        <p:blipFill>
          <a:blip r:embed="rId1"/>
          <a:stretch/>
        </p:blipFill>
        <p:spPr>
          <a:xfrm>
            <a:off x="7408800" y="0"/>
            <a:ext cx="1735200" cy="1324080"/>
          </a:xfrm>
          <a:prstGeom prst="rect">
            <a:avLst/>
          </a:prstGeom>
          <a:ln w="0">
            <a:noFill/>
          </a:ln>
        </p:spPr>
      </p:pic>
      <p:sp>
        <p:nvSpPr>
          <p:cNvPr id="160" name="页脚占位符 1"/>
          <p:cNvSpPr/>
          <p:nvPr/>
        </p:nvSpPr>
        <p:spPr>
          <a:xfrm>
            <a:off x="179280" y="6618240"/>
            <a:ext cx="2286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6 Accenture. 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灯片编号占位符 2"/>
          <p:cNvSpPr/>
          <p:nvPr/>
        </p:nvSpPr>
        <p:spPr>
          <a:xfrm>
            <a:off x="8240760" y="6620040"/>
            <a:ext cx="71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665A-6526-4B98-B461-200F1D38825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189000" y="5000760"/>
            <a:ext cx="871200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5080" indent="-2350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High-performing businesses drive customer loyalty through the quality of the customer experience deliver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Loyalty significantly adds to shareholder val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图片 215101" descr=""/>
          <p:cNvPicPr/>
          <p:nvPr/>
        </p:nvPicPr>
        <p:blipFill>
          <a:blip r:embed="rId1"/>
          <a:stretch/>
        </p:blipFill>
        <p:spPr>
          <a:xfrm>
            <a:off x="2276640" y="1371600"/>
            <a:ext cx="6081480" cy="369252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80" y="452160"/>
            <a:ext cx="554040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STOMER EXPERIENCE – ACCENTURE’S POINT OF VIE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图片 215107" descr=""/>
          <p:cNvPicPr/>
          <p:nvPr/>
        </p:nvPicPr>
        <p:blipFill>
          <a:blip r:embed="rId2"/>
          <a:stretch/>
        </p:blipFill>
        <p:spPr>
          <a:xfrm>
            <a:off x="7421400" y="0"/>
            <a:ext cx="1722600" cy="1314360"/>
          </a:xfrm>
          <a:prstGeom prst="rect">
            <a:avLst/>
          </a:prstGeom>
          <a:ln w="0">
            <a:noFill/>
          </a:ln>
        </p:spPr>
      </p:pic>
      <p:sp>
        <p:nvSpPr>
          <p:cNvPr id="166" name="页脚占位符 1"/>
          <p:cNvSpPr/>
          <p:nvPr/>
        </p:nvSpPr>
        <p:spPr>
          <a:xfrm>
            <a:off x="179280" y="6618240"/>
            <a:ext cx="2286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6 Accenture. 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灯片编号占位符 2"/>
          <p:cNvSpPr/>
          <p:nvPr/>
        </p:nvSpPr>
        <p:spPr>
          <a:xfrm>
            <a:off x="8240760" y="6620040"/>
            <a:ext cx="71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72C6-6730-4F72-873D-52793AC84D4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文本框 8194"/>
          <p:cNvSpPr/>
          <p:nvPr/>
        </p:nvSpPr>
        <p:spPr>
          <a:xfrm>
            <a:off x="266760" y="14112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 u="sng">
                <a:solidFill>
                  <a:srgbClr val="408cb3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80" y="817920"/>
            <a:ext cx="87804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XIMIZING CUSTOMER EXPERIE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12680" y="2130480"/>
          <a:ext cx="6919920" cy="3857400"/>
        </p:xfrm>
        <a:graphic>
          <a:graphicData uri="http://schemas.openxmlformats.org/drawingml/2006/table">
            <a:tbl>
              <a:tblPr/>
              <a:tblGrid>
                <a:gridCol w="6919920"/>
              </a:tblGrid>
              <a:tr h="2623680">
                <a:tc>
                  <a:txBody>
                    <a:bodyPr lIns="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USTOMER EXPERIENCE 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=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ANCE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233720">
                <a:tc>
                  <a:txBody>
                    <a:bodyPr lIns="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CTATIONS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1" name="文本框 202889"/>
          <p:cNvSpPr/>
          <p:nvPr/>
        </p:nvSpPr>
        <p:spPr>
          <a:xfrm>
            <a:off x="6885360" y="4746600"/>
            <a:ext cx="227232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/ MANA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文本框 202890"/>
          <p:cNvSpPr/>
          <p:nvPr/>
        </p:nvSpPr>
        <p:spPr>
          <a:xfrm>
            <a:off x="7209000" y="2638440"/>
            <a:ext cx="163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MAXIMIZ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文本框 202891"/>
          <p:cNvSpPr/>
          <p:nvPr/>
        </p:nvSpPr>
        <p:spPr>
          <a:xfrm>
            <a:off x="7249320" y="3679920"/>
            <a:ext cx="1549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834240" y="1515960"/>
            <a:ext cx="360" cy="5042160"/>
            <a:chOff x="6834240" y="1515960"/>
            <a:chExt cx="360" cy="5042160"/>
          </a:xfrm>
        </p:grpSpPr>
        <p:sp>
          <p:nvSpPr>
            <p:cNvPr id="175" name="直接连接符 202892"/>
            <p:cNvSpPr/>
            <p:nvPr/>
          </p:nvSpPr>
          <p:spPr>
            <a:xfrm>
              <a:off x="6834240" y="1515960"/>
              <a:ext cx="0" cy="50421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6834240" y="1515960"/>
              <a:ext cx="360" cy="504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7" name="图片 202912" descr=""/>
          <p:cNvPicPr/>
          <p:nvPr/>
        </p:nvPicPr>
        <p:blipFill>
          <a:blip r:embed="rId1"/>
          <a:stretch/>
        </p:blipFill>
        <p:spPr>
          <a:xfrm>
            <a:off x="7421400" y="0"/>
            <a:ext cx="1722600" cy="1314360"/>
          </a:xfrm>
          <a:prstGeom prst="rect">
            <a:avLst/>
          </a:prstGeom>
          <a:ln w="0">
            <a:noFill/>
          </a:ln>
        </p:spPr>
      </p:pic>
      <p:sp>
        <p:nvSpPr>
          <p:cNvPr id="178" name="页脚占位符 1"/>
          <p:cNvSpPr/>
          <p:nvPr/>
        </p:nvSpPr>
        <p:spPr>
          <a:xfrm>
            <a:off x="179280" y="6618240"/>
            <a:ext cx="2286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6 Accenture. 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灯片编号占位符 2"/>
          <p:cNvSpPr/>
          <p:nvPr/>
        </p:nvSpPr>
        <p:spPr>
          <a:xfrm>
            <a:off x="8240760" y="6620040"/>
            <a:ext cx="71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F85A-59FE-4CA7-8815-E12A2A6555A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280" y="817920"/>
            <a:ext cx="87804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HANCING VALUE CREA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79280" y="1522440"/>
            <a:ext cx="8723520" cy="50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32560" indent="-232560"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an end-to-end view of the customers’ business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222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 down si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2560" indent="-232560"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2560" indent="-232560"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m with customers in prioritization / planning of the eng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222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ng domain expertise to th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2560" indent="-232560"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2560" indent="-232560"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ilor to the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222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ize does not fit all; each has unique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2560" indent="-232560"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2560" indent="-232560"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a customer-centric approach to managing your own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222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gn your performance metrics &amp; rewards with those of your 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2560" indent="-232560"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2560" indent="-232560"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 innovation / improvement in what you do for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222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them drive the same in their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14022" descr=""/>
          <p:cNvPicPr/>
          <p:nvPr/>
        </p:nvPicPr>
        <p:blipFill>
          <a:blip r:embed="rId1"/>
          <a:stretch/>
        </p:blipFill>
        <p:spPr>
          <a:xfrm>
            <a:off x="7408800" y="0"/>
            <a:ext cx="1735200" cy="1324080"/>
          </a:xfrm>
          <a:prstGeom prst="rect">
            <a:avLst/>
          </a:prstGeom>
          <a:ln w="0">
            <a:noFill/>
          </a:ln>
        </p:spPr>
      </p:pic>
      <p:sp>
        <p:nvSpPr>
          <p:cNvPr id="183" name="页脚占位符 1"/>
          <p:cNvSpPr/>
          <p:nvPr/>
        </p:nvSpPr>
        <p:spPr>
          <a:xfrm>
            <a:off x="179280" y="6618240"/>
            <a:ext cx="2286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6 Accenture. 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灯片编号占位符 2"/>
          <p:cNvSpPr/>
          <p:nvPr/>
        </p:nvSpPr>
        <p:spPr>
          <a:xfrm>
            <a:off x="8240760" y="6620040"/>
            <a:ext cx="71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9258-5B97-4DEE-8341-2A08D498DFC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D433-BAF0-4D80-9636-80AD783C48E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图片 206849" descr="newspaper"/>
          <p:cNvPicPr/>
          <p:nvPr/>
        </p:nvPicPr>
        <p:blipFill>
          <a:blip r:embed="rId1"/>
          <a:stretch/>
        </p:blipFill>
        <p:spPr>
          <a:xfrm>
            <a:off x="652320" y="1343160"/>
            <a:ext cx="7772400" cy="3351240"/>
          </a:xfrm>
          <a:prstGeom prst="rect">
            <a:avLst/>
          </a:prstGeom>
          <a:ln w="0">
            <a:noFill/>
          </a:ln>
        </p:spPr>
      </p:pic>
      <p:sp>
        <p:nvSpPr>
          <p:cNvPr id="190" name="文本框 206850"/>
          <p:cNvSpPr/>
          <p:nvPr/>
        </p:nvSpPr>
        <p:spPr>
          <a:xfrm>
            <a:off x="1477800" y="2049480"/>
            <a:ext cx="6286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Customers who buy a product with problems but receive “world-class” customer service while resolving the problem are more likely to repurchase from the company than customers who buy a perfect product with no problems at al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文本框 206851"/>
          <p:cNvSpPr/>
          <p:nvPr/>
        </p:nvSpPr>
        <p:spPr>
          <a:xfrm>
            <a:off x="1958040" y="1488960"/>
            <a:ext cx="50043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Dr. Jon Anton – Recent Survey Results*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文本框 206852"/>
          <p:cNvSpPr/>
          <p:nvPr/>
        </p:nvSpPr>
        <p:spPr>
          <a:xfrm>
            <a:off x="4102200" y="6521400"/>
            <a:ext cx="37497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Source: “eBusiness Customer Service” by Jon Ant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文本框 206857"/>
          <p:cNvSpPr/>
          <p:nvPr/>
        </p:nvSpPr>
        <p:spPr>
          <a:xfrm>
            <a:off x="-77760" y="4851360"/>
            <a:ext cx="90694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ing a superlative customer experience directly correlates to a customer’s propensity to remain loyal and buy additional products / services thus contributing to shareholder value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9280" y="817920"/>
            <a:ext cx="87804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ERY CUSTOMER INTERACTION IS AN OPPORTUN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页脚占位符 1"/>
          <p:cNvSpPr/>
          <p:nvPr/>
        </p:nvSpPr>
        <p:spPr>
          <a:xfrm>
            <a:off x="179280" y="6618240"/>
            <a:ext cx="2286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6 Accenture. 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2"/>
          <p:cNvSpPr/>
          <p:nvPr/>
        </p:nvSpPr>
        <p:spPr>
          <a:xfrm>
            <a:off x="8240760" y="6620040"/>
            <a:ext cx="71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C5AF-100F-4714-B067-95EE54A37D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06:26:30Z</dcterms:created>
  <dc:creator>幻灯片之家：www.eeppt.com</dc:creator>
  <dc:description/>
  <cp:keywords>幻灯片之家：www.eeppt.com</cp:keywords>
  <dc:language>en-US</dc:language>
  <cp:lastModifiedBy>pc</cp:lastModifiedBy>
  <cp:lastPrinted>2000-08-10T20:43:38Z</cp:lastPrinted>
  <dcterms:modified xsi:type="dcterms:W3CDTF">2016-01-24T03:34:15Z</dcterms:modified>
  <cp:revision>25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  <property fmtid="{D5CDD505-2E9C-101B-9397-08002B2CF9AE}" pid="3" name="QptColorScheme">
    <vt:lpwstr>Default</vt:lpwstr>
  </property>
  <property fmtid="{D5CDD505-2E9C-101B-9397-08002B2CF9AE}" pid="4" name="QptDesign">
    <vt:r8>2</vt:r8>
  </property>
  <property fmtid="{D5CDD505-2E9C-101B-9397-08002B2CF9AE}" pid="5" name="QptPageSize">
    <vt:r8>1</vt:r8>
  </property>
  <property fmtid="{D5CDD505-2E9C-101B-9397-08002B2CF9AE}" pid="6" name="QptVersion">
    <vt:r8>507</vt:r8>
  </property>
  <property fmtid="{D5CDD505-2E9C-101B-9397-08002B2CF9AE}" pid="7" name="_AdHocReviewCycleID">
    <vt:r8>-684847321</vt:r8>
  </property>
  <property fmtid="{D5CDD505-2E9C-101B-9397-08002B2CF9AE}" pid="8" name="_AuthorEmail">
    <vt:lpwstr>pankaj.vaish@accenture.com</vt:lpwstr>
  </property>
  <property fmtid="{D5CDD505-2E9C-101B-9397-08002B2CF9AE}" pid="9" name="_AuthorEmailDisplayName">
    <vt:lpwstr>Vaish, Pankaj</vt:lpwstr>
  </property>
  <property fmtid="{D5CDD505-2E9C-101B-9397-08002B2CF9AE}" pid="10" name="_EmailSubject">
    <vt:lpwstr>Deepening Customer Relationships V4- no color (2).ppt</vt:lpwstr>
  </property>
  <property fmtid="{D5CDD505-2E9C-101B-9397-08002B2CF9AE}" pid="11" name="_NewReviewCycle">
    <vt:lpwstr/>
  </property>
</Properties>
</file>