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A88-B33B-40DB-974F-5547B38E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E3C-FBC2-45F4-8832-AFCA4E74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521-0554-486F-BE85-141C1908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710-2AA4-4870-A91F-A446CDC8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D258-B52F-45D2-9E79-819279D4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232C-B8AB-4CE0-AC13-B149D604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7D2D-C22B-4AD3-BD0F-885C9776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6E9-ACBC-4325-939A-43240BA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4FB2-2214-42C4-81E3-B7E2C71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CDAB-1603-4180-ACE6-A4E91B7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D8B9-2ABA-47D2-85B8-D970D308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59B-6791-42BF-955A-59DD680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3B2E-257B-4F82-A599-F8854D4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7535-D9E9-48D7-BD2D-2E44812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190F-A4DC-4500-A60F-1C07DEEB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6703-3158-4AA9-8A51-F363FA5C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DB4-02F4-4296-A3A2-3C905463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D14-C425-47AA-95A2-DD1C5DFF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A76-F1EA-4033-B586-55A6D35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106-0229-43C2-9205-94DDC62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AF7-827F-4C31-9AB1-22F6A8C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1BB-F040-4D2E-BBCA-9E5A90E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9C2-1279-4620-A011-4C7FEF4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C51-2CA2-4EF5-9527-AA1054C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C9D-EC0B-461E-B518-33D5C18D57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BFF-3E07-4839-B435-B748F05817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969-1599-4292-AD16-10CB02D763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柳树"/>
          <p:cNvPicPr/>
          <p:nvPr/>
        </p:nvPicPr>
        <p:blipFill>
          <a:blip r:embed="rId1"/>
          <a:stretch/>
        </p:blipFill>
        <p:spPr>
          <a:xfrm>
            <a:off x="-1440" y="0"/>
            <a:ext cx="9144000" cy="7254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360520" y="868320"/>
            <a:ext cx="4638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8000"/>
                </a:solidFill>
                <a:latin typeface="楷体_GB2312"/>
              </a:rPr>
              <a:t>柳树  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077920" y="270828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柳树醒了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827960" y="7477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8000"/>
                </a:solidFill>
                <a:latin typeface="Times New Roman"/>
              </a:rPr>
              <a:t>醒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904280" y="7621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00"/>
                </a:solidFill>
                <a:latin typeface="Times New Roman"/>
              </a:rPr>
              <a:t>醒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294200" y="52560"/>
            <a:ext cx="59137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小丫丫和春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小丫丫，往溪边一蹲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柳条儿，朝水里一伸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妈妈问她干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丫丫回答顶认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春天藏在小溪里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我用柳条儿来钓春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d0f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08200" y="762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65600" y="74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98960" y="74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072560" y="768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9880" y="3794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865600" y="3870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031000" y="3870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935760" y="38862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48720" y="2286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840040" y="228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lé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964760" y="22860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zǎ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014600" y="2286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zh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96960" y="33066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ru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3040" y="335268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4926600" y="33526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831360" y="33526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u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5780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苏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睡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82492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打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雷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11092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洗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澡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709848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树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枝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73640" y="48006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软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柔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31040" y="48769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梳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034600" y="49449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树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枝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995520" y="49528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玩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耍花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87600" y="15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8640" y="15080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打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92360" y="1447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雷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846680" y="1523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35760" y="1447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4960" y="3657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软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560680" y="3657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梳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70360" y="3664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玩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707160" y="3641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苏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a8d2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90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90720" y="2133720"/>
            <a:ext cx="2286000" cy="360"/>
            <a:chOff x="990720" y="2133720"/>
            <a:chExt cx="2286000" cy="360"/>
          </a:xfrm>
        </p:grpSpPr>
        <p:sp>
          <p:nvSpPr>
            <p:cNvPr id="128" name="Line 3"/>
            <p:cNvSpPr/>
            <p:nvPr/>
          </p:nvSpPr>
          <p:spPr>
            <a:xfrm>
              <a:off x="990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990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990720"/>
            <a:ext cx="360" cy="2286000"/>
            <a:chOff x="2133720" y="990720"/>
            <a:chExt cx="360" cy="2286000"/>
          </a:xfrm>
        </p:grpSpPr>
        <p:sp>
          <p:nvSpPr>
            <p:cNvPr id="131" name="Line 4"/>
            <p:cNvSpPr/>
            <p:nvPr/>
          </p:nvSpPr>
          <p:spPr>
            <a:xfrm>
              <a:off x="2133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133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5"/>
          <p:cNvSpPr/>
          <p:nvPr/>
        </p:nvSpPr>
        <p:spPr>
          <a:xfrm>
            <a:off x="3276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76720" y="2133720"/>
            <a:ext cx="2286000" cy="360"/>
            <a:chOff x="3276720" y="2133720"/>
            <a:chExt cx="2286000" cy="360"/>
          </a:xfrm>
        </p:grpSpPr>
        <p:sp>
          <p:nvSpPr>
            <p:cNvPr id="135" name="Line 6"/>
            <p:cNvSpPr/>
            <p:nvPr/>
          </p:nvSpPr>
          <p:spPr>
            <a:xfrm>
              <a:off x="3276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276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720" y="990720"/>
            <a:ext cx="360" cy="2286000"/>
            <a:chOff x="4419720" y="990720"/>
            <a:chExt cx="360" cy="2286000"/>
          </a:xfrm>
        </p:grpSpPr>
        <p:sp>
          <p:nvSpPr>
            <p:cNvPr id="138" name="Line 7"/>
            <p:cNvSpPr/>
            <p:nvPr/>
          </p:nvSpPr>
          <p:spPr>
            <a:xfrm>
              <a:off x="4419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419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8"/>
          <p:cNvSpPr/>
          <p:nvPr/>
        </p:nvSpPr>
        <p:spPr>
          <a:xfrm>
            <a:off x="5562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62720" y="2133720"/>
            <a:ext cx="2286000" cy="360"/>
            <a:chOff x="5562720" y="2133720"/>
            <a:chExt cx="2286000" cy="360"/>
          </a:xfrm>
        </p:grpSpPr>
        <p:sp>
          <p:nvSpPr>
            <p:cNvPr id="142" name="Line 9"/>
            <p:cNvSpPr/>
            <p:nvPr/>
          </p:nvSpPr>
          <p:spPr>
            <a:xfrm>
              <a:off x="5562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562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05720" y="990720"/>
            <a:ext cx="360" cy="2286000"/>
            <a:chOff x="6705720" y="990720"/>
            <a:chExt cx="360" cy="2286000"/>
          </a:xfrm>
        </p:grpSpPr>
        <p:sp>
          <p:nvSpPr>
            <p:cNvPr id="145" name="Line 10"/>
            <p:cNvSpPr/>
            <p:nvPr/>
          </p:nvSpPr>
          <p:spPr>
            <a:xfrm>
              <a:off x="6705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705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11"/>
          <p:cNvSpPr/>
          <p:nvPr/>
        </p:nvSpPr>
        <p:spPr>
          <a:xfrm>
            <a:off x="990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5181480"/>
            <a:ext cx="2286000" cy="360"/>
            <a:chOff x="990720" y="5181480"/>
            <a:chExt cx="2286000" cy="360"/>
          </a:xfrm>
        </p:grpSpPr>
        <p:sp>
          <p:nvSpPr>
            <p:cNvPr id="149" name="Line 12"/>
            <p:cNvSpPr/>
            <p:nvPr/>
          </p:nvSpPr>
          <p:spPr>
            <a:xfrm>
              <a:off x="990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990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133720" y="4038480"/>
            <a:ext cx="360" cy="2286000"/>
            <a:chOff x="2133720" y="4038480"/>
            <a:chExt cx="360" cy="2286000"/>
          </a:xfrm>
        </p:grpSpPr>
        <p:sp>
          <p:nvSpPr>
            <p:cNvPr id="152" name="Line 13"/>
            <p:cNvSpPr/>
            <p:nvPr/>
          </p:nvSpPr>
          <p:spPr>
            <a:xfrm>
              <a:off x="2133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133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Rectangle 14"/>
          <p:cNvSpPr/>
          <p:nvPr/>
        </p:nvSpPr>
        <p:spPr>
          <a:xfrm>
            <a:off x="3276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5181480"/>
            <a:ext cx="2286000" cy="360"/>
            <a:chOff x="3276720" y="5181480"/>
            <a:chExt cx="2286000" cy="360"/>
          </a:xfrm>
        </p:grpSpPr>
        <p:sp>
          <p:nvSpPr>
            <p:cNvPr id="156" name="Line 15"/>
            <p:cNvSpPr/>
            <p:nvPr/>
          </p:nvSpPr>
          <p:spPr>
            <a:xfrm>
              <a:off x="3276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276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419720" y="4038480"/>
            <a:ext cx="360" cy="2286000"/>
            <a:chOff x="4419720" y="4038480"/>
            <a:chExt cx="360" cy="2286000"/>
          </a:xfrm>
        </p:grpSpPr>
        <p:sp>
          <p:nvSpPr>
            <p:cNvPr id="159" name="Line 16"/>
            <p:cNvSpPr/>
            <p:nvPr/>
          </p:nvSpPr>
          <p:spPr>
            <a:xfrm>
              <a:off x="4419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419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17"/>
          <p:cNvSpPr/>
          <p:nvPr/>
        </p:nvSpPr>
        <p:spPr>
          <a:xfrm>
            <a:off x="5562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2720" y="5181480"/>
            <a:ext cx="2286000" cy="360"/>
            <a:chOff x="5562720" y="5181480"/>
            <a:chExt cx="2286000" cy="360"/>
          </a:xfrm>
        </p:grpSpPr>
        <p:sp>
          <p:nvSpPr>
            <p:cNvPr id="163" name="Line 18"/>
            <p:cNvSpPr/>
            <p:nvPr/>
          </p:nvSpPr>
          <p:spPr>
            <a:xfrm>
              <a:off x="5562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562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05720" y="4038480"/>
            <a:ext cx="360" cy="2286000"/>
            <a:chOff x="6705720" y="4038480"/>
            <a:chExt cx="360" cy="2286000"/>
          </a:xfrm>
        </p:grpSpPr>
        <p:sp>
          <p:nvSpPr>
            <p:cNvPr id="166" name="Line 19"/>
            <p:cNvSpPr/>
            <p:nvPr/>
          </p:nvSpPr>
          <p:spPr>
            <a:xfrm>
              <a:off x="6705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705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21"/>
          <p:cNvSpPr/>
          <p:nvPr/>
        </p:nvSpPr>
        <p:spPr>
          <a:xfrm>
            <a:off x="1432800" y="7300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750480" y="76212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朋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6004800" y="7300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1464480" y="38098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话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718800" y="385452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友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5562720" y="3809880"/>
            <a:ext cx="2209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8200"/>
          <p:cNvSpPr/>
          <p:nvPr/>
        </p:nvSpPr>
        <p:spPr>
          <a:xfrm>
            <a:off x="1116000" y="5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ddff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66840" y="-228600"/>
            <a:ext cx="7235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66840" y="137160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6840" y="243828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66840" y="350532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6840" y="455616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98520" y="556272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高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45800" y="212760"/>
            <a:ext cx="14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话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855960" y="228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听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761080" y="212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830240" y="1371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朋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237200" y="1355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亲朋好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830240" y="249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735360" y="249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716440" y="243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754280" y="3565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听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59040" y="3505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话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5487840" y="3505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讲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79856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友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373536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朋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53248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友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1830240" y="5562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很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3735360" y="554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高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487840" y="554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高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519480" y="127080"/>
            <a:ext cx="24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课堂活动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12952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请你仿照课文编写诗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再说一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23440" y="2529000"/>
            <a:ext cx="675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春天跟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_______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话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着说着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______________________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739600" y="241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小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681560" y="38098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小草伸伸懒腰钻出了地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371600" y="48006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151000" y="4754520"/>
            <a:ext cx="5330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春天跟小河说话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着说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小河欢快地唱着歌儿从山上跑了下来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728800" y="31104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请你填一填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24800" y="1574640"/>
            <a:ext cx="66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春天到了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醒来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开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发芽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开花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钻出来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游来游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127160" y="2300400"/>
            <a:ext cx="23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迎春花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561920" y="2286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柳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199880" y="303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桃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781160" y="303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小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352160" y="3722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小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333320" y="1523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青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文本框 8200"/>
          <p:cNvSpPr/>
          <p:nvPr/>
        </p:nvSpPr>
        <p:spPr>
          <a:xfrm>
            <a:off x="104472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451160" y="120600"/>
            <a:ext cx="68832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zh-CN" sz="6600" spc="-1" strike="noStrike">
                <a:solidFill>
                  <a:srgbClr val="008000"/>
                </a:solidFill>
                <a:latin typeface="Times New Roman"/>
              </a:rPr>
              <a:t>柳树爷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柳树爷爷，喜欢钓鱼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长长枝条，伸进水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河水黑了，鱼儿没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柳树爷爷，坐着叹气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34B-2687-4E36-B1FF-59DC4C3676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5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