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F76-3E6C-4F40-94AC-ECD22147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5E3-1761-4850-9902-F1242118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E0C-B50B-438E-8E01-C50DDCBB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F61-14B6-4BC6-BB18-06B9FFF8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AAA2-333E-4799-91C4-BBB38448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F8AC-01AC-406F-8D95-43A8467F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936E-59A8-40B4-973F-B31ADFA6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3DC4-82C2-46BE-AFD0-3B7EC081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15CF-D2B2-46ED-AD22-AFF8491A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6A53-82A0-4C10-B623-591FCCE9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8C9C-C97D-476C-9F0D-54855F23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67B-A132-46F0-B047-080D2BCB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F77B-AF78-4FEC-B9AE-CDE25335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BB2E-772D-4FEA-A294-B64A630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CDAB-AD1E-4B57-B5B5-CBE24FEB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591B-E991-4773-95AD-17A31CB4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11B8-CE84-4B8C-975D-C63135CF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124C2-BE21-42EA-A3D7-40F51D9D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5045-FFD6-4B71-A1BD-C2557F66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FCEA-7965-4371-9437-486922A0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EE9CF-7BF5-4870-95E6-CDA39E95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E5E98-A660-434F-A594-32112F9E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919-991B-498F-ACC6-81C644E0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6D123-9235-4359-8846-A699645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2679-FCE5-4018-B92C-833EA69E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45AF-95AE-457D-81C7-8AA596AC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9824-DE8E-450A-88D8-171D06E7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65C3-6F50-4D08-AF69-10455295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9CCA6-5D8A-4613-9AED-1DA442E2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6916-01C4-412D-988D-467AD9C8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652-3D1F-4DDE-A8CD-F5439F55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440-24F2-4CCE-BFF4-15EE87EE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345-6447-4ADA-8B7E-6F6D6E76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414-E274-4F0C-9649-795AAECE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5F1-93AD-46AF-8127-B65C713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025-0DED-4C18-BA41-6BA61AC0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1465-7F13-4C43-BAD4-DA119A340B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DD69-110F-440F-A742-5D983AF6888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A946-82B8-460B-8C1C-DD334E0467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FC1C-0D6D-4E6B-ADA6-3691FCDA55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pic_6597"/>
          <p:cNvPicPr/>
          <p:nvPr/>
        </p:nvPicPr>
        <p:blipFill>
          <a:blip r:embed="rId1"/>
          <a:srcRect l="10608" t="23805" r="4545" b="7683"/>
          <a:stretch/>
        </p:blipFill>
        <p:spPr>
          <a:xfrm>
            <a:off x="375444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1081080" y="1202400"/>
            <a:ext cx="118584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958cd"/>
                </a:solidFill>
                <a:latin typeface="Arial"/>
              </a:rPr>
              <a:t>两只鸟蛋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57480" y="5638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aafa"/>
                </a:solidFill>
                <a:latin typeface="Arial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196000" y="5638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aafa"/>
                </a:solidFill>
                <a:latin typeface="Arial"/>
              </a:rPr>
              <a:t>读词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157320" y="6338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aafa"/>
                </a:solidFill>
                <a:latin typeface="Arial"/>
              </a:rPr>
              <a:t>读句子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201400" y="6338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aafa"/>
                </a:solidFill>
                <a:latin typeface="Arial"/>
              </a:rPr>
              <a:t>拓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287000" y="594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aafa"/>
                </a:solidFill>
                <a:latin typeface="Arial"/>
              </a:rPr>
              <a:t>生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6155"/>
          <p:cNvSpPr/>
          <p:nvPr/>
        </p:nvSpPr>
        <p:spPr>
          <a:xfrm>
            <a:off x="152280" y="53341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2165040" y="457200"/>
            <a:ext cx="40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两只鸟蛋愿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课件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676520" y="281952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读了这首儿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明白了什么道理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716120" y="6094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想一想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cc00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cc00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9"/>
          <p:cNvSpPr/>
          <p:nvPr/>
        </p:nvSpPr>
        <p:spPr>
          <a:xfrm>
            <a:off x="-382680" y="1289160"/>
            <a:ext cx="10061640" cy="6404040"/>
          </a:xfrm>
          <a:custGeom>
            <a:avLst/>
            <a:gdLst/>
            <a:ahLst/>
            <a:rect l="l" t="t" r="r" b="b"/>
            <a:pathLst>
              <a:path w="6338" h="4034">
                <a:moveTo>
                  <a:pt x="150" y="2379"/>
                </a:moveTo>
                <a:cubicBezTo>
                  <a:pt x="260" y="2376"/>
                  <a:pt x="370" y="2377"/>
                  <a:pt x="479" y="2370"/>
                </a:cubicBezTo>
                <a:cubicBezTo>
                  <a:pt x="564" y="2364"/>
                  <a:pt x="649" y="2332"/>
                  <a:pt x="735" y="2324"/>
                </a:cubicBezTo>
                <a:cubicBezTo>
                  <a:pt x="841" y="2289"/>
                  <a:pt x="943" y="2233"/>
                  <a:pt x="1046" y="2187"/>
                </a:cubicBezTo>
                <a:cubicBezTo>
                  <a:pt x="1121" y="2153"/>
                  <a:pt x="1205" y="2123"/>
                  <a:pt x="1274" y="2077"/>
                </a:cubicBezTo>
                <a:cubicBezTo>
                  <a:pt x="1437" y="1967"/>
                  <a:pt x="1584" y="1837"/>
                  <a:pt x="1750" y="1730"/>
                </a:cubicBezTo>
                <a:cubicBezTo>
                  <a:pt x="1793" y="1675"/>
                  <a:pt x="1829" y="1623"/>
                  <a:pt x="1878" y="1574"/>
                </a:cubicBezTo>
                <a:cubicBezTo>
                  <a:pt x="1947" y="1433"/>
                  <a:pt x="1862" y="1585"/>
                  <a:pt x="1942" y="1492"/>
                </a:cubicBezTo>
                <a:cubicBezTo>
                  <a:pt x="1951" y="1482"/>
                  <a:pt x="1953" y="1467"/>
                  <a:pt x="1960" y="1455"/>
                </a:cubicBezTo>
                <a:cubicBezTo>
                  <a:pt x="1989" y="1409"/>
                  <a:pt x="2042" y="1349"/>
                  <a:pt x="2088" y="1318"/>
                </a:cubicBezTo>
                <a:cubicBezTo>
                  <a:pt x="2130" y="1255"/>
                  <a:pt x="2075" y="1331"/>
                  <a:pt x="2143" y="1263"/>
                </a:cubicBezTo>
                <a:cubicBezTo>
                  <a:pt x="2176" y="1230"/>
                  <a:pt x="2243" y="1144"/>
                  <a:pt x="2280" y="1126"/>
                </a:cubicBezTo>
                <a:cubicBezTo>
                  <a:pt x="2292" y="1120"/>
                  <a:pt x="2305" y="1116"/>
                  <a:pt x="2316" y="1108"/>
                </a:cubicBezTo>
                <a:cubicBezTo>
                  <a:pt x="2369" y="1071"/>
                  <a:pt x="2401" y="1032"/>
                  <a:pt x="2463" y="1007"/>
                </a:cubicBezTo>
                <a:cubicBezTo>
                  <a:pt x="2628" y="1014"/>
                  <a:pt x="2790" y="1010"/>
                  <a:pt x="2947" y="1062"/>
                </a:cubicBezTo>
                <a:cubicBezTo>
                  <a:pt x="2997" y="1112"/>
                  <a:pt x="2951" y="1071"/>
                  <a:pt x="3084" y="1126"/>
                </a:cubicBezTo>
                <a:cubicBezTo>
                  <a:pt x="3159" y="1157"/>
                  <a:pt x="3238" y="1176"/>
                  <a:pt x="3313" y="1209"/>
                </a:cubicBezTo>
                <a:cubicBezTo>
                  <a:pt x="3401" y="1206"/>
                  <a:pt x="3490" y="1207"/>
                  <a:pt x="3578" y="1199"/>
                </a:cubicBezTo>
                <a:cubicBezTo>
                  <a:pt x="3646" y="1193"/>
                  <a:pt x="3718" y="1142"/>
                  <a:pt x="3779" y="1117"/>
                </a:cubicBezTo>
                <a:cubicBezTo>
                  <a:pt x="3822" y="1057"/>
                  <a:pt x="3901" y="1011"/>
                  <a:pt x="3962" y="971"/>
                </a:cubicBezTo>
                <a:cubicBezTo>
                  <a:pt x="4004" y="943"/>
                  <a:pt x="4042" y="897"/>
                  <a:pt x="4090" y="879"/>
                </a:cubicBezTo>
                <a:cubicBezTo>
                  <a:pt x="4127" y="843"/>
                  <a:pt x="4170" y="820"/>
                  <a:pt x="4209" y="788"/>
                </a:cubicBezTo>
                <a:cubicBezTo>
                  <a:pt x="4271" y="737"/>
                  <a:pt x="4300" y="662"/>
                  <a:pt x="4364" y="614"/>
                </a:cubicBezTo>
                <a:cubicBezTo>
                  <a:pt x="4418" y="574"/>
                  <a:pt x="4476" y="536"/>
                  <a:pt x="4529" y="495"/>
                </a:cubicBezTo>
                <a:cubicBezTo>
                  <a:pt x="4574" y="461"/>
                  <a:pt x="4612" y="413"/>
                  <a:pt x="4666" y="395"/>
                </a:cubicBezTo>
                <a:cubicBezTo>
                  <a:pt x="4709" y="328"/>
                  <a:pt x="4656" y="397"/>
                  <a:pt x="4712" y="358"/>
                </a:cubicBezTo>
                <a:cubicBezTo>
                  <a:pt x="4726" y="348"/>
                  <a:pt x="4735" y="332"/>
                  <a:pt x="4748" y="322"/>
                </a:cubicBezTo>
                <a:cubicBezTo>
                  <a:pt x="4762" y="311"/>
                  <a:pt x="4779" y="304"/>
                  <a:pt x="4794" y="294"/>
                </a:cubicBezTo>
                <a:cubicBezTo>
                  <a:pt x="4825" y="273"/>
                  <a:pt x="4857" y="253"/>
                  <a:pt x="4886" y="230"/>
                </a:cubicBezTo>
                <a:cubicBezTo>
                  <a:pt x="4901" y="218"/>
                  <a:pt x="4915" y="205"/>
                  <a:pt x="4931" y="194"/>
                </a:cubicBezTo>
                <a:cubicBezTo>
                  <a:pt x="4943" y="186"/>
                  <a:pt x="4957" y="183"/>
                  <a:pt x="4968" y="175"/>
                </a:cubicBezTo>
                <a:cubicBezTo>
                  <a:pt x="4985" y="162"/>
                  <a:pt x="4995" y="140"/>
                  <a:pt x="5014" y="130"/>
                </a:cubicBezTo>
                <a:cubicBezTo>
                  <a:pt x="5059" y="106"/>
                  <a:pt x="5095" y="68"/>
                  <a:pt x="5142" y="47"/>
                </a:cubicBezTo>
                <a:cubicBezTo>
                  <a:pt x="5182" y="29"/>
                  <a:pt x="5227" y="18"/>
                  <a:pt x="5270" y="11"/>
                </a:cubicBezTo>
                <a:cubicBezTo>
                  <a:pt x="5334" y="15"/>
                  <a:pt x="5405" y="0"/>
                  <a:pt x="5462" y="29"/>
                </a:cubicBezTo>
                <a:cubicBezTo>
                  <a:pt x="5533" y="65"/>
                  <a:pt x="5588" y="132"/>
                  <a:pt x="5654" y="175"/>
                </a:cubicBezTo>
                <a:cubicBezTo>
                  <a:pt x="5712" y="265"/>
                  <a:pt x="5609" y="109"/>
                  <a:pt x="5718" y="249"/>
                </a:cubicBezTo>
                <a:cubicBezTo>
                  <a:pt x="5748" y="287"/>
                  <a:pt x="5764" y="323"/>
                  <a:pt x="5800" y="358"/>
                </a:cubicBezTo>
                <a:cubicBezTo>
                  <a:pt x="5809" y="376"/>
                  <a:pt x="5816" y="396"/>
                  <a:pt x="5827" y="413"/>
                </a:cubicBezTo>
                <a:cubicBezTo>
                  <a:pt x="5832" y="420"/>
                  <a:pt x="5843" y="423"/>
                  <a:pt x="5846" y="431"/>
                </a:cubicBezTo>
                <a:cubicBezTo>
                  <a:pt x="5852" y="445"/>
                  <a:pt x="5850" y="462"/>
                  <a:pt x="5855" y="477"/>
                </a:cubicBezTo>
                <a:cubicBezTo>
                  <a:pt x="5869" y="518"/>
                  <a:pt x="5894" y="556"/>
                  <a:pt x="5910" y="596"/>
                </a:cubicBezTo>
                <a:cubicBezTo>
                  <a:pt x="5927" y="638"/>
                  <a:pt x="5931" y="669"/>
                  <a:pt x="5955" y="706"/>
                </a:cubicBezTo>
                <a:cubicBezTo>
                  <a:pt x="5971" y="784"/>
                  <a:pt x="5954" y="720"/>
                  <a:pt x="5992" y="806"/>
                </a:cubicBezTo>
                <a:cubicBezTo>
                  <a:pt x="6009" y="844"/>
                  <a:pt x="6010" y="886"/>
                  <a:pt x="6028" y="925"/>
                </a:cubicBezTo>
                <a:cubicBezTo>
                  <a:pt x="6064" y="1004"/>
                  <a:pt x="6105" y="1083"/>
                  <a:pt x="6138" y="1163"/>
                </a:cubicBezTo>
                <a:cubicBezTo>
                  <a:pt x="6161" y="1219"/>
                  <a:pt x="6175" y="1273"/>
                  <a:pt x="6202" y="1327"/>
                </a:cubicBezTo>
                <a:cubicBezTo>
                  <a:pt x="6212" y="1370"/>
                  <a:pt x="6228" y="1444"/>
                  <a:pt x="6257" y="1474"/>
                </a:cubicBezTo>
                <a:cubicBezTo>
                  <a:pt x="6281" y="1546"/>
                  <a:pt x="6268" y="1623"/>
                  <a:pt x="6294" y="1693"/>
                </a:cubicBezTo>
                <a:cubicBezTo>
                  <a:pt x="6307" y="1851"/>
                  <a:pt x="6338" y="2038"/>
                  <a:pt x="6248" y="2178"/>
                </a:cubicBezTo>
                <a:cubicBezTo>
                  <a:pt x="6237" y="2233"/>
                  <a:pt x="6218" y="2288"/>
                  <a:pt x="6184" y="2333"/>
                </a:cubicBezTo>
                <a:cubicBezTo>
                  <a:pt x="6172" y="2393"/>
                  <a:pt x="6152" y="2448"/>
                  <a:pt x="6138" y="2507"/>
                </a:cubicBezTo>
                <a:cubicBezTo>
                  <a:pt x="6144" y="2623"/>
                  <a:pt x="6147" y="2738"/>
                  <a:pt x="6156" y="2854"/>
                </a:cubicBezTo>
                <a:cubicBezTo>
                  <a:pt x="6158" y="2880"/>
                  <a:pt x="6175" y="2903"/>
                  <a:pt x="6184" y="2927"/>
                </a:cubicBezTo>
                <a:cubicBezTo>
                  <a:pt x="6202" y="2974"/>
                  <a:pt x="6208" y="3025"/>
                  <a:pt x="6220" y="3074"/>
                </a:cubicBezTo>
                <a:cubicBezTo>
                  <a:pt x="6214" y="3233"/>
                  <a:pt x="6221" y="3415"/>
                  <a:pt x="6120" y="3549"/>
                </a:cubicBezTo>
                <a:cubicBezTo>
                  <a:pt x="6074" y="3737"/>
                  <a:pt x="5968" y="3886"/>
                  <a:pt x="5772" y="3924"/>
                </a:cubicBezTo>
                <a:cubicBezTo>
                  <a:pt x="5018" y="3918"/>
                  <a:pt x="4715" y="3906"/>
                  <a:pt x="4026" y="3915"/>
                </a:cubicBezTo>
                <a:cubicBezTo>
                  <a:pt x="3857" y="3923"/>
                  <a:pt x="3699" y="3949"/>
                  <a:pt x="3532" y="3970"/>
                </a:cubicBezTo>
                <a:cubicBezTo>
                  <a:pt x="3395" y="3987"/>
                  <a:pt x="3255" y="4001"/>
                  <a:pt x="3121" y="4034"/>
                </a:cubicBezTo>
                <a:cubicBezTo>
                  <a:pt x="2792" y="4031"/>
                  <a:pt x="2463" y="4034"/>
                  <a:pt x="2134" y="4025"/>
                </a:cubicBezTo>
                <a:cubicBezTo>
                  <a:pt x="2112" y="4024"/>
                  <a:pt x="2092" y="4011"/>
                  <a:pt x="2070" y="4006"/>
                </a:cubicBezTo>
                <a:cubicBezTo>
                  <a:pt x="1924" y="3972"/>
                  <a:pt x="1797" y="3905"/>
                  <a:pt x="1658" y="3851"/>
                </a:cubicBezTo>
                <a:cubicBezTo>
                  <a:pt x="1589" y="3824"/>
                  <a:pt x="1530" y="3783"/>
                  <a:pt x="1457" y="3769"/>
                </a:cubicBezTo>
                <a:cubicBezTo>
                  <a:pt x="1379" y="3730"/>
                  <a:pt x="1344" y="3711"/>
                  <a:pt x="1256" y="3686"/>
                </a:cubicBezTo>
                <a:cubicBezTo>
                  <a:pt x="1189" y="3643"/>
                  <a:pt x="1278" y="3697"/>
                  <a:pt x="1174" y="3650"/>
                </a:cubicBezTo>
                <a:cubicBezTo>
                  <a:pt x="1074" y="3605"/>
                  <a:pt x="983" y="3570"/>
                  <a:pt x="872" y="3558"/>
                </a:cubicBezTo>
                <a:cubicBezTo>
                  <a:pt x="677" y="3568"/>
                  <a:pt x="465" y="3602"/>
                  <a:pt x="278" y="3540"/>
                </a:cubicBezTo>
                <a:cubicBezTo>
                  <a:pt x="258" y="3487"/>
                  <a:pt x="282" y="3536"/>
                  <a:pt x="241" y="3494"/>
                </a:cubicBezTo>
                <a:cubicBezTo>
                  <a:pt x="207" y="3459"/>
                  <a:pt x="181" y="3414"/>
                  <a:pt x="150" y="3375"/>
                </a:cubicBezTo>
                <a:cubicBezTo>
                  <a:pt x="143" y="3366"/>
                  <a:pt x="138" y="3356"/>
                  <a:pt x="131" y="3348"/>
                </a:cubicBezTo>
                <a:cubicBezTo>
                  <a:pt x="117" y="3332"/>
                  <a:pt x="86" y="3302"/>
                  <a:pt x="86" y="3302"/>
                </a:cubicBezTo>
                <a:cubicBezTo>
                  <a:pt x="73" y="3267"/>
                  <a:pt x="48" y="3245"/>
                  <a:pt x="31" y="3211"/>
                </a:cubicBezTo>
                <a:cubicBezTo>
                  <a:pt x="0" y="3021"/>
                  <a:pt x="20" y="2814"/>
                  <a:pt x="67" y="2626"/>
                </a:cubicBezTo>
                <a:cubicBezTo>
                  <a:pt x="76" y="2557"/>
                  <a:pt x="88" y="2432"/>
                  <a:pt x="168" y="2406"/>
                </a:cubicBezTo>
                <a:cubicBezTo>
                  <a:pt x="183" y="2391"/>
                  <a:pt x="214" y="2361"/>
                  <a:pt x="214" y="2361"/>
                </a:cubicBez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276120" y="58680"/>
            <a:ext cx="8707680" cy="7372440"/>
            <a:chOff x="276120" y="58680"/>
            <a:chExt cx="8707680" cy="7372440"/>
          </a:xfrm>
        </p:grpSpPr>
        <p:sp>
          <p:nvSpPr>
            <p:cNvPr id="153" name="Freeform 7"/>
            <p:cNvSpPr/>
            <p:nvPr/>
          </p:nvSpPr>
          <p:spPr>
            <a:xfrm>
              <a:off x="276120" y="58680"/>
              <a:ext cx="8707680" cy="5072040"/>
            </a:xfrm>
            <a:custGeom>
              <a:avLst/>
              <a:gdLst/>
              <a:ahLst/>
              <a:rect l="l" t="t" r="r" b="b"/>
              <a:pathLst>
                <a:path w="5485" h="3195">
                  <a:moveTo>
                    <a:pt x="3401" y="137"/>
                  </a:moveTo>
                  <a:cubicBezTo>
                    <a:pt x="3387" y="123"/>
                    <a:pt x="3379" y="103"/>
                    <a:pt x="3364" y="91"/>
                  </a:cubicBezTo>
                  <a:cubicBezTo>
                    <a:pt x="3354" y="83"/>
                    <a:pt x="3339" y="80"/>
                    <a:pt x="3328" y="73"/>
                  </a:cubicBezTo>
                  <a:cubicBezTo>
                    <a:pt x="3240" y="20"/>
                    <a:pt x="3260" y="24"/>
                    <a:pt x="3163" y="0"/>
                  </a:cubicBezTo>
                  <a:cubicBezTo>
                    <a:pt x="2939" y="5"/>
                    <a:pt x="2791" y="14"/>
                    <a:pt x="2587" y="27"/>
                  </a:cubicBezTo>
                  <a:cubicBezTo>
                    <a:pt x="2479" y="54"/>
                    <a:pt x="2382" y="103"/>
                    <a:pt x="2276" y="137"/>
                  </a:cubicBezTo>
                  <a:cubicBezTo>
                    <a:pt x="2215" y="177"/>
                    <a:pt x="2159" y="220"/>
                    <a:pt x="2103" y="265"/>
                  </a:cubicBezTo>
                  <a:cubicBezTo>
                    <a:pt x="2064" y="297"/>
                    <a:pt x="2053" y="339"/>
                    <a:pt x="2002" y="356"/>
                  </a:cubicBezTo>
                  <a:cubicBezTo>
                    <a:pt x="1975" y="353"/>
                    <a:pt x="1947" y="352"/>
                    <a:pt x="1920" y="347"/>
                  </a:cubicBezTo>
                  <a:cubicBezTo>
                    <a:pt x="1891" y="341"/>
                    <a:pt x="1866" y="325"/>
                    <a:pt x="1837" y="320"/>
                  </a:cubicBezTo>
                  <a:cubicBezTo>
                    <a:pt x="1779" y="309"/>
                    <a:pt x="1720" y="302"/>
                    <a:pt x="1664" y="283"/>
                  </a:cubicBezTo>
                  <a:cubicBezTo>
                    <a:pt x="1412" y="286"/>
                    <a:pt x="1116" y="250"/>
                    <a:pt x="859" y="320"/>
                  </a:cubicBezTo>
                  <a:cubicBezTo>
                    <a:pt x="769" y="410"/>
                    <a:pt x="887" y="300"/>
                    <a:pt x="804" y="356"/>
                  </a:cubicBezTo>
                  <a:cubicBezTo>
                    <a:pt x="774" y="376"/>
                    <a:pt x="764" y="413"/>
                    <a:pt x="740" y="438"/>
                  </a:cubicBezTo>
                  <a:cubicBezTo>
                    <a:pt x="686" y="495"/>
                    <a:pt x="638" y="565"/>
                    <a:pt x="594" y="630"/>
                  </a:cubicBezTo>
                  <a:cubicBezTo>
                    <a:pt x="591" y="639"/>
                    <a:pt x="589" y="649"/>
                    <a:pt x="585" y="658"/>
                  </a:cubicBezTo>
                  <a:cubicBezTo>
                    <a:pt x="580" y="668"/>
                    <a:pt x="571" y="675"/>
                    <a:pt x="567" y="685"/>
                  </a:cubicBezTo>
                  <a:cubicBezTo>
                    <a:pt x="544" y="744"/>
                    <a:pt x="531" y="815"/>
                    <a:pt x="521" y="877"/>
                  </a:cubicBezTo>
                  <a:cubicBezTo>
                    <a:pt x="525" y="962"/>
                    <a:pt x="521" y="1067"/>
                    <a:pt x="548" y="1152"/>
                  </a:cubicBezTo>
                  <a:cubicBezTo>
                    <a:pt x="542" y="1170"/>
                    <a:pt x="548" y="1200"/>
                    <a:pt x="530" y="1206"/>
                  </a:cubicBezTo>
                  <a:cubicBezTo>
                    <a:pt x="460" y="1228"/>
                    <a:pt x="382" y="1207"/>
                    <a:pt x="311" y="1225"/>
                  </a:cubicBezTo>
                  <a:cubicBezTo>
                    <a:pt x="274" y="1249"/>
                    <a:pt x="246" y="1274"/>
                    <a:pt x="210" y="1298"/>
                  </a:cubicBezTo>
                  <a:cubicBezTo>
                    <a:pt x="184" y="1337"/>
                    <a:pt x="152" y="1374"/>
                    <a:pt x="119" y="1408"/>
                  </a:cubicBezTo>
                  <a:cubicBezTo>
                    <a:pt x="108" y="1446"/>
                    <a:pt x="91" y="1473"/>
                    <a:pt x="73" y="1508"/>
                  </a:cubicBezTo>
                  <a:cubicBezTo>
                    <a:pt x="63" y="1548"/>
                    <a:pt x="49" y="1556"/>
                    <a:pt x="27" y="1590"/>
                  </a:cubicBezTo>
                  <a:cubicBezTo>
                    <a:pt x="17" y="1639"/>
                    <a:pt x="12" y="1688"/>
                    <a:pt x="0" y="1737"/>
                  </a:cubicBezTo>
                  <a:cubicBezTo>
                    <a:pt x="8" y="1816"/>
                    <a:pt x="2" y="1915"/>
                    <a:pt x="64" y="1974"/>
                  </a:cubicBezTo>
                  <a:cubicBezTo>
                    <a:pt x="83" y="2013"/>
                    <a:pt x="93" y="2033"/>
                    <a:pt x="128" y="2057"/>
                  </a:cubicBezTo>
                  <a:cubicBezTo>
                    <a:pt x="152" y="2092"/>
                    <a:pt x="179" y="2135"/>
                    <a:pt x="219" y="2148"/>
                  </a:cubicBezTo>
                  <a:cubicBezTo>
                    <a:pt x="248" y="2170"/>
                    <a:pt x="286" y="2200"/>
                    <a:pt x="320" y="2212"/>
                  </a:cubicBezTo>
                  <a:cubicBezTo>
                    <a:pt x="344" y="2220"/>
                    <a:pt x="393" y="2230"/>
                    <a:pt x="393" y="2230"/>
                  </a:cubicBezTo>
                  <a:cubicBezTo>
                    <a:pt x="455" y="2274"/>
                    <a:pt x="541" y="2278"/>
                    <a:pt x="612" y="2304"/>
                  </a:cubicBezTo>
                  <a:cubicBezTo>
                    <a:pt x="661" y="2301"/>
                    <a:pt x="710" y="2291"/>
                    <a:pt x="759" y="2294"/>
                  </a:cubicBezTo>
                  <a:cubicBezTo>
                    <a:pt x="768" y="2294"/>
                    <a:pt x="776" y="2304"/>
                    <a:pt x="777" y="2313"/>
                  </a:cubicBezTo>
                  <a:cubicBezTo>
                    <a:pt x="794" y="2465"/>
                    <a:pt x="770" y="2478"/>
                    <a:pt x="795" y="2578"/>
                  </a:cubicBezTo>
                  <a:cubicBezTo>
                    <a:pt x="808" y="2630"/>
                    <a:pt x="829" y="2693"/>
                    <a:pt x="850" y="2742"/>
                  </a:cubicBezTo>
                  <a:cubicBezTo>
                    <a:pt x="854" y="2752"/>
                    <a:pt x="862" y="2760"/>
                    <a:pt x="868" y="2770"/>
                  </a:cubicBezTo>
                  <a:cubicBezTo>
                    <a:pt x="875" y="2782"/>
                    <a:pt x="882" y="2793"/>
                    <a:pt x="887" y="2806"/>
                  </a:cubicBezTo>
                  <a:cubicBezTo>
                    <a:pt x="894" y="2824"/>
                    <a:pt x="896" y="2844"/>
                    <a:pt x="905" y="2861"/>
                  </a:cubicBezTo>
                  <a:cubicBezTo>
                    <a:pt x="925" y="2898"/>
                    <a:pt x="970" y="2943"/>
                    <a:pt x="996" y="2980"/>
                  </a:cubicBezTo>
                  <a:cubicBezTo>
                    <a:pt x="1029" y="3026"/>
                    <a:pt x="1059" y="3076"/>
                    <a:pt x="1115" y="3090"/>
                  </a:cubicBezTo>
                  <a:cubicBezTo>
                    <a:pt x="1181" y="3133"/>
                    <a:pt x="1149" y="3120"/>
                    <a:pt x="1207" y="3136"/>
                  </a:cubicBezTo>
                  <a:cubicBezTo>
                    <a:pt x="1562" y="3127"/>
                    <a:pt x="1494" y="3152"/>
                    <a:pt x="1673" y="3108"/>
                  </a:cubicBezTo>
                  <a:cubicBezTo>
                    <a:pt x="1715" y="3087"/>
                    <a:pt x="1748" y="3061"/>
                    <a:pt x="1792" y="3044"/>
                  </a:cubicBezTo>
                  <a:cubicBezTo>
                    <a:pt x="1810" y="3037"/>
                    <a:pt x="1847" y="3026"/>
                    <a:pt x="1847" y="3026"/>
                  </a:cubicBezTo>
                  <a:cubicBezTo>
                    <a:pt x="1895" y="2993"/>
                    <a:pt x="1937" y="2971"/>
                    <a:pt x="1993" y="2953"/>
                  </a:cubicBezTo>
                  <a:cubicBezTo>
                    <a:pt x="2022" y="2923"/>
                    <a:pt x="2000" y="2939"/>
                    <a:pt x="2048" y="2925"/>
                  </a:cubicBezTo>
                  <a:cubicBezTo>
                    <a:pt x="2067" y="2920"/>
                    <a:pt x="2103" y="2907"/>
                    <a:pt x="2103" y="2907"/>
                  </a:cubicBezTo>
                  <a:cubicBezTo>
                    <a:pt x="2160" y="2918"/>
                    <a:pt x="2147" y="2927"/>
                    <a:pt x="2194" y="2944"/>
                  </a:cubicBezTo>
                  <a:cubicBezTo>
                    <a:pt x="2225" y="3037"/>
                    <a:pt x="2319" y="3079"/>
                    <a:pt x="2404" y="3108"/>
                  </a:cubicBezTo>
                  <a:cubicBezTo>
                    <a:pt x="2435" y="3119"/>
                    <a:pt x="2463" y="3140"/>
                    <a:pt x="2496" y="3145"/>
                  </a:cubicBezTo>
                  <a:cubicBezTo>
                    <a:pt x="2596" y="3161"/>
                    <a:pt x="2696" y="3166"/>
                    <a:pt x="2797" y="3172"/>
                  </a:cubicBezTo>
                  <a:cubicBezTo>
                    <a:pt x="2939" y="3195"/>
                    <a:pt x="3079" y="3168"/>
                    <a:pt x="3218" y="3145"/>
                  </a:cubicBezTo>
                  <a:cubicBezTo>
                    <a:pt x="3274" y="3122"/>
                    <a:pt x="3328" y="3095"/>
                    <a:pt x="3383" y="3072"/>
                  </a:cubicBezTo>
                  <a:cubicBezTo>
                    <a:pt x="3407" y="3062"/>
                    <a:pt x="3456" y="3044"/>
                    <a:pt x="3456" y="3044"/>
                  </a:cubicBezTo>
                  <a:cubicBezTo>
                    <a:pt x="3491" y="3015"/>
                    <a:pt x="3522" y="2976"/>
                    <a:pt x="3565" y="2962"/>
                  </a:cubicBezTo>
                  <a:cubicBezTo>
                    <a:pt x="3580" y="2941"/>
                    <a:pt x="3595" y="2919"/>
                    <a:pt x="3611" y="2898"/>
                  </a:cubicBezTo>
                  <a:cubicBezTo>
                    <a:pt x="3620" y="2886"/>
                    <a:pt x="3639" y="2861"/>
                    <a:pt x="3639" y="2861"/>
                  </a:cubicBezTo>
                  <a:cubicBezTo>
                    <a:pt x="3645" y="2843"/>
                    <a:pt x="3651" y="2824"/>
                    <a:pt x="3657" y="2806"/>
                  </a:cubicBezTo>
                  <a:cubicBezTo>
                    <a:pt x="3660" y="2797"/>
                    <a:pt x="3666" y="2779"/>
                    <a:pt x="3666" y="2779"/>
                  </a:cubicBezTo>
                  <a:cubicBezTo>
                    <a:pt x="3706" y="2795"/>
                    <a:pt x="3735" y="2815"/>
                    <a:pt x="3767" y="2843"/>
                  </a:cubicBezTo>
                  <a:cubicBezTo>
                    <a:pt x="3790" y="2863"/>
                    <a:pt x="3805" y="2892"/>
                    <a:pt x="3831" y="2907"/>
                  </a:cubicBezTo>
                  <a:cubicBezTo>
                    <a:pt x="3839" y="2912"/>
                    <a:pt x="3850" y="2912"/>
                    <a:pt x="3858" y="2916"/>
                  </a:cubicBezTo>
                  <a:cubicBezTo>
                    <a:pt x="3887" y="2930"/>
                    <a:pt x="3902" y="2957"/>
                    <a:pt x="3931" y="2971"/>
                  </a:cubicBezTo>
                  <a:cubicBezTo>
                    <a:pt x="3943" y="2977"/>
                    <a:pt x="3985" y="2986"/>
                    <a:pt x="3995" y="2989"/>
                  </a:cubicBezTo>
                  <a:cubicBezTo>
                    <a:pt x="4070" y="3064"/>
                    <a:pt x="4245" y="3041"/>
                    <a:pt x="4324" y="3044"/>
                  </a:cubicBezTo>
                  <a:cubicBezTo>
                    <a:pt x="4580" y="3037"/>
                    <a:pt x="4578" y="3040"/>
                    <a:pt x="4745" y="3017"/>
                  </a:cubicBezTo>
                  <a:cubicBezTo>
                    <a:pt x="4785" y="3004"/>
                    <a:pt x="4826" y="2999"/>
                    <a:pt x="4864" y="2980"/>
                  </a:cubicBezTo>
                  <a:cubicBezTo>
                    <a:pt x="4957" y="2934"/>
                    <a:pt x="5001" y="2878"/>
                    <a:pt x="5056" y="2797"/>
                  </a:cubicBezTo>
                  <a:cubicBezTo>
                    <a:pt x="5071" y="2753"/>
                    <a:pt x="5090" y="2714"/>
                    <a:pt x="5101" y="2669"/>
                  </a:cubicBezTo>
                  <a:cubicBezTo>
                    <a:pt x="5098" y="2593"/>
                    <a:pt x="5097" y="2517"/>
                    <a:pt x="5092" y="2441"/>
                  </a:cubicBezTo>
                  <a:cubicBezTo>
                    <a:pt x="5087" y="2373"/>
                    <a:pt x="5031" y="2329"/>
                    <a:pt x="5010" y="2267"/>
                  </a:cubicBezTo>
                  <a:cubicBezTo>
                    <a:pt x="5048" y="2229"/>
                    <a:pt x="5097" y="2184"/>
                    <a:pt x="5147" y="2166"/>
                  </a:cubicBezTo>
                  <a:cubicBezTo>
                    <a:pt x="5215" y="2099"/>
                    <a:pt x="5295" y="2054"/>
                    <a:pt x="5357" y="1984"/>
                  </a:cubicBezTo>
                  <a:cubicBezTo>
                    <a:pt x="5371" y="1968"/>
                    <a:pt x="5391" y="1956"/>
                    <a:pt x="5403" y="1938"/>
                  </a:cubicBezTo>
                  <a:cubicBezTo>
                    <a:pt x="5415" y="1920"/>
                    <a:pt x="5440" y="1883"/>
                    <a:pt x="5440" y="1883"/>
                  </a:cubicBezTo>
                  <a:cubicBezTo>
                    <a:pt x="5455" y="1837"/>
                    <a:pt x="5473" y="1792"/>
                    <a:pt x="5485" y="1746"/>
                  </a:cubicBezTo>
                  <a:cubicBezTo>
                    <a:pt x="5478" y="1631"/>
                    <a:pt x="5485" y="1545"/>
                    <a:pt x="5421" y="1453"/>
                  </a:cubicBezTo>
                  <a:cubicBezTo>
                    <a:pt x="5406" y="1431"/>
                    <a:pt x="5374" y="1366"/>
                    <a:pt x="5357" y="1344"/>
                  </a:cubicBezTo>
                  <a:cubicBezTo>
                    <a:pt x="5341" y="1324"/>
                    <a:pt x="5303" y="1289"/>
                    <a:pt x="5303" y="1289"/>
                  </a:cubicBezTo>
                  <a:cubicBezTo>
                    <a:pt x="5288" y="1246"/>
                    <a:pt x="5240" y="1228"/>
                    <a:pt x="5202" y="1206"/>
                  </a:cubicBezTo>
                  <a:cubicBezTo>
                    <a:pt x="5036" y="1110"/>
                    <a:pt x="4908" y="1056"/>
                    <a:pt x="4717" y="1033"/>
                  </a:cubicBezTo>
                  <a:cubicBezTo>
                    <a:pt x="4679" y="1020"/>
                    <a:pt x="4632" y="1036"/>
                    <a:pt x="4599" y="1014"/>
                  </a:cubicBezTo>
                  <a:cubicBezTo>
                    <a:pt x="4586" y="1005"/>
                    <a:pt x="4606" y="984"/>
                    <a:pt x="4608" y="969"/>
                  </a:cubicBezTo>
                  <a:cubicBezTo>
                    <a:pt x="4617" y="915"/>
                    <a:pt x="4627" y="865"/>
                    <a:pt x="4644" y="813"/>
                  </a:cubicBezTo>
                  <a:cubicBezTo>
                    <a:pt x="4639" y="734"/>
                    <a:pt x="4652" y="641"/>
                    <a:pt x="4580" y="594"/>
                  </a:cubicBezTo>
                  <a:cubicBezTo>
                    <a:pt x="4536" y="503"/>
                    <a:pt x="4417" y="458"/>
                    <a:pt x="4324" y="438"/>
                  </a:cubicBezTo>
                  <a:cubicBezTo>
                    <a:pt x="4219" y="443"/>
                    <a:pt x="4123" y="441"/>
                    <a:pt x="4023" y="466"/>
                  </a:cubicBezTo>
                  <a:cubicBezTo>
                    <a:pt x="4001" y="487"/>
                    <a:pt x="3949" y="521"/>
                    <a:pt x="3949" y="521"/>
                  </a:cubicBezTo>
                  <a:cubicBezTo>
                    <a:pt x="3946" y="469"/>
                    <a:pt x="3945" y="417"/>
                    <a:pt x="3940" y="365"/>
                  </a:cubicBezTo>
                  <a:cubicBezTo>
                    <a:pt x="3933" y="293"/>
                    <a:pt x="3848" y="230"/>
                    <a:pt x="3794" y="192"/>
                  </a:cubicBezTo>
                  <a:cubicBezTo>
                    <a:pt x="3779" y="181"/>
                    <a:pt x="3651" y="129"/>
                    <a:pt x="3648" y="128"/>
                  </a:cubicBezTo>
                  <a:cubicBezTo>
                    <a:pt x="3624" y="122"/>
                    <a:pt x="3599" y="115"/>
                    <a:pt x="3575" y="109"/>
                  </a:cubicBezTo>
                  <a:cubicBezTo>
                    <a:pt x="3563" y="106"/>
                    <a:pt x="3538" y="100"/>
                    <a:pt x="3538" y="100"/>
                  </a:cubicBezTo>
                  <a:cubicBezTo>
                    <a:pt x="3492" y="103"/>
                    <a:pt x="3447" y="104"/>
                    <a:pt x="3401" y="109"/>
                  </a:cubicBezTo>
                  <a:cubicBezTo>
                    <a:pt x="3388" y="110"/>
                    <a:pt x="3364" y="105"/>
                    <a:pt x="3364" y="118"/>
                  </a:cubicBezTo>
                  <a:cubicBezTo>
                    <a:pt x="3364" y="132"/>
                    <a:pt x="3389" y="131"/>
                    <a:pt x="3401" y="137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"/>
            <p:cNvSpPr/>
            <p:nvPr/>
          </p:nvSpPr>
          <p:spPr>
            <a:xfrm>
              <a:off x="3092400" y="3889440"/>
              <a:ext cx="3367080" cy="3541680"/>
            </a:xfrm>
            <a:custGeom>
              <a:avLst/>
              <a:gdLst/>
              <a:ahLst/>
              <a:rect l="l" t="t" r="r" b="b"/>
              <a:pathLst>
                <a:path w="2121" h="2231">
                  <a:moveTo>
                    <a:pt x="585" y="284"/>
                  </a:moveTo>
                  <a:cubicBezTo>
                    <a:pt x="532" y="427"/>
                    <a:pt x="593" y="253"/>
                    <a:pt x="566" y="668"/>
                  </a:cubicBezTo>
                  <a:cubicBezTo>
                    <a:pt x="563" y="712"/>
                    <a:pt x="541" y="753"/>
                    <a:pt x="530" y="796"/>
                  </a:cubicBezTo>
                  <a:cubicBezTo>
                    <a:pt x="524" y="820"/>
                    <a:pt x="511" y="869"/>
                    <a:pt x="511" y="869"/>
                  </a:cubicBezTo>
                  <a:cubicBezTo>
                    <a:pt x="500" y="958"/>
                    <a:pt x="485" y="1058"/>
                    <a:pt x="457" y="1143"/>
                  </a:cubicBezTo>
                  <a:cubicBezTo>
                    <a:pt x="447" y="1221"/>
                    <a:pt x="430" y="1287"/>
                    <a:pt x="411" y="1363"/>
                  </a:cubicBezTo>
                  <a:cubicBezTo>
                    <a:pt x="400" y="1408"/>
                    <a:pt x="383" y="1500"/>
                    <a:pt x="383" y="1500"/>
                  </a:cubicBezTo>
                  <a:cubicBezTo>
                    <a:pt x="382" y="1528"/>
                    <a:pt x="417" y="1825"/>
                    <a:pt x="338" y="1920"/>
                  </a:cubicBezTo>
                  <a:cubicBezTo>
                    <a:pt x="279" y="1990"/>
                    <a:pt x="336" y="1909"/>
                    <a:pt x="292" y="1975"/>
                  </a:cubicBezTo>
                  <a:cubicBezTo>
                    <a:pt x="279" y="2015"/>
                    <a:pt x="253" y="2015"/>
                    <a:pt x="228" y="2048"/>
                  </a:cubicBezTo>
                  <a:cubicBezTo>
                    <a:pt x="181" y="2109"/>
                    <a:pt x="140" y="2179"/>
                    <a:pt x="63" y="2204"/>
                  </a:cubicBezTo>
                  <a:cubicBezTo>
                    <a:pt x="54" y="2210"/>
                    <a:pt x="46" y="2217"/>
                    <a:pt x="36" y="2222"/>
                  </a:cubicBezTo>
                  <a:cubicBezTo>
                    <a:pt x="28" y="2226"/>
                    <a:pt x="0" y="2231"/>
                    <a:pt x="9" y="2231"/>
                  </a:cubicBezTo>
                  <a:cubicBezTo>
                    <a:pt x="102" y="2231"/>
                    <a:pt x="193" y="2196"/>
                    <a:pt x="283" y="2176"/>
                  </a:cubicBezTo>
                  <a:cubicBezTo>
                    <a:pt x="415" y="2146"/>
                    <a:pt x="335" y="2171"/>
                    <a:pt x="402" y="2149"/>
                  </a:cubicBezTo>
                  <a:cubicBezTo>
                    <a:pt x="469" y="2104"/>
                    <a:pt x="637" y="2068"/>
                    <a:pt x="722" y="2067"/>
                  </a:cubicBezTo>
                  <a:cubicBezTo>
                    <a:pt x="1188" y="2061"/>
                    <a:pt x="1655" y="2060"/>
                    <a:pt x="2121" y="2057"/>
                  </a:cubicBezTo>
                  <a:cubicBezTo>
                    <a:pt x="2108" y="2022"/>
                    <a:pt x="2102" y="2006"/>
                    <a:pt x="2066" y="1993"/>
                  </a:cubicBezTo>
                  <a:cubicBezTo>
                    <a:pt x="2046" y="1974"/>
                    <a:pt x="2034" y="1944"/>
                    <a:pt x="2011" y="1929"/>
                  </a:cubicBezTo>
                  <a:cubicBezTo>
                    <a:pt x="1974" y="1904"/>
                    <a:pt x="1929" y="1892"/>
                    <a:pt x="1901" y="1856"/>
                  </a:cubicBezTo>
                  <a:cubicBezTo>
                    <a:pt x="1878" y="1827"/>
                    <a:pt x="1828" y="1774"/>
                    <a:pt x="1828" y="1774"/>
                  </a:cubicBezTo>
                  <a:cubicBezTo>
                    <a:pt x="1818" y="1724"/>
                    <a:pt x="1800" y="1678"/>
                    <a:pt x="1791" y="1628"/>
                  </a:cubicBezTo>
                  <a:cubicBezTo>
                    <a:pt x="1779" y="1564"/>
                    <a:pt x="1773" y="1518"/>
                    <a:pt x="1727" y="1472"/>
                  </a:cubicBezTo>
                  <a:cubicBezTo>
                    <a:pt x="1669" y="1295"/>
                    <a:pt x="1727" y="1490"/>
                    <a:pt x="1700" y="1061"/>
                  </a:cubicBezTo>
                  <a:cubicBezTo>
                    <a:pt x="1698" y="1036"/>
                    <a:pt x="1682" y="988"/>
                    <a:pt x="1682" y="988"/>
                  </a:cubicBezTo>
                  <a:cubicBezTo>
                    <a:pt x="1675" y="905"/>
                    <a:pt x="1662" y="838"/>
                    <a:pt x="1645" y="759"/>
                  </a:cubicBezTo>
                  <a:cubicBezTo>
                    <a:pt x="1642" y="744"/>
                    <a:pt x="1640" y="728"/>
                    <a:pt x="1636" y="713"/>
                  </a:cubicBezTo>
                  <a:cubicBezTo>
                    <a:pt x="1631" y="695"/>
                    <a:pt x="1618" y="659"/>
                    <a:pt x="1618" y="659"/>
                  </a:cubicBezTo>
                  <a:cubicBezTo>
                    <a:pt x="1612" y="509"/>
                    <a:pt x="1650" y="385"/>
                    <a:pt x="1499" y="329"/>
                  </a:cubicBezTo>
                  <a:cubicBezTo>
                    <a:pt x="1479" y="343"/>
                    <a:pt x="1453" y="360"/>
                    <a:pt x="1435" y="375"/>
                  </a:cubicBezTo>
                  <a:cubicBezTo>
                    <a:pt x="1425" y="384"/>
                    <a:pt x="1419" y="397"/>
                    <a:pt x="1407" y="403"/>
                  </a:cubicBezTo>
                  <a:cubicBezTo>
                    <a:pt x="1390" y="412"/>
                    <a:pt x="1353" y="421"/>
                    <a:pt x="1353" y="421"/>
                  </a:cubicBezTo>
                  <a:cubicBezTo>
                    <a:pt x="1347" y="427"/>
                    <a:pt x="1339" y="432"/>
                    <a:pt x="1334" y="439"/>
                  </a:cubicBezTo>
                  <a:cubicBezTo>
                    <a:pt x="1327" y="448"/>
                    <a:pt x="1324" y="459"/>
                    <a:pt x="1316" y="467"/>
                  </a:cubicBezTo>
                  <a:cubicBezTo>
                    <a:pt x="1308" y="475"/>
                    <a:pt x="1297" y="478"/>
                    <a:pt x="1289" y="485"/>
                  </a:cubicBezTo>
                  <a:cubicBezTo>
                    <a:pt x="1193" y="569"/>
                    <a:pt x="1296" y="497"/>
                    <a:pt x="1188" y="567"/>
                  </a:cubicBezTo>
                  <a:cubicBezTo>
                    <a:pt x="1163" y="583"/>
                    <a:pt x="1125" y="585"/>
                    <a:pt x="1097" y="595"/>
                  </a:cubicBezTo>
                  <a:cubicBezTo>
                    <a:pt x="1055" y="587"/>
                    <a:pt x="1011" y="585"/>
                    <a:pt x="969" y="576"/>
                  </a:cubicBezTo>
                  <a:cubicBezTo>
                    <a:pt x="950" y="572"/>
                    <a:pt x="914" y="558"/>
                    <a:pt x="914" y="558"/>
                  </a:cubicBezTo>
                  <a:cubicBezTo>
                    <a:pt x="901" y="546"/>
                    <a:pt x="891" y="531"/>
                    <a:pt x="877" y="521"/>
                  </a:cubicBezTo>
                  <a:cubicBezTo>
                    <a:pt x="866" y="513"/>
                    <a:pt x="852" y="511"/>
                    <a:pt x="841" y="503"/>
                  </a:cubicBezTo>
                  <a:cubicBezTo>
                    <a:pt x="802" y="473"/>
                    <a:pt x="774" y="429"/>
                    <a:pt x="740" y="393"/>
                  </a:cubicBezTo>
                  <a:cubicBezTo>
                    <a:pt x="726" y="352"/>
                    <a:pt x="709" y="360"/>
                    <a:pt x="685" y="329"/>
                  </a:cubicBezTo>
                  <a:cubicBezTo>
                    <a:pt x="654" y="289"/>
                    <a:pt x="618" y="238"/>
                    <a:pt x="575" y="211"/>
                  </a:cubicBezTo>
                  <a:cubicBezTo>
                    <a:pt x="529" y="139"/>
                    <a:pt x="588" y="223"/>
                    <a:pt x="530" y="165"/>
                  </a:cubicBezTo>
                  <a:cubicBezTo>
                    <a:pt x="498" y="133"/>
                    <a:pt x="490" y="113"/>
                    <a:pt x="447" y="92"/>
                  </a:cubicBezTo>
                  <a:cubicBezTo>
                    <a:pt x="413" y="57"/>
                    <a:pt x="376" y="16"/>
                    <a:pt x="329" y="0"/>
                  </a:cubicBezTo>
                  <a:cubicBezTo>
                    <a:pt x="346" y="51"/>
                    <a:pt x="369" y="93"/>
                    <a:pt x="420" y="110"/>
                  </a:cubicBezTo>
                  <a:cubicBezTo>
                    <a:pt x="459" y="149"/>
                    <a:pt x="510" y="171"/>
                    <a:pt x="548" y="211"/>
                  </a:cubicBezTo>
                  <a:cubicBezTo>
                    <a:pt x="576" y="294"/>
                    <a:pt x="566" y="246"/>
                    <a:pt x="566" y="357"/>
                  </a:cubicBezTo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Oval 13"/>
          <p:cNvSpPr/>
          <p:nvPr/>
        </p:nvSpPr>
        <p:spPr>
          <a:xfrm>
            <a:off x="457200" y="2514600"/>
            <a:ext cx="1447920" cy="1371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鸡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838080" y="533520"/>
            <a:ext cx="1447920" cy="1371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取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9"/>
          <p:cNvSpPr/>
          <p:nvPr/>
        </p:nvSpPr>
        <p:spPr>
          <a:xfrm>
            <a:off x="2209680" y="1295280"/>
            <a:ext cx="1447920" cy="1371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冰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0"/>
          <p:cNvSpPr/>
          <p:nvPr/>
        </p:nvSpPr>
        <p:spPr>
          <a:xfrm>
            <a:off x="2057400" y="3352680"/>
            <a:ext cx="1447920" cy="1371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1"/>
          <p:cNvSpPr/>
          <p:nvPr/>
        </p:nvSpPr>
        <p:spPr>
          <a:xfrm>
            <a:off x="3505320" y="0"/>
            <a:ext cx="1447560" cy="1371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捧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2"/>
          <p:cNvSpPr/>
          <p:nvPr/>
        </p:nvSpPr>
        <p:spPr>
          <a:xfrm>
            <a:off x="3733920" y="1523880"/>
            <a:ext cx="1447560" cy="1371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连忙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3"/>
          <p:cNvSpPr/>
          <p:nvPr/>
        </p:nvSpPr>
        <p:spPr>
          <a:xfrm>
            <a:off x="4038480" y="3124080"/>
            <a:ext cx="1447920" cy="1371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轻松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4"/>
          <p:cNvSpPr/>
          <p:nvPr/>
        </p:nvSpPr>
        <p:spPr>
          <a:xfrm>
            <a:off x="5486400" y="609480"/>
            <a:ext cx="1447920" cy="1371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仿佛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5"/>
          <p:cNvSpPr/>
          <p:nvPr/>
        </p:nvSpPr>
        <p:spPr>
          <a:xfrm>
            <a:off x="5867280" y="2057400"/>
            <a:ext cx="1447920" cy="1371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抬头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6"/>
          <p:cNvSpPr/>
          <p:nvPr/>
        </p:nvSpPr>
        <p:spPr>
          <a:xfrm>
            <a:off x="7238880" y="3124080"/>
            <a:ext cx="1447920" cy="1371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投篮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7"/>
          <p:cNvSpPr/>
          <p:nvPr/>
        </p:nvSpPr>
        <p:spPr>
          <a:xfrm>
            <a:off x="5867280" y="4038480"/>
            <a:ext cx="1447920" cy="1371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0" y="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8200"/>
          <p:cNvSpPr/>
          <p:nvPr/>
        </p:nvSpPr>
        <p:spPr>
          <a:xfrm>
            <a:off x="3657600" y="6477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3237E-006 C 0.00191 0.00439 0.00468 0.00832 0.00659 0.01318 C 0.01163 0.02659 0.00347 0.01595 0.01319 0.02589 C 0.01944 0.04185 0.02586 0.05526 0.03264 0.07075 C 0.03646 0.09456 0.04357 0.11653 0.04913 0.13919 C 0.06441 0.20185 0.04218 0.12763 0.06232 0.19144 C 0.06788 0.20901 0.07083 0.23329 0.07534 0.25179 C 0.08003 0.2719 0.08576 0.2904 0.09166 0.30959 C 0.09652 0.34451 0.10764 0.37526 0.11805 0.4067 C 0.11996 0.42335 0.12534 0.43699 0.13107 0.45133 C 0.1342 0.47769 0.14583 0.50474 0.14583 0.53271 E">
                                      <p:cBhvr>
                                        <p:cTn id="8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5434E-006 C 0.00452 0.01272 0.00677 0.02451 0.01198 0.03677 C 0.01441 0.0511 0.01667 0.06405 0.02049 0.07792 C 0.02275 0.10682 0.02795 0.13411 0.029 0.16324 C 0.03004 0.1859 0.02726 0.20994 0.03247 0.23145 C 0.03438 0.23954 0.03889 0.24555 0.04115 0.25341 C 0.0507 0.28671 0.0599 0.32046 0.07032 0.3533 C 0.08177 0.39006 0.08646 0.43191 0.10122 0.46544 C 0.10747 0.49665 0.11823 0.52486 0.12535 0.55538 C 0.12431 0.57757 0.125 0.5896 0.12032 0.60902 C 0.1191 0.61388 0.11667 0.62359 0.11667 0.62405 C 0.11702 0.63376 0.11771 0.66474 0.12032 0.67977 C 0.12275 0.69295 0.129 0.70359 0.1323 0.71607 C 0.13282 0.73642 0.13334 0.75677 0.13403 0.77711 C 0.13473 0.79353 0.1375 0.80509 0.1375 0.82127 E">
                                      <p:cBhvr>
                                        <p:cTn id="9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1329E-006 C 0.0007 0.0592 0.00052 0.11145 0.00764 0.16833 C 0.00868 0.2148 0.00973 0.28717 0.01563 0.33388 C 0.0191 0.36278 0.02466 0.39076 0.02657 0.42058 C 0.02795 0.44185 0.02778 0.46405 0.03143 0.48486 C 0.0375 0.5711 0.03455 0.55769 0.03455 0.71029 E">
                                      <p:cBhvr>
                                        <p:cTn id="9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90751E-006 C 0.00121 0.01734 0.00468 0.03121 0.00833 0.04693 C 0.0118 0.06196 0.01336 0.07769 0.01805 0.09087 C 0.02031 0.123 0.02187 0.15537 0.02482 0.18728 C 0.02586 0.1993 0.02916 0.21087 0.02916 0.22312 C 0.02916 0.28555 0.02916 0.34821 0.02916 0.41063 E">
                                      <p:cBhvr>
                                        <p:cTn id="9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4.39306E-006 C 0.00226 0.01804 0.00747 0.0363 0.01233 0.05365 C 0.01372 0.07561 0.01632 0.0955 0.01875 0.117 C 0.02031 0.14567 0.02309 0.17295 0.02708 0.20116 C 0.02639 0.22775 0.02639 0.25411 0.02535 0.2807 C 0.025 0.28995 0.02205 0.30012 0.02049 0.30891 C 0.0191 0.31515 0.01719 0.32763 0.01719 0.32787 C 0.01441 0.35977 0.0066 0.39052 -0.00069 0.42128 C -0.00434 0.43654 -0.00417 0.45272 -0.00712 0.46821 C -0.01319 0.4992 -0.01128 0.48509 -0.01372 0.51029 C -0.01406 0.54313 0.00104 0.63376 -0.02014 0.68116 C -0.02361 0.69989 -0.02708 0.71746 -0.03316 0.73503 C -0.03351 0.73619 -0.03542 0.74937 -0.03646 0.75145 C -0.03872 0.75654 -0.04236 0.76024 -0.04462 0.76555 C -0.04601 0.77411 -0.0467 0.78313 -0.04948 0.79099 C -0.0533 0.80232 -0.06146 0.81596 -0.06406 0.82636 C -0.06788 0.84255 -0.06632 0.83561 -0.06892 0.8474 C -0.07083 0.88486 -0.07049 0.86752 -0.07049 0.89896 E">
                                      <p:cBhvr>
                                        <p:cTn id="10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2.89017E-007 C -0.00347 0.09526 0.00243 0.19121 -0.01024 0.28555 C -0.01667 0.33318 -0.02083 0.38243 -0.03038 0.42936 C -0.03767 0.46543 -0.04531 0.50081 -0.05052 0.53757 C -0.0533 0.55653 -0.06163 0.57526 -0.06181 0.59491 C -0.0625 0.63329 -0.06181 0.67191 -0.06181 0.71029 E">
                                      <p:cBhvr>
                                        <p:cTn id="10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75 0.12046 -0.00399 0.02798 0 0.34266 C 0.00052 0.39006 0.01268 0.43676 0.01268 0.48416 E">
                                      <p:cBhvr>
                                        <p:cTn id="11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20231E-007 C -0.00243 0.03977 -0.01025 0.07861 -0.0158 0.11769 C -0.02084 0.1526 -0.02223 0.18567 -0.03177 0.21919 C -0.03976 0.29503 -0.05191 0.3711 -0.05712 0.44763 C -0.0566 0.52046 -0.06424 0.64624 -0.04914 0.7348 C -0.04497 0.78798 -0.04757 0.74844 -0.04757 0.85457 E">
                                      <p:cBhvr>
                                        <p:cTn id="114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0.02775 -0.00451 0.05156 -0.00955 0.07815 C -0.01059 0.09249 -0.01094 0.10497 -0.01423 0.11838 C -0.01337 0.1785 -0.0151 0.27908 -0.00312 0.34243 C -0.00121 0.36971 0.00261 0.39584 0.00643 0.42289 C 0.00851 0.46174 0.01667 0.50821 0.00313 0.54335 C 0.00122 0.55677 -0.00225 0.59075 -0.01267 0.59838 E">
                                      <p:cBhvr>
                                        <p:cTn id="11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65 0.01965 0.00399 0.04393 0.01267 0.06127 C 0.01649 0.08254 0.0151 0.0726 0.01736 0.09086 C 0.01927 0.14474 0.02552 0.1993 0.01267 0.25156 C 0.01042 0.26104 -0.00122 0.26589 -0.00642 0.27283 C -0.01007 0.28763 -0.00955 0.3193 -0.00955 0.3193 E">
                                      <p:cBhvr>
                                        <p:cTn id="12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0.03677 0.00052 0.07607 -0.01285 0.10983 C -0.0151 0.12255 -0.01996 0.13573 -0.02396 0.14798 C -0.02726 0.15792 -0.02743 0.16948 -0.03021 0.17966 C -0.03316 0.19029 -0.03576 0.20024 -0.03819 0.21133 C -0.04444 0.2407 -0.04948 0.27214 -0.05399 0.3022 C -0.05608 0.31561 -0.05746 0.3281 -0.06198 0.34035 C -0.0658 0.38104 -0.06198 0.42197 -0.06198 0.46289 E">
                                      <p:cBhvr>
                                        <p:cTn id="12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4863240" y="76212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冰凉的雨滴落在我的头上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838080" y="2209680"/>
            <a:ext cx="77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47fd"/>
                </a:solidFill>
                <a:latin typeface="Arial"/>
              </a:rPr>
              <a:t>我一定能行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44200" y="373392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我仿佛听见鸟儿的欢唱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758400" y="51814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</a:rPr>
              <a:t>课间十分钟真轻松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190520" y="762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冰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868400" y="22096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47fd"/>
                </a:solidFill>
                <a:latin typeface="Arial"/>
              </a:rPr>
              <a:t>一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800000" y="3733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仿佛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5229000" y="51814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</a:rPr>
              <a:t>轻松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0" y="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1"/>
                            </p:stCondLst>
                            <p:childTnLst>
                              <p:par>
                                <p:cTn id="138" dur="indefinite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1"/>
                            </p:stCondLst>
                            <p:childTnLst>
                              <p:par>
                                <p:cTn id="150" dur="indefinite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1"/>
                            </p:stCondLst>
                            <p:childTnLst>
                              <p:par>
                                <p:cTn id="162" dur="indefinite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1"/>
                            </p:stCondLst>
                            <p:childTnLst>
                              <p:par>
                                <p:cTn id="174" dur="indefinite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FD85-6686-4A27-9765-B75BE757CA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6"/>
          <p:cNvGrpSpPr/>
          <p:nvPr/>
        </p:nvGrpSpPr>
        <p:grpSpPr>
          <a:xfrm>
            <a:off x="990720" y="2438280"/>
            <a:ext cx="1447200" cy="1447560"/>
            <a:chOff x="990720" y="2438280"/>
            <a:chExt cx="1447200" cy="1447560"/>
          </a:xfrm>
        </p:grpSpPr>
        <p:sp>
          <p:nvSpPr>
            <p:cNvPr id="182" name="Oval 5"/>
            <p:cNvSpPr/>
            <p:nvPr/>
          </p:nvSpPr>
          <p:spPr>
            <a:xfrm>
              <a:off x="990720" y="2438280"/>
              <a:ext cx="1447200" cy="1447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1087200" y="2438280"/>
              <a:ext cx="1056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唱</a:t>
              </a:r>
              <a:endParaRPr b="1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7"/>
          <p:cNvGrpSpPr/>
          <p:nvPr/>
        </p:nvGrpSpPr>
        <p:grpSpPr>
          <a:xfrm>
            <a:off x="3657600" y="2514600"/>
            <a:ext cx="1447560" cy="1447560"/>
            <a:chOff x="3657600" y="2514600"/>
            <a:chExt cx="1447560" cy="1447560"/>
          </a:xfrm>
        </p:grpSpPr>
        <p:sp>
          <p:nvSpPr>
            <p:cNvPr id="185" name="Oval 8"/>
            <p:cNvSpPr/>
            <p:nvPr/>
          </p:nvSpPr>
          <p:spPr>
            <a:xfrm>
              <a:off x="3657600" y="2514600"/>
              <a:ext cx="1447560" cy="1447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3754080" y="2514600"/>
              <a:ext cx="1057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连</a:t>
              </a:r>
              <a:endParaRPr b="1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0"/>
          <p:cNvGrpSpPr/>
          <p:nvPr/>
        </p:nvGrpSpPr>
        <p:grpSpPr>
          <a:xfrm>
            <a:off x="6400800" y="2438280"/>
            <a:ext cx="1447560" cy="1447560"/>
            <a:chOff x="6400800" y="2438280"/>
            <a:chExt cx="1447560" cy="1447560"/>
          </a:xfrm>
        </p:grpSpPr>
        <p:sp>
          <p:nvSpPr>
            <p:cNvPr id="188" name="Oval 11"/>
            <p:cNvSpPr/>
            <p:nvPr/>
          </p:nvSpPr>
          <p:spPr>
            <a:xfrm>
              <a:off x="6400800" y="2438280"/>
              <a:ext cx="1447560" cy="1447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6497280" y="2438280"/>
              <a:ext cx="1057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</a:rPr>
                <a:t>定</a:t>
              </a:r>
              <a:endParaRPr b="1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3"/>
          <p:cNvSpPr/>
          <p:nvPr/>
        </p:nvSpPr>
        <p:spPr>
          <a:xfrm>
            <a:off x="0" y="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51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8:54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