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3C8-9376-406D-A7D6-18D2C2EE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906-2647-4E2F-BA33-C2F9C8DE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A1C-DB34-458F-8E6C-AABC1AF0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675-2065-4FDE-89D2-B9FF6ACD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4A51-82CA-4DB5-9264-009977EB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C9DF-E6B4-4208-9DC6-680982E2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1B27-11C9-4F78-8539-1AE58F11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2557-67C3-4902-9B57-439D8544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CF7F-EC4F-4DC3-8C3A-B2A4CDD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FF4F-7CFE-4B58-AB8F-643917E3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FDF0-4DAE-472F-892B-E43B8F6B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33B-D9B2-4283-9C26-8340C6FA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C8CE-2DA8-414D-8F7C-1C650175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6C50-2E5F-46E1-9B07-75C945D3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3B0F-330C-4610-861F-B05E89C0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A72B-AA64-403D-B508-70C1FA85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D8BC-B1FA-4C44-9CB0-60E3D0BE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375-315A-4EB3-9576-A4421D3D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33B-7548-467D-A8F4-9549F683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7B3-481C-4E98-9F56-118A6A4D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10C-54EA-4323-BEC0-4DACC5A5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DE5-61D7-4C5C-8964-D013284E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07B-D9FC-4E54-8A16-CC2C076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5AF-8CAF-4D2A-8037-2EFAE17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F503-EEC3-4527-A1FE-5F9D51A43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85EB-EDEF-4A02-A861-674D2A2E26C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8236-9125-458C-838D-9E30F571CA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5"/>
          <p:cNvSpPr/>
          <p:nvPr/>
        </p:nvSpPr>
        <p:spPr>
          <a:xfrm>
            <a:off x="3943440" y="162864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0" y="3962520"/>
            <a:ext cx="2286000" cy="2209680"/>
            <a:chOff x="0" y="3962520"/>
            <a:chExt cx="2286000" cy="2209680"/>
          </a:xfrm>
        </p:grpSpPr>
        <p:sp>
          <p:nvSpPr>
            <p:cNvPr id="85" name="AutoShape 4"/>
            <p:cNvSpPr/>
            <p:nvPr/>
          </p:nvSpPr>
          <p:spPr>
            <a:xfrm>
              <a:off x="0" y="403848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5"/>
            <p:cNvSpPr/>
            <p:nvPr/>
          </p:nvSpPr>
          <p:spPr>
            <a:xfrm>
              <a:off x="990720" y="50292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304920" y="39625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先生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7"/>
          <p:cNvGrpSpPr/>
          <p:nvPr/>
        </p:nvGrpSpPr>
        <p:grpSpPr>
          <a:xfrm>
            <a:off x="6629400" y="1295280"/>
            <a:ext cx="2286000" cy="2209680"/>
            <a:chOff x="6629400" y="1295280"/>
            <a:chExt cx="2286000" cy="2209680"/>
          </a:xfrm>
        </p:grpSpPr>
        <p:sp>
          <p:nvSpPr>
            <p:cNvPr id="89" name="AutoShape 8"/>
            <p:cNvSpPr/>
            <p:nvPr/>
          </p:nvSpPr>
          <p:spPr>
            <a:xfrm>
              <a:off x="6629400" y="137124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7620120" y="23619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934320" y="12952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赶来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11"/>
          <p:cNvGrpSpPr/>
          <p:nvPr/>
        </p:nvGrpSpPr>
        <p:grpSpPr>
          <a:xfrm>
            <a:off x="3276720" y="1371600"/>
            <a:ext cx="2286000" cy="2209680"/>
            <a:chOff x="3276720" y="1371600"/>
            <a:chExt cx="2286000" cy="2209680"/>
          </a:xfrm>
        </p:grpSpPr>
        <p:sp>
          <p:nvSpPr>
            <p:cNvPr id="93" name="AutoShape 12"/>
            <p:cNvSpPr/>
            <p:nvPr/>
          </p:nvSpPr>
          <p:spPr>
            <a:xfrm>
              <a:off x="3276720" y="144756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4267440" y="243828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3581640" y="137160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起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15"/>
          <p:cNvGrpSpPr/>
          <p:nvPr/>
        </p:nvGrpSpPr>
        <p:grpSpPr>
          <a:xfrm>
            <a:off x="3886200" y="3809880"/>
            <a:ext cx="2286000" cy="2209680"/>
            <a:chOff x="3886200" y="3809880"/>
            <a:chExt cx="2286000" cy="2209680"/>
          </a:xfrm>
        </p:grpSpPr>
        <p:sp>
          <p:nvSpPr>
            <p:cNvPr id="97" name="AutoShape 16"/>
            <p:cNvSpPr/>
            <p:nvPr/>
          </p:nvSpPr>
          <p:spPr>
            <a:xfrm>
              <a:off x="3886200" y="388584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4876920" y="48765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8"/>
            <p:cNvSpPr/>
            <p:nvPr/>
          </p:nvSpPr>
          <p:spPr>
            <a:xfrm>
              <a:off x="4191120" y="38098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久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Freeform 19"/>
          <p:cNvSpPr/>
          <p:nvPr/>
        </p:nvSpPr>
        <p:spPr>
          <a:xfrm>
            <a:off x="4724280" y="5791320"/>
            <a:ext cx="1279800" cy="59040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20"/>
          <p:cNvSpPr/>
          <p:nvPr/>
        </p:nvSpPr>
        <p:spPr>
          <a:xfrm>
            <a:off x="6781680" y="3733920"/>
            <a:ext cx="177192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21"/>
          <p:cNvSpPr/>
          <p:nvPr/>
        </p:nvSpPr>
        <p:spPr>
          <a:xfrm>
            <a:off x="7162920" y="304920"/>
            <a:ext cx="1930320" cy="865080"/>
          </a:xfrm>
          <a:custGeom>
            <a:avLst/>
            <a:gdLst/>
            <a:ahLst/>
            <a:rect l="l" t="t" r="r" b="b"/>
            <a:pathLst>
              <a:path w="1216" h="545">
                <a:moveTo>
                  <a:pt x="871" y="321"/>
                </a:moveTo>
                <a:cubicBezTo>
                  <a:pt x="755" y="344"/>
                  <a:pt x="638" y="366"/>
                  <a:pt x="525" y="398"/>
                </a:cubicBezTo>
                <a:cubicBezTo>
                  <a:pt x="448" y="420"/>
                  <a:pt x="528" y="399"/>
                  <a:pt x="436" y="436"/>
                </a:cubicBezTo>
                <a:cubicBezTo>
                  <a:pt x="411" y="446"/>
                  <a:pt x="359" y="462"/>
                  <a:pt x="359" y="462"/>
                </a:cubicBezTo>
                <a:cubicBezTo>
                  <a:pt x="283" y="348"/>
                  <a:pt x="406" y="545"/>
                  <a:pt x="320" y="308"/>
                </a:cubicBezTo>
                <a:cubicBezTo>
                  <a:pt x="315" y="294"/>
                  <a:pt x="297" y="287"/>
                  <a:pt x="282" y="282"/>
                </a:cubicBezTo>
                <a:cubicBezTo>
                  <a:pt x="248" y="271"/>
                  <a:pt x="23" y="235"/>
                  <a:pt x="0" y="231"/>
                </a:cubicBezTo>
                <a:cubicBezTo>
                  <a:pt x="85" y="148"/>
                  <a:pt x="200" y="185"/>
                  <a:pt x="308" y="218"/>
                </a:cubicBezTo>
                <a:cubicBezTo>
                  <a:pt x="325" y="235"/>
                  <a:pt x="337" y="260"/>
                  <a:pt x="359" y="270"/>
                </a:cubicBezTo>
                <a:cubicBezTo>
                  <a:pt x="371" y="275"/>
                  <a:pt x="388" y="266"/>
                  <a:pt x="397" y="257"/>
                </a:cubicBezTo>
                <a:cubicBezTo>
                  <a:pt x="410" y="244"/>
                  <a:pt x="411" y="221"/>
                  <a:pt x="423" y="206"/>
                </a:cubicBezTo>
                <a:cubicBezTo>
                  <a:pt x="441" y="185"/>
                  <a:pt x="512" y="133"/>
                  <a:pt x="538" y="116"/>
                </a:cubicBezTo>
                <a:cubicBezTo>
                  <a:pt x="534" y="154"/>
                  <a:pt x="513" y="194"/>
                  <a:pt x="525" y="231"/>
                </a:cubicBezTo>
                <a:cubicBezTo>
                  <a:pt x="531" y="248"/>
                  <a:pt x="554" y="208"/>
                  <a:pt x="564" y="193"/>
                </a:cubicBezTo>
                <a:cubicBezTo>
                  <a:pt x="585" y="161"/>
                  <a:pt x="593" y="121"/>
                  <a:pt x="615" y="90"/>
                </a:cubicBezTo>
                <a:cubicBezTo>
                  <a:pt x="638" y="57"/>
                  <a:pt x="701" y="57"/>
                  <a:pt x="730" y="52"/>
                </a:cubicBezTo>
                <a:cubicBezTo>
                  <a:pt x="747" y="43"/>
                  <a:pt x="763" y="33"/>
                  <a:pt x="781" y="26"/>
                </a:cubicBezTo>
                <a:cubicBezTo>
                  <a:pt x="794" y="21"/>
                  <a:pt x="820" y="0"/>
                  <a:pt x="820" y="14"/>
                </a:cubicBezTo>
                <a:cubicBezTo>
                  <a:pt x="820" y="72"/>
                  <a:pt x="788" y="126"/>
                  <a:pt x="768" y="180"/>
                </a:cubicBezTo>
                <a:cubicBezTo>
                  <a:pt x="761" y="198"/>
                  <a:pt x="737" y="249"/>
                  <a:pt x="743" y="231"/>
                </a:cubicBezTo>
                <a:cubicBezTo>
                  <a:pt x="792" y="86"/>
                  <a:pt x="863" y="60"/>
                  <a:pt x="999" y="26"/>
                </a:cubicBezTo>
                <a:cubicBezTo>
                  <a:pt x="995" y="69"/>
                  <a:pt x="993" y="112"/>
                  <a:pt x="986" y="154"/>
                </a:cubicBezTo>
                <a:cubicBezTo>
                  <a:pt x="984" y="168"/>
                  <a:pt x="962" y="185"/>
                  <a:pt x="973" y="193"/>
                </a:cubicBezTo>
                <a:cubicBezTo>
                  <a:pt x="987" y="203"/>
                  <a:pt x="1007" y="184"/>
                  <a:pt x="1024" y="180"/>
                </a:cubicBezTo>
                <a:cubicBezTo>
                  <a:pt x="1097" y="131"/>
                  <a:pt x="1027" y="170"/>
                  <a:pt x="1140" y="142"/>
                </a:cubicBezTo>
                <a:cubicBezTo>
                  <a:pt x="1166" y="136"/>
                  <a:pt x="1216" y="116"/>
                  <a:pt x="1216" y="116"/>
                </a:cubicBezTo>
                <a:cubicBezTo>
                  <a:pt x="1154" y="199"/>
                  <a:pt x="1067" y="244"/>
                  <a:pt x="973" y="282"/>
                </a:cubicBezTo>
                <a:cubicBezTo>
                  <a:pt x="948" y="292"/>
                  <a:pt x="922" y="299"/>
                  <a:pt x="896" y="308"/>
                </a:cubicBezTo>
                <a:cubicBezTo>
                  <a:pt x="854" y="322"/>
                  <a:pt x="845" y="321"/>
                  <a:pt x="871" y="32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22"/>
          <p:cNvSpPr/>
          <p:nvPr/>
        </p:nvSpPr>
        <p:spPr>
          <a:xfrm>
            <a:off x="2176560" y="2822400"/>
            <a:ext cx="993600" cy="81468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1826280" y="692280"/>
            <a:ext cx="46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美丽的小路</a:t>
            </a: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0" y="3962520"/>
            <a:ext cx="2286000" cy="2209680"/>
            <a:chOff x="0" y="3962520"/>
            <a:chExt cx="2286000" cy="2209680"/>
          </a:xfrm>
        </p:grpSpPr>
        <p:sp>
          <p:nvSpPr>
            <p:cNvPr id="108" name="AutoShape 4"/>
            <p:cNvSpPr/>
            <p:nvPr/>
          </p:nvSpPr>
          <p:spPr>
            <a:xfrm>
              <a:off x="0" y="403848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990720" y="50292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304920" y="39625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脑袋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7"/>
          <p:cNvGrpSpPr/>
          <p:nvPr/>
        </p:nvGrpSpPr>
        <p:grpSpPr>
          <a:xfrm>
            <a:off x="6629400" y="1295280"/>
            <a:ext cx="2286000" cy="2209680"/>
            <a:chOff x="6629400" y="1295280"/>
            <a:chExt cx="2286000" cy="2209680"/>
          </a:xfrm>
        </p:grpSpPr>
        <p:sp>
          <p:nvSpPr>
            <p:cNvPr id="112" name="AutoShape 8"/>
            <p:cNvSpPr/>
            <p:nvPr/>
          </p:nvSpPr>
          <p:spPr>
            <a:xfrm>
              <a:off x="6629400" y="137124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7620120" y="23619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6934320" y="12952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奇怪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1"/>
          <p:cNvGrpSpPr/>
          <p:nvPr/>
        </p:nvGrpSpPr>
        <p:grpSpPr>
          <a:xfrm>
            <a:off x="3276720" y="1371600"/>
            <a:ext cx="2286000" cy="2209680"/>
            <a:chOff x="3276720" y="1371600"/>
            <a:chExt cx="2286000" cy="2209680"/>
          </a:xfrm>
        </p:grpSpPr>
        <p:sp>
          <p:nvSpPr>
            <p:cNvPr id="116" name="AutoShape 12"/>
            <p:cNvSpPr/>
            <p:nvPr/>
          </p:nvSpPr>
          <p:spPr>
            <a:xfrm>
              <a:off x="3276720" y="144756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4267440" y="243828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3581640" y="1371600"/>
              <a:ext cx="1981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5"/>
          <p:cNvGrpSpPr/>
          <p:nvPr/>
        </p:nvGrpSpPr>
        <p:grpSpPr>
          <a:xfrm>
            <a:off x="3809880" y="3886200"/>
            <a:ext cx="4114440" cy="2209680"/>
            <a:chOff x="3809880" y="3886200"/>
            <a:chExt cx="4114440" cy="2209680"/>
          </a:xfrm>
        </p:grpSpPr>
        <p:sp>
          <p:nvSpPr>
            <p:cNvPr id="120" name="AutoShape 16"/>
            <p:cNvSpPr/>
            <p:nvPr/>
          </p:nvSpPr>
          <p:spPr>
            <a:xfrm>
              <a:off x="3809880" y="3962160"/>
              <a:ext cx="411444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5592960" y="4952880"/>
              <a:ext cx="27396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4358520" y="3886200"/>
              <a:ext cx="3565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干干净净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Freeform 19"/>
          <p:cNvSpPr/>
          <p:nvPr/>
        </p:nvSpPr>
        <p:spPr>
          <a:xfrm>
            <a:off x="7086600" y="2971800"/>
            <a:ext cx="1279440" cy="59040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20"/>
          <p:cNvSpPr/>
          <p:nvPr/>
        </p:nvSpPr>
        <p:spPr>
          <a:xfrm>
            <a:off x="4648320" y="5791320"/>
            <a:ext cx="177156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1"/>
          <p:cNvSpPr/>
          <p:nvPr/>
        </p:nvSpPr>
        <p:spPr>
          <a:xfrm>
            <a:off x="7162920" y="304920"/>
            <a:ext cx="1930320" cy="865080"/>
          </a:xfrm>
          <a:custGeom>
            <a:avLst/>
            <a:gdLst/>
            <a:ahLst/>
            <a:rect l="l" t="t" r="r" b="b"/>
            <a:pathLst>
              <a:path w="1216" h="545">
                <a:moveTo>
                  <a:pt x="871" y="321"/>
                </a:moveTo>
                <a:cubicBezTo>
                  <a:pt x="755" y="344"/>
                  <a:pt x="638" y="366"/>
                  <a:pt x="525" y="398"/>
                </a:cubicBezTo>
                <a:cubicBezTo>
                  <a:pt x="448" y="420"/>
                  <a:pt x="528" y="399"/>
                  <a:pt x="436" y="436"/>
                </a:cubicBezTo>
                <a:cubicBezTo>
                  <a:pt x="411" y="446"/>
                  <a:pt x="359" y="462"/>
                  <a:pt x="359" y="462"/>
                </a:cubicBezTo>
                <a:cubicBezTo>
                  <a:pt x="283" y="348"/>
                  <a:pt x="406" y="545"/>
                  <a:pt x="320" y="308"/>
                </a:cubicBezTo>
                <a:cubicBezTo>
                  <a:pt x="315" y="294"/>
                  <a:pt x="297" y="287"/>
                  <a:pt x="282" y="282"/>
                </a:cubicBezTo>
                <a:cubicBezTo>
                  <a:pt x="248" y="271"/>
                  <a:pt x="23" y="235"/>
                  <a:pt x="0" y="231"/>
                </a:cubicBezTo>
                <a:cubicBezTo>
                  <a:pt x="85" y="148"/>
                  <a:pt x="200" y="185"/>
                  <a:pt x="308" y="218"/>
                </a:cubicBezTo>
                <a:cubicBezTo>
                  <a:pt x="325" y="235"/>
                  <a:pt x="337" y="260"/>
                  <a:pt x="359" y="270"/>
                </a:cubicBezTo>
                <a:cubicBezTo>
                  <a:pt x="371" y="275"/>
                  <a:pt x="388" y="266"/>
                  <a:pt x="397" y="257"/>
                </a:cubicBezTo>
                <a:cubicBezTo>
                  <a:pt x="410" y="244"/>
                  <a:pt x="411" y="221"/>
                  <a:pt x="423" y="206"/>
                </a:cubicBezTo>
                <a:cubicBezTo>
                  <a:pt x="441" y="185"/>
                  <a:pt x="512" y="133"/>
                  <a:pt x="538" y="116"/>
                </a:cubicBezTo>
                <a:cubicBezTo>
                  <a:pt x="534" y="154"/>
                  <a:pt x="513" y="194"/>
                  <a:pt x="525" y="231"/>
                </a:cubicBezTo>
                <a:cubicBezTo>
                  <a:pt x="531" y="248"/>
                  <a:pt x="554" y="208"/>
                  <a:pt x="564" y="193"/>
                </a:cubicBezTo>
                <a:cubicBezTo>
                  <a:pt x="585" y="161"/>
                  <a:pt x="593" y="121"/>
                  <a:pt x="615" y="90"/>
                </a:cubicBezTo>
                <a:cubicBezTo>
                  <a:pt x="638" y="57"/>
                  <a:pt x="701" y="57"/>
                  <a:pt x="730" y="52"/>
                </a:cubicBezTo>
                <a:cubicBezTo>
                  <a:pt x="747" y="43"/>
                  <a:pt x="763" y="33"/>
                  <a:pt x="781" y="26"/>
                </a:cubicBezTo>
                <a:cubicBezTo>
                  <a:pt x="794" y="21"/>
                  <a:pt x="820" y="0"/>
                  <a:pt x="820" y="14"/>
                </a:cubicBezTo>
                <a:cubicBezTo>
                  <a:pt x="820" y="72"/>
                  <a:pt x="788" y="126"/>
                  <a:pt x="768" y="180"/>
                </a:cubicBezTo>
                <a:cubicBezTo>
                  <a:pt x="761" y="198"/>
                  <a:pt x="737" y="249"/>
                  <a:pt x="743" y="231"/>
                </a:cubicBezTo>
                <a:cubicBezTo>
                  <a:pt x="792" y="86"/>
                  <a:pt x="863" y="60"/>
                  <a:pt x="999" y="26"/>
                </a:cubicBezTo>
                <a:cubicBezTo>
                  <a:pt x="995" y="69"/>
                  <a:pt x="993" y="112"/>
                  <a:pt x="986" y="154"/>
                </a:cubicBezTo>
                <a:cubicBezTo>
                  <a:pt x="984" y="168"/>
                  <a:pt x="962" y="185"/>
                  <a:pt x="973" y="193"/>
                </a:cubicBezTo>
                <a:cubicBezTo>
                  <a:pt x="987" y="203"/>
                  <a:pt x="1007" y="184"/>
                  <a:pt x="1024" y="180"/>
                </a:cubicBezTo>
                <a:cubicBezTo>
                  <a:pt x="1097" y="131"/>
                  <a:pt x="1027" y="170"/>
                  <a:pt x="1140" y="142"/>
                </a:cubicBezTo>
                <a:cubicBezTo>
                  <a:pt x="1166" y="136"/>
                  <a:pt x="1216" y="116"/>
                  <a:pt x="1216" y="116"/>
                </a:cubicBezTo>
                <a:cubicBezTo>
                  <a:pt x="1154" y="199"/>
                  <a:pt x="1067" y="244"/>
                  <a:pt x="973" y="282"/>
                </a:cubicBezTo>
                <a:cubicBezTo>
                  <a:pt x="948" y="292"/>
                  <a:pt x="922" y="299"/>
                  <a:pt x="896" y="308"/>
                </a:cubicBezTo>
                <a:cubicBezTo>
                  <a:pt x="854" y="322"/>
                  <a:pt x="845" y="321"/>
                  <a:pt x="871" y="32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2"/>
          <p:cNvSpPr/>
          <p:nvPr/>
        </p:nvSpPr>
        <p:spPr>
          <a:xfrm>
            <a:off x="2176560" y="2822400"/>
            <a:ext cx="993600" cy="81468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3429000" y="137160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鼻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4"/>
          <p:cNvSpPr/>
          <p:nvPr/>
        </p:nvSpPr>
        <p:spPr>
          <a:xfrm>
            <a:off x="7010280" y="5181480"/>
            <a:ext cx="2124360" cy="1744920"/>
          </a:xfrm>
          <a:custGeom>
            <a:avLst/>
            <a:gdLst/>
            <a:ahLst/>
            <a:rect l="l" t="t" r="r" b="b"/>
            <a:pathLst>
              <a:path w="1338" h="1099">
                <a:moveTo>
                  <a:pt x="1184" y="932"/>
                </a:moveTo>
                <a:cubicBezTo>
                  <a:pt x="992" y="954"/>
                  <a:pt x="799" y="953"/>
                  <a:pt x="608" y="983"/>
                </a:cubicBezTo>
                <a:cubicBezTo>
                  <a:pt x="516" y="1053"/>
                  <a:pt x="376" y="1061"/>
                  <a:pt x="263" y="1099"/>
                </a:cubicBezTo>
                <a:cubicBezTo>
                  <a:pt x="263" y="1097"/>
                  <a:pt x="290" y="953"/>
                  <a:pt x="263" y="932"/>
                </a:cubicBezTo>
                <a:cubicBezTo>
                  <a:pt x="253" y="924"/>
                  <a:pt x="44" y="884"/>
                  <a:pt x="32" y="881"/>
                </a:cubicBezTo>
                <a:cubicBezTo>
                  <a:pt x="24" y="868"/>
                  <a:pt x="0" y="857"/>
                  <a:pt x="7" y="843"/>
                </a:cubicBezTo>
                <a:cubicBezTo>
                  <a:pt x="15" y="827"/>
                  <a:pt x="41" y="833"/>
                  <a:pt x="58" y="830"/>
                </a:cubicBezTo>
                <a:cubicBezTo>
                  <a:pt x="215" y="798"/>
                  <a:pt x="68" y="834"/>
                  <a:pt x="186" y="804"/>
                </a:cubicBezTo>
                <a:cubicBezTo>
                  <a:pt x="293" y="813"/>
                  <a:pt x="404" y="861"/>
                  <a:pt x="506" y="830"/>
                </a:cubicBezTo>
                <a:cubicBezTo>
                  <a:pt x="545" y="818"/>
                  <a:pt x="458" y="764"/>
                  <a:pt x="442" y="727"/>
                </a:cubicBezTo>
                <a:cubicBezTo>
                  <a:pt x="432" y="703"/>
                  <a:pt x="437" y="675"/>
                  <a:pt x="429" y="651"/>
                </a:cubicBezTo>
                <a:cubicBezTo>
                  <a:pt x="392" y="541"/>
                  <a:pt x="165" y="589"/>
                  <a:pt x="672" y="638"/>
                </a:cubicBezTo>
                <a:cubicBezTo>
                  <a:pt x="715" y="664"/>
                  <a:pt x="750" y="720"/>
                  <a:pt x="800" y="715"/>
                </a:cubicBezTo>
                <a:cubicBezTo>
                  <a:pt x="830" y="712"/>
                  <a:pt x="807" y="655"/>
                  <a:pt x="813" y="625"/>
                </a:cubicBezTo>
                <a:cubicBezTo>
                  <a:pt x="828" y="556"/>
                  <a:pt x="847" y="488"/>
                  <a:pt x="864" y="420"/>
                </a:cubicBezTo>
                <a:cubicBezTo>
                  <a:pt x="876" y="372"/>
                  <a:pt x="919" y="336"/>
                  <a:pt x="941" y="292"/>
                </a:cubicBezTo>
                <a:cubicBezTo>
                  <a:pt x="953" y="268"/>
                  <a:pt x="950" y="236"/>
                  <a:pt x="967" y="215"/>
                </a:cubicBezTo>
                <a:cubicBezTo>
                  <a:pt x="994" y="182"/>
                  <a:pt x="1037" y="167"/>
                  <a:pt x="1069" y="139"/>
                </a:cubicBezTo>
                <a:cubicBezTo>
                  <a:pt x="1232" y="0"/>
                  <a:pt x="1084" y="104"/>
                  <a:pt x="1184" y="36"/>
                </a:cubicBezTo>
                <a:cubicBezTo>
                  <a:pt x="1213" y="236"/>
                  <a:pt x="1178" y="440"/>
                  <a:pt x="1146" y="638"/>
                </a:cubicBezTo>
                <a:cubicBezTo>
                  <a:pt x="1142" y="706"/>
                  <a:pt x="1123" y="775"/>
                  <a:pt x="1133" y="843"/>
                </a:cubicBezTo>
                <a:cubicBezTo>
                  <a:pt x="1138" y="875"/>
                  <a:pt x="1170" y="654"/>
                  <a:pt x="1171" y="651"/>
                </a:cubicBezTo>
                <a:cubicBezTo>
                  <a:pt x="1202" y="525"/>
                  <a:pt x="1202" y="455"/>
                  <a:pt x="1338" y="420"/>
                </a:cubicBezTo>
                <a:cubicBezTo>
                  <a:pt x="1304" y="523"/>
                  <a:pt x="1298" y="645"/>
                  <a:pt x="1287" y="753"/>
                </a:cubicBezTo>
                <a:cubicBezTo>
                  <a:pt x="1291" y="796"/>
                  <a:pt x="1306" y="839"/>
                  <a:pt x="1299" y="881"/>
                </a:cubicBezTo>
                <a:cubicBezTo>
                  <a:pt x="1294" y="916"/>
                  <a:pt x="1188" y="945"/>
                  <a:pt x="1159" y="945"/>
                </a:cubicBezTo>
                <a:cubicBezTo>
                  <a:pt x="1150" y="945"/>
                  <a:pt x="1176" y="936"/>
                  <a:pt x="1184" y="932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2"/>
          <p:cNvSpPr/>
          <p:nvPr/>
        </p:nvSpPr>
        <p:spPr>
          <a:xfrm>
            <a:off x="-533520" y="-152280"/>
            <a:ext cx="10145880" cy="7165800"/>
          </a:xfrm>
          <a:custGeom>
            <a:avLst/>
            <a:gdLst/>
            <a:ahLst/>
            <a:rect l="l" t="t" r="r" b="b"/>
            <a:pathLst>
              <a:path w="6391" h="4514">
                <a:moveTo>
                  <a:pt x="2634" y="4441"/>
                </a:moveTo>
                <a:cubicBezTo>
                  <a:pt x="2534" y="4408"/>
                  <a:pt x="2528" y="4425"/>
                  <a:pt x="2418" y="4441"/>
                </a:cubicBezTo>
                <a:cubicBezTo>
                  <a:pt x="2199" y="4514"/>
                  <a:pt x="2404" y="4450"/>
                  <a:pt x="1806" y="4441"/>
                </a:cubicBezTo>
                <a:cubicBezTo>
                  <a:pt x="0" y="4413"/>
                  <a:pt x="1514" y="4444"/>
                  <a:pt x="258" y="4417"/>
                </a:cubicBezTo>
                <a:cubicBezTo>
                  <a:pt x="306" y="4273"/>
                  <a:pt x="328" y="4074"/>
                  <a:pt x="462" y="3985"/>
                </a:cubicBezTo>
                <a:cubicBezTo>
                  <a:pt x="522" y="3895"/>
                  <a:pt x="573" y="3801"/>
                  <a:pt x="630" y="3709"/>
                </a:cubicBezTo>
                <a:cubicBezTo>
                  <a:pt x="675" y="3637"/>
                  <a:pt x="653" y="3684"/>
                  <a:pt x="702" y="3625"/>
                </a:cubicBezTo>
                <a:cubicBezTo>
                  <a:pt x="743" y="3576"/>
                  <a:pt x="777" y="3514"/>
                  <a:pt x="822" y="3469"/>
                </a:cubicBezTo>
                <a:cubicBezTo>
                  <a:pt x="864" y="3427"/>
                  <a:pt x="912" y="3391"/>
                  <a:pt x="954" y="3349"/>
                </a:cubicBezTo>
                <a:cubicBezTo>
                  <a:pt x="979" y="3324"/>
                  <a:pt x="1020" y="3321"/>
                  <a:pt x="1050" y="3301"/>
                </a:cubicBezTo>
                <a:cubicBezTo>
                  <a:pt x="1069" y="3288"/>
                  <a:pt x="1079" y="3265"/>
                  <a:pt x="1098" y="3253"/>
                </a:cubicBezTo>
                <a:cubicBezTo>
                  <a:pt x="1159" y="3216"/>
                  <a:pt x="1290" y="3157"/>
                  <a:pt x="1290" y="3157"/>
                </a:cubicBezTo>
                <a:cubicBezTo>
                  <a:pt x="1343" y="2999"/>
                  <a:pt x="1296" y="3103"/>
                  <a:pt x="1506" y="2893"/>
                </a:cubicBezTo>
                <a:cubicBezTo>
                  <a:pt x="1531" y="2868"/>
                  <a:pt x="1533" y="2826"/>
                  <a:pt x="1554" y="2797"/>
                </a:cubicBezTo>
                <a:cubicBezTo>
                  <a:pt x="1574" y="2769"/>
                  <a:pt x="1606" y="2753"/>
                  <a:pt x="1626" y="2725"/>
                </a:cubicBezTo>
                <a:cubicBezTo>
                  <a:pt x="1771" y="2522"/>
                  <a:pt x="1594" y="2709"/>
                  <a:pt x="1722" y="2581"/>
                </a:cubicBezTo>
                <a:cubicBezTo>
                  <a:pt x="1786" y="2389"/>
                  <a:pt x="1690" y="2613"/>
                  <a:pt x="1818" y="2485"/>
                </a:cubicBezTo>
                <a:cubicBezTo>
                  <a:pt x="1836" y="2467"/>
                  <a:pt x="1828" y="2434"/>
                  <a:pt x="1842" y="2413"/>
                </a:cubicBezTo>
                <a:cubicBezTo>
                  <a:pt x="1863" y="2382"/>
                  <a:pt x="1948" y="2295"/>
                  <a:pt x="1986" y="2269"/>
                </a:cubicBezTo>
                <a:cubicBezTo>
                  <a:pt x="2020" y="2218"/>
                  <a:pt x="2068" y="2194"/>
                  <a:pt x="2118" y="2161"/>
                </a:cubicBezTo>
                <a:cubicBezTo>
                  <a:pt x="2258" y="2068"/>
                  <a:pt x="2433" y="2020"/>
                  <a:pt x="2598" y="1993"/>
                </a:cubicBezTo>
                <a:cubicBezTo>
                  <a:pt x="2699" y="1917"/>
                  <a:pt x="2815" y="1895"/>
                  <a:pt x="2934" y="1861"/>
                </a:cubicBezTo>
                <a:cubicBezTo>
                  <a:pt x="3038" y="1831"/>
                  <a:pt x="3139" y="1795"/>
                  <a:pt x="3246" y="1777"/>
                </a:cubicBezTo>
                <a:cubicBezTo>
                  <a:pt x="3291" y="1754"/>
                  <a:pt x="3296" y="1740"/>
                  <a:pt x="3342" y="1717"/>
                </a:cubicBezTo>
                <a:cubicBezTo>
                  <a:pt x="3407" y="1684"/>
                  <a:pt x="3418" y="1698"/>
                  <a:pt x="3486" y="1681"/>
                </a:cubicBezTo>
                <a:cubicBezTo>
                  <a:pt x="3676" y="1633"/>
                  <a:pt x="3442" y="1676"/>
                  <a:pt x="3630" y="1645"/>
                </a:cubicBezTo>
                <a:cubicBezTo>
                  <a:pt x="3662" y="1633"/>
                  <a:pt x="3695" y="1624"/>
                  <a:pt x="3726" y="1609"/>
                </a:cubicBezTo>
                <a:cubicBezTo>
                  <a:pt x="3871" y="1536"/>
                  <a:pt x="3700" y="1598"/>
                  <a:pt x="3810" y="1561"/>
                </a:cubicBezTo>
                <a:cubicBezTo>
                  <a:pt x="3900" y="1494"/>
                  <a:pt x="3811" y="1549"/>
                  <a:pt x="3930" y="1513"/>
                </a:cubicBezTo>
                <a:cubicBezTo>
                  <a:pt x="3947" y="1508"/>
                  <a:pt x="3961" y="1494"/>
                  <a:pt x="3978" y="1489"/>
                </a:cubicBezTo>
                <a:cubicBezTo>
                  <a:pt x="4001" y="1482"/>
                  <a:pt x="4026" y="1481"/>
                  <a:pt x="4050" y="1477"/>
                </a:cubicBezTo>
                <a:cubicBezTo>
                  <a:pt x="4122" y="1429"/>
                  <a:pt x="4045" y="1473"/>
                  <a:pt x="4158" y="1441"/>
                </a:cubicBezTo>
                <a:cubicBezTo>
                  <a:pt x="4366" y="1382"/>
                  <a:pt x="4157" y="1421"/>
                  <a:pt x="4326" y="1393"/>
                </a:cubicBezTo>
                <a:cubicBezTo>
                  <a:pt x="4416" y="1326"/>
                  <a:pt x="4552" y="1312"/>
                  <a:pt x="4662" y="1285"/>
                </a:cubicBezTo>
                <a:cubicBezTo>
                  <a:pt x="4784" y="1254"/>
                  <a:pt x="4853" y="1189"/>
                  <a:pt x="4974" y="1117"/>
                </a:cubicBezTo>
                <a:cubicBezTo>
                  <a:pt x="5043" y="1076"/>
                  <a:pt x="5090" y="998"/>
                  <a:pt x="5166" y="973"/>
                </a:cubicBezTo>
                <a:cubicBezTo>
                  <a:pt x="5214" y="957"/>
                  <a:pt x="5310" y="925"/>
                  <a:pt x="5310" y="925"/>
                </a:cubicBezTo>
                <a:cubicBezTo>
                  <a:pt x="5425" y="810"/>
                  <a:pt x="5241" y="981"/>
                  <a:pt x="5418" y="877"/>
                </a:cubicBezTo>
                <a:cubicBezTo>
                  <a:pt x="5447" y="860"/>
                  <a:pt x="5464" y="827"/>
                  <a:pt x="5490" y="805"/>
                </a:cubicBezTo>
                <a:cubicBezTo>
                  <a:pt x="5520" y="779"/>
                  <a:pt x="5553" y="755"/>
                  <a:pt x="5586" y="733"/>
                </a:cubicBezTo>
                <a:cubicBezTo>
                  <a:pt x="5833" y="568"/>
                  <a:pt x="5721" y="718"/>
                  <a:pt x="6090" y="349"/>
                </a:cubicBezTo>
                <a:cubicBezTo>
                  <a:pt x="6146" y="293"/>
                  <a:pt x="6204" y="239"/>
                  <a:pt x="6258" y="181"/>
                </a:cubicBezTo>
                <a:cubicBezTo>
                  <a:pt x="6293" y="143"/>
                  <a:pt x="6324" y="103"/>
                  <a:pt x="6354" y="61"/>
                </a:cubicBezTo>
                <a:cubicBezTo>
                  <a:pt x="6364" y="46"/>
                  <a:pt x="6391" y="0"/>
                  <a:pt x="6378" y="13"/>
                </a:cubicBezTo>
                <a:cubicBezTo>
                  <a:pt x="6358" y="33"/>
                  <a:pt x="6346" y="61"/>
                  <a:pt x="6330" y="85"/>
                </a:cubicBezTo>
                <a:cubicBezTo>
                  <a:pt x="6262" y="188"/>
                  <a:pt x="6199" y="299"/>
                  <a:pt x="6126" y="397"/>
                </a:cubicBezTo>
                <a:cubicBezTo>
                  <a:pt x="6097" y="485"/>
                  <a:pt x="6108" y="444"/>
                  <a:pt x="6090" y="517"/>
                </a:cubicBezTo>
                <a:cubicBezTo>
                  <a:pt x="6084" y="605"/>
                  <a:pt x="6069" y="693"/>
                  <a:pt x="6066" y="781"/>
                </a:cubicBezTo>
                <a:cubicBezTo>
                  <a:pt x="6059" y="965"/>
                  <a:pt x="6099" y="1154"/>
                  <a:pt x="6054" y="1333"/>
                </a:cubicBezTo>
                <a:cubicBezTo>
                  <a:pt x="6037" y="1400"/>
                  <a:pt x="5862" y="1409"/>
                  <a:pt x="5802" y="1429"/>
                </a:cubicBezTo>
                <a:cubicBezTo>
                  <a:pt x="5794" y="1441"/>
                  <a:pt x="5788" y="1455"/>
                  <a:pt x="5778" y="1465"/>
                </a:cubicBezTo>
                <a:cubicBezTo>
                  <a:pt x="5764" y="1479"/>
                  <a:pt x="5743" y="1486"/>
                  <a:pt x="5730" y="1501"/>
                </a:cubicBezTo>
                <a:cubicBezTo>
                  <a:pt x="5722" y="1511"/>
                  <a:pt x="5726" y="1527"/>
                  <a:pt x="5718" y="1537"/>
                </a:cubicBezTo>
                <a:cubicBezTo>
                  <a:pt x="5709" y="1548"/>
                  <a:pt x="5693" y="1551"/>
                  <a:pt x="5682" y="1561"/>
                </a:cubicBezTo>
                <a:cubicBezTo>
                  <a:pt x="5644" y="1595"/>
                  <a:pt x="5615" y="1638"/>
                  <a:pt x="5574" y="1669"/>
                </a:cubicBezTo>
                <a:cubicBezTo>
                  <a:pt x="5558" y="1681"/>
                  <a:pt x="5540" y="1691"/>
                  <a:pt x="5526" y="1705"/>
                </a:cubicBezTo>
                <a:cubicBezTo>
                  <a:pt x="5502" y="1729"/>
                  <a:pt x="5451" y="1798"/>
                  <a:pt x="5418" y="1813"/>
                </a:cubicBezTo>
                <a:cubicBezTo>
                  <a:pt x="5396" y="1823"/>
                  <a:pt x="5370" y="1821"/>
                  <a:pt x="5346" y="1825"/>
                </a:cubicBezTo>
                <a:cubicBezTo>
                  <a:pt x="5285" y="1855"/>
                  <a:pt x="5228" y="1893"/>
                  <a:pt x="5166" y="1921"/>
                </a:cubicBezTo>
                <a:cubicBezTo>
                  <a:pt x="5092" y="1954"/>
                  <a:pt x="5043" y="1971"/>
                  <a:pt x="4974" y="2017"/>
                </a:cubicBezTo>
                <a:cubicBezTo>
                  <a:pt x="4940" y="2040"/>
                  <a:pt x="4894" y="2031"/>
                  <a:pt x="4854" y="2041"/>
                </a:cubicBezTo>
                <a:cubicBezTo>
                  <a:pt x="4784" y="2059"/>
                  <a:pt x="4734" y="2089"/>
                  <a:pt x="4662" y="2101"/>
                </a:cubicBezTo>
                <a:cubicBezTo>
                  <a:pt x="4623" y="2127"/>
                  <a:pt x="4581" y="2139"/>
                  <a:pt x="4542" y="2161"/>
                </a:cubicBezTo>
                <a:cubicBezTo>
                  <a:pt x="4425" y="2226"/>
                  <a:pt x="4370" y="2258"/>
                  <a:pt x="4230" y="2305"/>
                </a:cubicBezTo>
                <a:cubicBezTo>
                  <a:pt x="4134" y="2337"/>
                  <a:pt x="4258" y="2320"/>
                  <a:pt x="4158" y="2365"/>
                </a:cubicBezTo>
                <a:cubicBezTo>
                  <a:pt x="4113" y="2385"/>
                  <a:pt x="4059" y="2381"/>
                  <a:pt x="4014" y="2401"/>
                </a:cubicBezTo>
                <a:cubicBezTo>
                  <a:pt x="3975" y="2419"/>
                  <a:pt x="3976" y="2434"/>
                  <a:pt x="3942" y="2461"/>
                </a:cubicBezTo>
                <a:cubicBezTo>
                  <a:pt x="3842" y="2543"/>
                  <a:pt x="3874" y="2524"/>
                  <a:pt x="3774" y="2557"/>
                </a:cubicBezTo>
                <a:cubicBezTo>
                  <a:pt x="3635" y="2696"/>
                  <a:pt x="3848" y="2491"/>
                  <a:pt x="3690" y="2617"/>
                </a:cubicBezTo>
                <a:cubicBezTo>
                  <a:pt x="3598" y="2690"/>
                  <a:pt x="3583" y="2733"/>
                  <a:pt x="3462" y="2773"/>
                </a:cubicBezTo>
                <a:cubicBezTo>
                  <a:pt x="3409" y="2813"/>
                  <a:pt x="3345" y="2842"/>
                  <a:pt x="3294" y="2881"/>
                </a:cubicBezTo>
                <a:cubicBezTo>
                  <a:pt x="3216" y="2941"/>
                  <a:pt x="3216" y="2973"/>
                  <a:pt x="3150" y="3049"/>
                </a:cubicBezTo>
                <a:cubicBezTo>
                  <a:pt x="3120" y="3083"/>
                  <a:pt x="3086" y="3113"/>
                  <a:pt x="3054" y="3145"/>
                </a:cubicBezTo>
                <a:cubicBezTo>
                  <a:pt x="3038" y="3193"/>
                  <a:pt x="3042" y="3253"/>
                  <a:pt x="3006" y="3289"/>
                </a:cubicBezTo>
                <a:cubicBezTo>
                  <a:pt x="2950" y="3345"/>
                  <a:pt x="2938" y="3377"/>
                  <a:pt x="2910" y="3457"/>
                </a:cubicBezTo>
                <a:cubicBezTo>
                  <a:pt x="2849" y="3630"/>
                  <a:pt x="2868" y="3568"/>
                  <a:pt x="2838" y="3745"/>
                </a:cubicBezTo>
                <a:cubicBezTo>
                  <a:pt x="2829" y="3797"/>
                  <a:pt x="2831" y="3851"/>
                  <a:pt x="2814" y="3901"/>
                </a:cubicBezTo>
                <a:cubicBezTo>
                  <a:pt x="2803" y="3935"/>
                  <a:pt x="2782" y="3965"/>
                  <a:pt x="2766" y="3997"/>
                </a:cubicBezTo>
                <a:cubicBezTo>
                  <a:pt x="2751" y="4027"/>
                  <a:pt x="2750" y="4061"/>
                  <a:pt x="2742" y="4093"/>
                </a:cubicBezTo>
                <a:cubicBezTo>
                  <a:pt x="2732" y="4135"/>
                  <a:pt x="2708" y="4172"/>
                  <a:pt x="2694" y="4213"/>
                </a:cubicBezTo>
                <a:cubicBezTo>
                  <a:pt x="2670" y="4285"/>
                  <a:pt x="2646" y="4357"/>
                  <a:pt x="2622" y="4429"/>
                </a:cubicBezTo>
                <a:cubicBezTo>
                  <a:pt x="2612" y="4459"/>
                  <a:pt x="2524" y="4471"/>
                  <a:pt x="2502" y="4477"/>
                </a:cubicBezTo>
                <a:cubicBezTo>
                  <a:pt x="2277" y="4465"/>
                  <a:pt x="2350" y="4497"/>
                  <a:pt x="2262" y="4453"/>
                </a:cubicBezTo>
              </a:path>
            </a:pathLst>
          </a:custGeom>
          <a:solidFill>
            <a:srgbClr val="ffcc99"/>
          </a:solidFill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-228600" y="4648320"/>
            <a:ext cx="2286000" cy="2209680"/>
            <a:chOff x="-228600" y="4648320"/>
            <a:chExt cx="2286000" cy="2209680"/>
          </a:xfrm>
        </p:grpSpPr>
        <p:sp>
          <p:nvSpPr>
            <p:cNvPr id="131" name="AutoShape 4"/>
            <p:cNvSpPr/>
            <p:nvPr/>
          </p:nvSpPr>
          <p:spPr>
            <a:xfrm>
              <a:off x="-228600" y="472428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762120" y="571500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6"/>
            <p:cNvSpPr/>
            <p:nvPr/>
          </p:nvSpPr>
          <p:spPr>
            <a:xfrm>
              <a:off x="76320" y="464832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推车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7"/>
          <p:cNvGrpSpPr/>
          <p:nvPr/>
        </p:nvGrpSpPr>
        <p:grpSpPr>
          <a:xfrm>
            <a:off x="5562720" y="1219320"/>
            <a:ext cx="4968720" cy="2209680"/>
            <a:chOff x="5562720" y="1219320"/>
            <a:chExt cx="4968720" cy="2209680"/>
          </a:xfrm>
        </p:grpSpPr>
        <p:sp>
          <p:nvSpPr>
            <p:cNvPr id="135" name="AutoShape 8"/>
            <p:cNvSpPr/>
            <p:nvPr/>
          </p:nvSpPr>
          <p:spPr>
            <a:xfrm>
              <a:off x="5562720" y="1295280"/>
              <a:ext cx="350496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9"/>
            <p:cNvSpPr/>
            <p:nvPr/>
          </p:nvSpPr>
          <p:spPr>
            <a:xfrm>
              <a:off x="7238880" y="2286000"/>
              <a:ext cx="22860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5791320" y="1219320"/>
              <a:ext cx="4740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五颜六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11"/>
          <p:cNvGrpSpPr/>
          <p:nvPr/>
        </p:nvGrpSpPr>
        <p:grpSpPr>
          <a:xfrm>
            <a:off x="1143000" y="1143000"/>
            <a:ext cx="3794040" cy="2209680"/>
            <a:chOff x="1143000" y="1143000"/>
            <a:chExt cx="3794040" cy="2209680"/>
          </a:xfrm>
        </p:grpSpPr>
        <p:sp>
          <p:nvSpPr>
            <p:cNvPr id="139" name="AutoShape 12"/>
            <p:cNvSpPr/>
            <p:nvPr/>
          </p:nvSpPr>
          <p:spPr>
            <a:xfrm>
              <a:off x="1143000" y="1219320"/>
              <a:ext cx="3657600" cy="9903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2895480" y="2209680"/>
              <a:ext cx="2746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4"/>
            <p:cNvSpPr/>
            <p:nvPr/>
          </p:nvSpPr>
          <p:spPr>
            <a:xfrm>
              <a:off x="1371600" y="1143000"/>
              <a:ext cx="3565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花花绿绿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15"/>
          <p:cNvGrpSpPr/>
          <p:nvPr/>
        </p:nvGrpSpPr>
        <p:grpSpPr>
          <a:xfrm>
            <a:off x="3352680" y="4038480"/>
            <a:ext cx="2286000" cy="2209680"/>
            <a:chOff x="3352680" y="4038480"/>
            <a:chExt cx="2286000" cy="2209680"/>
          </a:xfrm>
        </p:grpSpPr>
        <p:sp>
          <p:nvSpPr>
            <p:cNvPr id="143" name="AutoShape 16"/>
            <p:cNvSpPr/>
            <p:nvPr/>
          </p:nvSpPr>
          <p:spPr>
            <a:xfrm>
              <a:off x="3352680" y="4114440"/>
              <a:ext cx="2286000" cy="9907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7"/>
            <p:cNvSpPr/>
            <p:nvPr/>
          </p:nvSpPr>
          <p:spPr>
            <a:xfrm>
              <a:off x="4343400" y="5105160"/>
              <a:ext cx="152280" cy="11430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8"/>
            <p:cNvSpPr/>
            <p:nvPr/>
          </p:nvSpPr>
          <p:spPr>
            <a:xfrm>
              <a:off x="3657600" y="4038480"/>
              <a:ext cx="1981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堆积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Freeform 19"/>
          <p:cNvSpPr/>
          <p:nvPr/>
        </p:nvSpPr>
        <p:spPr>
          <a:xfrm>
            <a:off x="3886200" y="5867280"/>
            <a:ext cx="1279440" cy="590760"/>
          </a:xfrm>
          <a:custGeom>
            <a:avLst/>
            <a:gdLst/>
            <a:ahLst/>
            <a:rect l="l" t="t" r="r" b="b"/>
            <a:pathLst>
              <a:path w="806" h="372">
                <a:moveTo>
                  <a:pt x="614" y="320"/>
                </a:moveTo>
                <a:cubicBezTo>
                  <a:pt x="475" y="368"/>
                  <a:pt x="314" y="343"/>
                  <a:pt x="166" y="358"/>
                </a:cubicBezTo>
                <a:cubicBezTo>
                  <a:pt x="132" y="354"/>
                  <a:pt x="87" y="372"/>
                  <a:pt x="64" y="346"/>
                </a:cubicBezTo>
                <a:cubicBezTo>
                  <a:pt x="44" y="323"/>
                  <a:pt x="77" y="286"/>
                  <a:pt x="77" y="256"/>
                </a:cubicBezTo>
                <a:cubicBezTo>
                  <a:pt x="77" y="174"/>
                  <a:pt x="39" y="162"/>
                  <a:pt x="0" y="102"/>
                </a:cubicBezTo>
                <a:cubicBezTo>
                  <a:pt x="13" y="98"/>
                  <a:pt x="26" y="85"/>
                  <a:pt x="38" y="90"/>
                </a:cubicBezTo>
                <a:cubicBezTo>
                  <a:pt x="60" y="100"/>
                  <a:pt x="71" y="125"/>
                  <a:pt x="89" y="141"/>
                </a:cubicBezTo>
                <a:cubicBezTo>
                  <a:pt x="101" y="151"/>
                  <a:pt x="115" y="158"/>
                  <a:pt x="128" y="166"/>
                </a:cubicBezTo>
                <a:cubicBezTo>
                  <a:pt x="136" y="179"/>
                  <a:pt x="146" y="191"/>
                  <a:pt x="153" y="205"/>
                </a:cubicBezTo>
                <a:cubicBezTo>
                  <a:pt x="159" y="217"/>
                  <a:pt x="157" y="252"/>
                  <a:pt x="166" y="243"/>
                </a:cubicBezTo>
                <a:cubicBezTo>
                  <a:pt x="200" y="209"/>
                  <a:pt x="173" y="146"/>
                  <a:pt x="192" y="102"/>
                </a:cubicBezTo>
                <a:cubicBezTo>
                  <a:pt x="211" y="59"/>
                  <a:pt x="283" y="25"/>
                  <a:pt x="320" y="0"/>
                </a:cubicBezTo>
                <a:cubicBezTo>
                  <a:pt x="298" y="66"/>
                  <a:pt x="292" y="122"/>
                  <a:pt x="281" y="192"/>
                </a:cubicBezTo>
                <a:cubicBezTo>
                  <a:pt x="278" y="209"/>
                  <a:pt x="252" y="237"/>
                  <a:pt x="269" y="243"/>
                </a:cubicBezTo>
                <a:cubicBezTo>
                  <a:pt x="289" y="250"/>
                  <a:pt x="303" y="218"/>
                  <a:pt x="320" y="205"/>
                </a:cubicBezTo>
                <a:cubicBezTo>
                  <a:pt x="382" y="109"/>
                  <a:pt x="493" y="70"/>
                  <a:pt x="601" y="51"/>
                </a:cubicBezTo>
                <a:cubicBezTo>
                  <a:pt x="577" y="154"/>
                  <a:pt x="612" y="53"/>
                  <a:pt x="537" y="141"/>
                </a:cubicBezTo>
                <a:cubicBezTo>
                  <a:pt x="525" y="155"/>
                  <a:pt x="521" y="176"/>
                  <a:pt x="512" y="192"/>
                </a:cubicBezTo>
                <a:cubicBezTo>
                  <a:pt x="504" y="205"/>
                  <a:pt x="479" y="216"/>
                  <a:pt x="486" y="230"/>
                </a:cubicBezTo>
                <a:cubicBezTo>
                  <a:pt x="492" y="242"/>
                  <a:pt x="512" y="221"/>
                  <a:pt x="525" y="218"/>
                </a:cubicBezTo>
                <a:cubicBezTo>
                  <a:pt x="618" y="198"/>
                  <a:pt x="711" y="178"/>
                  <a:pt x="806" y="166"/>
                </a:cubicBezTo>
                <a:cubicBezTo>
                  <a:pt x="798" y="179"/>
                  <a:pt x="793" y="195"/>
                  <a:pt x="781" y="205"/>
                </a:cubicBezTo>
                <a:cubicBezTo>
                  <a:pt x="770" y="214"/>
                  <a:pt x="754" y="211"/>
                  <a:pt x="742" y="218"/>
                </a:cubicBezTo>
                <a:cubicBezTo>
                  <a:pt x="631" y="281"/>
                  <a:pt x="742" y="239"/>
                  <a:pt x="653" y="269"/>
                </a:cubicBezTo>
                <a:cubicBezTo>
                  <a:pt x="611" y="310"/>
                  <a:pt x="614" y="289"/>
                  <a:pt x="614" y="32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6400800" y="3048120"/>
            <a:ext cx="1771560" cy="752400"/>
          </a:xfrm>
          <a:custGeom>
            <a:avLst/>
            <a:gdLst/>
            <a:ahLst/>
            <a:rect l="l" t="t" r="r" b="b"/>
            <a:pathLst>
              <a:path w="1116" h="474">
                <a:moveTo>
                  <a:pt x="871" y="333"/>
                </a:moveTo>
                <a:cubicBezTo>
                  <a:pt x="800" y="357"/>
                  <a:pt x="725" y="364"/>
                  <a:pt x="653" y="384"/>
                </a:cubicBezTo>
                <a:cubicBezTo>
                  <a:pt x="640" y="388"/>
                  <a:pt x="627" y="391"/>
                  <a:pt x="615" y="397"/>
                </a:cubicBezTo>
                <a:cubicBezTo>
                  <a:pt x="601" y="404"/>
                  <a:pt x="591" y="418"/>
                  <a:pt x="576" y="422"/>
                </a:cubicBezTo>
                <a:cubicBezTo>
                  <a:pt x="493" y="447"/>
                  <a:pt x="404" y="446"/>
                  <a:pt x="320" y="474"/>
                </a:cubicBezTo>
                <a:cubicBezTo>
                  <a:pt x="191" y="381"/>
                  <a:pt x="172" y="387"/>
                  <a:pt x="0" y="371"/>
                </a:cubicBezTo>
                <a:cubicBezTo>
                  <a:pt x="102" y="306"/>
                  <a:pt x="125" y="336"/>
                  <a:pt x="282" y="346"/>
                </a:cubicBezTo>
                <a:cubicBezTo>
                  <a:pt x="308" y="350"/>
                  <a:pt x="334" y="352"/>
                  <a:pt x="359" y="358"/>
                </a:cubicBezTo>
                <a:cubicBezTo>
                  <a:pt x="372" y="361"/>
                  <a:pt x="391" y="383"/>
                  <a:pt x="397" y="371"/>
                </a:cubicBezTo>
                <a:cubicBezTo>
                  <a:pt x="404" y="358"/>
                  <a:pt x="383" y="343"/>
                  <a:pt x="372" y="333"/>
                </a:cubicBezTo>
                <a:cubicBezTo>
                  <a:pt x="293" y="264"/>
                  <a:pt x="288" y="281"/>
                  <a:pt x="180" y="269"/>
                </a:cubicBezTo>
                <a:cubicBezTo>
                  <a:pt x="167" y="265"/>
                  <a:pt x="141" y="270"/>
                  <a:pt x="141" y="256"/>
                </a:cubicBezTo>
                <a:cubicBezTo>
                  <a:pt x="141" y="240"/>
                  <a:pt x="164" y="231"/>
                  <a:pt x="180" y="230"/>
                </a:cubicBezTo>
                <a:cubicBezTo>
                  <a:pt x="257" y="226"/>
                  <a:pt x="333" y="239"/>
                  <a:pt x="410" y="243"/>
                </a:cubicBezTo>
                <a:cubicBezTo>
                  <a:pt x="423" y="247"/>
                  <a:pt x="436" y="251"/>
                  <a:pt x="448" y="256"/>
                </a:cubicBezTo>
                <a:cubicBezTo>
                  <a:pt x="466" y="264"/>
                  <a:pt x="482" y="289"/>
                  <a:pt x="500" y="282"/>
                </a:cubicBezTo>
                <a:cubicBezTo>
                  <a:pt x="516" y="275"/>
                  <a:pt x="505" y="246"/>
                  <a:pt x="512" y="230"/>
                </a:cubicBezTo>
                <a:cubicBezTo>
                  <a:pt x="518" y="216"/>
                  <a:pt x="531" y="206"/>
                  <a:pt x="538" y="192"/>
                </a:cubicBezTo>
                <a:cubicBezTo>
                  <a:pt x="544" y="180"/>
                  <a:pt x="543" y="165"/>
                  <a:pt x="551" y="154"/>
                </a:cubicBezTo>
                <a:cubicBezTo>
                  <a:pt x="573" y="125"/>
                  <a:pt x="602" y="103"/>
                  <a:pt x="628" y="77"/>
                </a:cubicBezTo>
                <a:cubicBezTo>
                  <a:pt x="641" y="64"/>
                  <a:pt x="666" y="38"/>
                  <a:pt x="666" y="38"/>
                </a:cubicBezTo>
                <a:cubicBezTo>
                  <a:pt x="662" y="55"/>
                  <a:pt x="658" y="73"/>
                  <a:pt x="653" y="90"/>
                </a:cubicBezTo>
                <a:cubicBezTo>
                  <a:pt x="649" y="103"/>
                  <a:pt x="644" y="115"/>
                  <a:pt x="640" y="128"/>
                </a:cubicBezTo>
                <a:cubicBezTo>
                  <a:pt x="590" y="313"/>
                  <a:pt x="605" y="230"/>
                  <a:pt x="640" y="192"/>
                </a:cubicBezTo>
                <a:cubicBezTo>
                  <a:pt x="738" y="86"/>
                  <a:pt x="763" y="55"/>
                  <a:pt x="871" y="0"/>
                </a:cubicBezTo>
                <a:cubicBezTo>
                  <a:pt x="832" y="60"/>
                  <a:pt x="798" y="122"/>
                  <a:pt x="756" y="179"/>
                </a:cubicBezTo>
                <a:cubicBezTo>
                  <a:pt x="752" y="192"/>
                  <a:pt x="729" y="218"/>
                  <a:pt x="743" y="218"/>
                </a:cubicBezTo>
                <a:cubicBezTo>
                  <a:pt x="840" y="218"/>
                  <a:pt x="813" y="167"/>
                  <a:pt x="884" y="141"/>
                </a:cubicBezTo>
                <a:cubicBezTo>
                  <a:pt x="929" y="125"/>
                  <a:pt x="978" y="127"/>
                  <a:pt x="1024" y="115"/>
                </a:cubicBezTo>
                <a:cubicBezTo>
                  <a:pt x="1011" y="132"/>
                  <a:pt x="1003" y="154"/>
                  <a:pt x="986" y="166"/>
                </a:cubicBezTo>
                <a:cubicBezTo>
                  <a:pt x="783" y="309"/>
                  <a:pt x="972" y="129"/>
                  <a:pt x="858" y="243"/>
                </a:cubicBezTo>
                <a:cubicBezTo>
                  <a:pt x="939" y="247"/>
                  <a:pt x="1021" y="241"/>
                  <a:pt x="1101" y="256"/>
                </a:cubicBezTo>
                <a:cubicBezTo>
                  <a:pt x="1116" y="259"/>
                  <a:pt x="1077" y="275"/>
                  <a:pt x="1063" y="282"/>
                </a:cubicBezTo>
                <a:cubicBezTo>
                  <a:pt x="1051" y="288"/>
                  <a:pt x="1037" y="290"/>
                  <a:pt x="1024" y="294"/>
                </a:cubicBezTo>
                <a:cubicBezTo>
                  <a:pt x="975" y="310"/>
                  <a:pt x="779" y="287"/>
                  <a:pt x="871" y="33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1905120" y="3048120"/>
            <a:ext cx="993600" cy="814320"/>
          </a:xfrm>
          <a:custGeom>
            <a:avLst/>
            <a:gdLst/>
            <a:ahLst/>
            <a:rect l="l" t="t" r="r" b="b"/>
            <a:pathLst>
              <a:path w="626" h="513">
                <a:moveTo>
                  <a:pt x="575" y="116"/>
                </a:moveTo>
                <a:cubicBezTo>
                  <a:pt x="512" y="132"/>
                  <a:pt x="469" y="173"/>
                  <a:pt x="408" y="193"/>
                </a:cubicBezTo>
                <a:cubicBezTo>
                  <a:pt x="395" y="202"/>
                  <a:pt x="380" y="207"/>
                  <a:pt x="370" y="219"/>
                </a:cubicBezTo>
                <a:cubicBezTo>
                  <a:pt x="362" y="229"/>
                  <a:pt x="367" y="248"/>
                  <a:pt x="357" y="257"/>
                </a:cubicBezTo>
                <a:cubicBezTo>
                  <a:pt x="335" y="279"/>
                  <a:pt x="280" y="308"/>
                  <a:pt x="280" y="308"/>
                </a:cubicBezTo>
                <a:cubicBezTo>
                  <a:pt x="213" y="412"/>
                  <a:pt x="301" y="287"/>
                  <a:pt x="216" y="372"/>
                </a:cubicBezTo>
                <a:cubicBezTo>
                  <a:pt x="205" y="383"/>
                  <a:pt x="201" y="399"/>
                  <a:pt x="191" y="411"/>
                </a:cubicBezTo>
                <a:cubicBezTo>
                  <a:pt x="158" y="451"/>
                  <a:pt x="112" y="477"/>
                  <a:pt x="75" y="513"/>
                </a:cubicBezTo>
                <a:cubicBezTo>
                  <a:pt x="0" y="413"/>
                  <a:pt x="34" y="296"/>
                  <a:pt x="63" y="180"/>
                </a:cubicBezTo>
                <a:cubicBezTo>
                  <a:pt x="76" y="197"/>
                  <a:pt x="97" y="211"/>
                  <a:pt x="101" y="232"/>
                </a:cubicBezTo>
                <a:cubicBezTo>
                  <a:pt x="133" y="395"/>
                  <a:pt x="88" y="511"/>
                  <a:pt x="127" y="398"/>
                </a:cubicBezTo>
                <a:cubicBezTo>
                  <a:pt x="143" y="295"/>
                  <a:pt x="153" y="175"/>
                  <a:pt x="216" y="91"/>
                </a:cubicBezTo>
                <a:cubicBezTo>
                  <a:pt x="220" y="65"/>
                  <a:pt x="207" y="0"/>
                  <a:pt x="229" y="14"/>
                </a:cubicBezTo>
                <a:cubicBezTo>
                  <a:pt x="249" y="27"/>
                  <a:pt x="265" y="202"/>
                  <a:pt x="267" y="219"/>
                </a:cubicBezTo>
                <a:cubicBezTo>
                  <a:pt x="292" y="121"/>
                  <a:pt x="300" y="71"/>
                  <a:pt x="370" y="1"/>
                </a:cubicBezTo>
                <a:cubicBezTo>
                  <a:pt x="374" y="65"/>
                  <a:pt x="338" y="147"/>
                  <a:pt x="383" y="193"/>
                </a:cubicBezTo>
                <a:cubicBezTo>
                  <a:pt x="413" y="223"/>
                  <a:pt x="435" y="123"/>
                  <a:pt x="472" y="104"/>
                </a:cubicBezTo>
                <a:cubicBezTo>
                  <a:pt x="535" y="72"/>
                  <a:pt x="505" y="84"/>
                  <a:pt x="562" y="65"/>
                </a:cubicBezTo>
                <a:cubicBezTo>
                  <a:pt x="570" y="52"/>
                  <a:pt x="573" y="33"/>
                  <a:pt x="587" y="27"/>
                </a:cubicBezTo>
                <a:cubicBezTo>
                  <a:pt x="600" y="22"/>
                  <a:pt x="626" y="26"/>
                  <a:pt x="626" y="40"/>
                </a:cubicBezTo>
                <a:cubicBezTo>
                  <a:pt x="626" y="55"/>
                  <a:pt x="600" y="57"/>
                  <a:pt x="587" y="65"/>
                </a:cubicBezTo>
                <a:cubicBezTo>
                  <a:pt x="559" y="109"/>
                  <a:pt x="551" y="94"/>
                  <a:pt x="575" y="1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5334120" y="6095880"/>
            <a:ext cx="1973160" cy="630360"/>
          </a:xfrm>
          <a:custGeom>
            <a:avLst/>
            <a:gdLst/>
            <a:ahLst/>
            <a:rect l="l" t="t" r="r" b="b"/>
            <a:pathLst>
              <a:path w="1243" h="397">
                <a:moveTo>
                  <a:pt x="906" y="346"/>
                </a:moveTo>
                <a:cubicBezTo>
                  <a:pt x="734" y="363"/>
                  <a:pt x="578" y="386"/>
                  <a:pt x="407" y="397"/>
                </a:cubicBezTo>
                <a:cubicBezTo>
                  <a:pt x="279" y="366"/>
                  <a:pt x="152" y="334"/>
                  <a:pt x="23" y="308"/>
                </a:cubicBezTo>
                <a:cubicBezTo>
                  <a:pt x="187" y="253"/>
                  <a:pt x="0" y="274"/>
                  <a:pt x="318" y="257"/>
                </a:cubicBezTo>
                <a:cubicBezTo>
                  <a:pt x="252" y="158"/>
                  <a:pt x="100" y="161"/>
                  <a:pt x="369" y="205"/>
                </a:cubicBezTo>
                <a:cubicBezTo>
                  <a:pt x="450" y="232"/>
                  <a:pt x="470" y="264"/>
                  <a:pt x="433" y="154"/>
                </a:cubicBezTo>
                <a:cubicBezTo>
                  <a:pt x="428" y="139"/>
                  <a:pt x="400" y="130"/>
                  <a:pt x="407" y="116"/>
                </a:cubicBezTo>
                <a:cubicBezTo>
                  <a:pt x="413" y="104"/>
                  <a:pt x="433" y="126"/>
                  <a:pt x="446" y="129"/>
                </a:cubicBezTo>
                <a:cubicBezTo>
                  <a:pt x="471" y="134"/>
                  <a:pt x="497" y="137"/>
                  <a:pt x="522" y="141"/>
                </a:cubicBezTo>
                <a:cubicBezTo>
                  <a:pt x="563" y="182"/>
                  <a:pt x="569" y="203"/>
                  <a:pt x="586" y="257"/>
                </a:cubicBezTo>
                <a:cubicBezTo>
                  <a:pt x="599" y="129"/>
                  <a:pt x="582" y="92"/>
                  <a:pt x="702" y="52"/>
                </a:cubicBezTo>
                <a:cubicBezTo>
                  <a:pt x="715" y="43"/>
                  <a:pt x="726" y="33"/>
                  <a:pt x="740" y="26"/>
                </a:cubicBezTo>
                <a:cubicBezTo>
                  <a:pt x="752" y="20"/>
                  <a:pt x="776" y="0"/>
                  <a:pt x="778" y="13"/>
                </a:cubicBezTo>
                <a:cubicBezTo>
                  <a:pt x="783" y="48"/>
                  <a:pt x="757" y="81"/>
                  <a:pt x="753" y="116"/>
                </a:cubicBezTo>
                <a:cubicBezTo>
                  <a:pt x="749" y="150"/>
                  <a:pt x="746" y="184"/>
                  <a:pt x="740" y="218"/>
                </a:cubicBezTo>
                <a:cubicBezTo>
                  <a:pt x="738" y="231"/>
                  <a:pt x="717" y="267"/>
                  <a:pt x="727" y="257"/>
                </a:cubicBezTo>
                <a:cubicBezTo>
                  <a:pt x="741" y="243"/>
                  <a:pt x="740" y="220"/>
                  <a:pt x="753" y="205"/>
                </a:cubicBezTo>
                <a:cubicBezTo>
                  <a:pt x="783" y="170"/>
                  <a:pt x="804" y="167"/>
                  <a:pt x="842" y="154"/>
                </a:cubicBezTo>
                <a:cubicBezTo>
                  <a:pt x="863" y="158"/>
                  <a:pt x="890" y="152"/>
                  <a:pt x="906" y="167"/>
                </a:cubicBezTo>
                <a:cubicBezTo>
                  <a:pt x="915" y="176"/>
                  <a:pt x="901" y="194"/>
                  <a:pt x="894" y="205"/>
                </a:cubicBezTo>
                <a:cubicBezTo>
                  <a:pt x="858" y="259"/>
                  <a:pt x="806" y="252"/>
                  <a:pt x="932" y="231"/>
                </a:cubicBezTo>
                <a:cubicBezTo>
                  <a:pt x="1026" y="235"/>
                  <a:pt x="1121" y="229"/>
                  <a:pt x="1214" y="244"/>
                </a:cubicBezTo>
                <a:cubicBezTo>
                  <a:pt x="1229" y="246"/>
                  <a:pt x="1243" y="267"/>
                  <a:pt x="1239" y="282"/>
                </a:cubicBezTo>
                <a:cubicBezTo>
                  <a:pt x="1238" y="288"/>
                  <a:pt x="1175" y="301"/>
                  <a:pt x="1150" y="308"/>
                </a:cubicBezTo>
                <a:cubicBezTo>
                  <a:pt x="1034" y="343"/>
                  <a:pt x="1038" y="346"/>
                  <a:pt x="906" y="34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152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文本框 8200"/>
          <p:cNvSpPr/>
          <p:nvPr/>
        </p:nvSpPr>
        <p:spPr>
          <a:xfrm>
            <a:off x="2482920" y="6453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209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57" descr="鹿"/>
          <p:cNvPicPr/>
          <p:nvPr/>
        </p:nvPicPr>
        <p:blipFill>
          <a:blip r:embed="rId5"/>
          <a:stretch/>
        </p:blipFill>
        <p:spPr>
          <a:xfrm>
            <a:off x="3048120" y="2743200"/>
            <a:ext cx="5562360" cy="4680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8" descr="兔"/>
          <p:cNvPicPr/>
          <p:nvPr/>
        </p:nvPicPr>
        <p:blipFill>
          <a:blip r:embed="rId6"/>
          <a:stretch/>
        </p:blipFill>
        <p:spPr>
          <a:xfrm>
            <a:off x="1905120" y="3048120"/>
            <a:ext cx="3581280" cy="289692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8200"/>
          <p:cNvSpPr/>
          <p:nvPr/>
        </p:nvSpPr>
        <p:spPr>
          <a:xfrm>
            <a:off x="1979640" y="638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268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4" descr="树"/>
          <p:cNvPicPr/>
          <p:nvPr/>
        </p:nvPicPr>
        <p:blipFill>
          <a:blip r:embed="rId3"/>
          <a:stretch/>
        </p:blipFill>
        <p:spPr>
          <a:xfrm>
            <a:off x="-914400" y="2913120"/>
            <a:ext cx="4876920" cy="394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5" descr="仙人掌"/>
          <p:cNvPicPr/>
          <p:nvPr/>
        </p:nvPicPr>
        <p:blipFill>
          <a:blip r:embed="rId4"/>
          <a:stretch/>
        </p:blipFill>
        <p:spPr>
          <a:xfrm>
            <a:off x="-304920" y="2971800"/>
            <a:ext cx="2514600" cy="2281320"/>
          </a:xfrm>
          <a:prstGeom prst="rect">
            <a:avLst/>
          </a:prstGeom>
          <a:ln w="0">
            <a:noFill/>
          </a:ln>
        </p:spPr>
      </p:pic>
      <p:sp>
        <p:nvSpPr>
          <p:cNvPr id="321" name="Freeform 56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"/>
          <p:cNvSpPr/>
          <p:nvPr/>
        </p:nvSpPr>
        <p:spPr>
          <a:xfrm>
            <a:off x="1692360" y="549360"/>
            <a:ext cx="577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美 丽 的 小 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852B-6A75-4C7A-BECA-8E603A26CCE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2" descr="风景"/>
          <p:cNvPicPr/>
          <p:nvPr/>
        </p:nvPicPr>
        <p:blipFill>
          <a:blip r:embed="rId1"/>
          <a:stretch/>
        </p:blipFill>
        <p:spPr>
          <a:xfrm>
            <a:off x="-380880" y="-498600"/>
            <a:ext cx="9524880" cy="7356600"/>
          </a:xfrm>
          <a:prstGeom prst="rect">
            <a:avLst/>
          </a:prstGeom>
          <a:ln w="0">
            <a:noFill/>
          </a:ln>
        </p:spPr>
      </p:pic>
      <p:sp>
        <p:nvSpPr>
          <p:cNvPr id="329" name="Freeform 3"/>
          <p:cNvSpPr/>
          <p:nvPr/>
        </p:nvSpPr>
        <p:spPr>
          <a:xfrm>
            <a:off x="8515440" y="634356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4"/>
          <p:cNvSpPr/>
          <p:nvPr/>
        </p:nvSpPr>
        <p:spPr>
          <a:xfrm>
            <a:off x="7696080" y="6248520"/>
            <a:ext cx="60660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5"/>
          <p:cNvSpPr/>
          <p:nvPr/>
        </p:nvSpPr>
        <p:spPr>
          <a:xfrm>
            <a:off x="6781680" y="5943600"/>
            <a:ext cx="533520" cy="3240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6"/>
          <p:cNvSpPr/>
          <p:nvPr/>
        </p:nvSpPr>
        <p:spPr>
          <a:xfrm>
            <a:off x="6858000" y="6553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6934320" y="6248520"/>
            <a:ext cx="38088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8"/>
          <p:cNvSpPr/>
          <p:nvPr/>
        </p:nvSpPr>
        <p:spPr>
          <a:xfrm>
            <a:off x="6324480" y="5562720"/>
            <a:ext cx="723960" cy="457200"/>
          </a:xfrm>
          <a:custGeom>
            <a:avLst/>
            <a:gdLst/>
            <a:ahLst/>
            <a:rect l="l" t="t" r="r" b="b"/>
            <a:pathLst>
              <a:path w="276" h="199">
                <a:moveTo>
                  <a:pt x="276" y="115"/>
                </a:moveTo>
                <a:cubicBezTo>
                  <a:pt x="249" y="97"/>
                  <a:pt x="222" y="83"/>
                  <a:pt x="204" y="55"/>
                </a:cubicBezTo>
                <a:cubicBezTo>
                  <a:pt x="167" y="0"/>
                  <a:pt x="225" y="30"/>
                  <a:pt x="156" y="7"/>
                </a:cubicBezTo>
                <a:cubicBezTo>
                  <a:pt x="63" y="17"/>
                  <a:pt x="29" y="5"/>
                  <a:pt x="0" y="91"/>
                </a:cubicBezTo>
                <a:cubicBezTo>
                  <a:pt x="15" y="184"/>
                  <a:pt x="9" y="177"/>
                  <a:pt x="96" y="199"/>
                </a:cubicBezTo>
                <a:cubicBezTo>
                  <a:pt x="166" y="189"/>
                  <a:pt x="197" y="188"/>
                  <a:pt x="252" y="151"/>
                </a:cubicBezTo>
                <a:cubicBezTo>
                  <a:pt x="265" y="111"/>
                  <a:pt x="251" y="115"/>
                  <a:pt x="276" y="115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9"/>
          <p:cNvSpPr/>
          <p:nvPr/>
        </p:nvSpPr>
        <p:spPr>
          <a:xfrm>
            <a:off x="8362800" y="5483160"/>
            <a:ext cx="514440" cy="479520"/>
          </a:xfrm>
          <a:custGeom>
            <a:avLst/>
            <a:gdLst/>
            <a:ahLst/>
            <a:rect l="l" t="t" r="r" b="b"/>
            <a:pathLst>
              <a:path w="324" h="302">
                <a:moveTo>
                  <a:pt x="324" y="62"/>
                </a:moveTo>
                <a:cubicBezTo>
                  <a:pt x="231" y="0"/>
                  <a:pt x="143" y="39"/>
                  <a:pt x="48" y="86"/>
                </a:cubicBezTo>
                <a:cubicBezTo>
                  <a:pt x="40" y="98"/>
                  <a:pt x="30" y="109"/>
                  <a:pt x="24" y="122"/>
                </a:cubicBezTo>
                <a:cubicBezTo>
                  <a:pt x="14" y="145"/>
                  <a:pt x="0" y="194"/>
                  <a:pt x="0" y="194"/>
                </a:cubicBezTo>
                <a:cubicBezTo>
                  <a:pt x="10" y="235"/>
                  <a:pt x="6" y="255"/>
                  <a:pt x="48" y="278"/>
                </a:cubicBezTo>
                <a:cubicBezTo>
                  <a:pt x="70" y="290"/>
                  <a:pt x="120" y="302"/>
                  <a:pt x="120" y="302"/>
                </a:cubicBezTo>
                <a:cubicBezTo>
                  <a:pt x="196" y="289"/>
                  <a:pt x="212" y="282"/>
                  <a:pt x="264" y="230"/>
                </a:cubicBezTo>
                <a:cubicBezTo>
                  <a:pt x="283" y="174"/>
                  <a:pt x="298" y="115"/>
                  <a:pt x="324" y="62"/>
                </a:cubicBezTo>
                <a:close/>
              </a:path>
            </a:pathLst>
          </a:cu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0"/>
          <p:cNvSpPr/>
          <p:nvPr/>
        </p:nvSpPr>
        <p:spPr>
          <a:xfrm>
            <a:off x="4952880" y="57150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1"/>
          <p:cNvSpPr/>
          <p:nvPr/>
        </p:nvSpPr>
        <p:spPr>
          <a:xfrm>
            <a:off x="7315200" y="601992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2"/>
          <p:cNvSpPr/>
          <p:nvPr/>
        </p:nvSpPr>
        <p:spPr>
          <a:xfrm>
            <a:off x="6324480" y="6172200"/>
            <a:ext cx="495360" cy="62856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13"/>
          <p:cNvSpPr/>
          <p:nvPr/>
        </p:nvSpPr>
        <p:spPr>
          <a:xfrm>
            <a:off x="2286000" y="47242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4"/>
          <p:cNvSpPr/>
          <p:nvPr/>
        </p:nvSpPr>
        <p:spPr>
          <a:xfrm>
            <a:off x="3581280" y="403848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4038480" y="5943600"/>
            <a:ext cx="495360" cy="476280"/>
          </a:xfrm>
          <a:custGeom>
            <a:avLst/>
            <a:gdLst/>
            <a:ahLst/>
            <a:rect l="l" t="t" r="r" b="b"/>
            <a:pathLst>
              <a:path w="312" h="300">
                <a:moveTo>
                  <a:pt x="300" y="228"/>
                </a:moveTo>
                <a:cubicBezTo>
                  <a:pt x="282" y="282"/>
                  <a:pt x="268" y="283"/>
                  <a:pt x="216" y="300"/>
                </a:cubicBezTo>
                <a:cubicBezTo>
                  <a:pt x="165" y="291"/>
                  <a:pt x="90" y="284"/>
                  <a:pt x="48" y="252"/>
                </a:cubicBezTo>
                <a:cubicBezTo>
                  <a:pt x="25" y="235"/>
                  <a:pt x="0" y="180"/>
                  <a:pt x="0" y="180"/>
                </a:cubicBezTo>
                <a:cubicBezTo>
                  <a:pt x="8" y="130"/>
                  <a:pt x="8" y="65"/>
                  <a:pt x="60" y="36"/>
                </a:cubicBezTo>
                <a:cubicBezTo>
                  <a:pt x="82" y="24"/>
                  <a:pt x="108" y="20"/>
                  <a:pt x="132" y="12"/>
                </a:cubicBezTo>
                <a:cubicBezTo>
                  <a:pt x="144" y="8"/>
                  <a:pt x="168" y="0"/>
                  <a:pt x="168" y="0"/>
                </a:cubicBezTo>
                <a:cubicBezTo>
                  <a:pt x="188" y="4"/>
                  <a:pt x="209" y="5"/>
                  <a:pt x="228" y="12"/>
                </a:cubicBezTo>
                <a:cubicBezTo>
                  <a:pt x="288" y="35"/>
                  <a:pt x="299" y="102"/>
                  <a:pt x="312" y="156"/>
                </a:cubicBezTo>
                <a:cubicBezTo>
                  <a:pt x="299" y="276"/>
                  <a:pt x="300" y="300"/>
                  <a:pt x="300" y="228"/>
                </a:cubicBezTo>
                <a:close/>
              </a:path>
            </a:pathLst>
          </a:cu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16"/>
          <p:cNvSpPr/>
          <p:nvPr/>
        </p:nvSpPr>
        <p:spPr>
          <a:xfrm>
            <a:off x="7848720" y="571500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7"/>
          <p:cNvSpPr/>
          <p:nvPr/>
        </p:nvSpPr>
        <p:spPr>
          <a:xfrm>
            <a:off x="3124080" y="3886200"/>
            <a:ext cx="50508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18"/>
          <p:cNvSpPr/>
          <p:nvPr/>
        </p:nvSpPr>
        <p:spPr>
          <a:xfrm>
            <a:off x="5715000" y="5943600"/>
            <a:ext cx="657360" cy="68580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19"/>
          <p:cNvSpPr/>
          <p:nvPr/>
        </p:nvSpPr>
        <p:spPr>
          <a:xfrm>
            <a:off x="2286000" y="373392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0"/>
          <p:cNvSpPr/>
          <p:nvPr/>
        </p:nvSpPr>
        <p:spPr>
          <a:xfrm>
            <a:off x="3657600" y="5638680"/>
            <a:ext cx="504720" cy="476280"/>
          </a:xfrm>
          <a:custGeom>
            <a:avLst/>
            <a:gdLst/>
            <a:ahLst/>
            <a:rect l="l" t="t" r="r" b="b"/>
            <a:pathLst>
              <a:path w="318" h="300">
                <a:moveTo>
                  <a:pt x="272" y="168"/>
                </a:moveTo>
                <a:cubicBezTo>
                  <a:pt x="209" y="263"/>
                  <a:pt x="146" y="266"/>
                  <a:pt x="44" y="300"/>
                </a:cubicBezTo>
                <a:cubicBezTo>
                  <a:pt x="7" y="245"/>
                  <a:pt x="0" y="251"/>
                  <a:pt x="32" y="156"/>
                </a:cubicBezTo>
                <a:cubicBezTo>
                  <a:pt x="37" y="140"/>
                  <a:pt x="55" y="130"/>
                  <a:pt x="68" y="120"/>
                </a:cubicBezTo>
                <a:cubicBezTo>
                  <a:pt x="91" y="102"/>
                  <a:pt x="140" y="72"/>
                  <a:pt x="140" y="72"/>
                </a:cubicBezTo>
                <a:cubicBezTo>
                  <a:pt x="172" y="24"/>
                  <a:pt x="189" y="31"/>
                  <a:pt x="236" y="0"/>
                </a:cubicBezTo>
                <a:cubicBezTo>
                  <a:pt x="297" y="41"/>
                  <a:pt x="318" y="72"/>
                  <a:pt x="284" y="156"/>
                </a:cubicBezTo>
                <a:cubicBezTo>
                  <a:pt x="279" y="169"/>
                  <a:pt x="258" y="170"/>
                  <a:pt x="248" y="180"/>
                </a:cubicBezTo>
                <a:cubicBezTo>
                  <a:pt x="242" y="186"/>
                  <a:pt x="264" y="172"/>
                  <a:pt x="272" y="168"/>
                </a:cubicBezTo>
                <a:close/>
              </a:path>
            </a:pathLst>
          </a:cu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1"/>
          <p:cNvSpPr/>
          <p:nvPr/>
        </p:nvSpPr>
        <p:spPr>
          <a:xfrm>
            <a:off x="2057400" y="4267080"/>
            <a:ext cx="68724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2"/>
          <p:cNvSpPr/>
          <p:nvPr/>
        </p:nvSpPr>
        <p:spPr>
          <a:xfrm>
            <a:off x="4343400" y="4800600"/>
            <a:ext cx="687240" cy="26820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3"/>
          <p:cNvSpPr/>
          <p:nvPr/>
        </p:nvSpPr>
        <p:spPr>
          <a:xfrm>
            <a:off x="3200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4"/>
          <p:cNvSpPr/>
          <p:nvPr/>
        </p:nvSpPr>
        <p:spPr>
          <a:xfrm>
            <a:off x="3505320" y="3581280"/>
            <a:ext cx="533160" cy="30492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5"/>
          <p:cNvSpPr/>
          <p:nvPr/>
        </p:nvSpPr>
        <p:spPr>
          <a:xfrm>
            <a:off x="7772400" y="5410080"/>
            <a:ext cx="687240" cy="268560"/>
          </a:xfrm>
          <a:custGeom>
            <a:avLst/>
            <a:gdLst/>
            <a:ahLst/>
            <a:rect l="l" t="t" r="r" b="b"/>
            <a:pathLst>
              <a:path w="433" h="169">
                <a:moveTo>
                  <a:pt x="428" y="49"/>
                </a:moveTo>
                <a:cubicBezTo>
                  <a:pt x="284" y="1"/>
                  <a:pt x="433" y="18"/>
                  <a:pt x="164" y="1"/>
                </a:cubicBezTo>
                <a:cubicBezTo>
                  <a:pt x="124" y="5"/>
                  <a:pt x="82" y="0"/>
                  <a:pt x="44" y="13"/>
                </a:cubicBezTo>
                <a:cubicBezTo>
                  <a:pt x="0" y="28"/>
                  <a:pt x="27" y="122"/>
                  <a:pt x="32" y="133"/>
                </a:cubicBezTo>
                <a:cubicBezTo>
                  <a:pt x="40" y="151"/>
                  <a:pt x="88" y="164"/>
                  <a:pt x="104" y="169"/>
                </a:cubicBezTo>
                <a:cubicBezTo>
                  <a:pt x="172" y="165"/>
                  <a:pt x="240" y="166"/>
                  <a:pt x="308" y="157"/>
                </a:cubicBezTo>
                <a:cubicBezTo>
                  <a:pt x="333" y="154"/>
                  <a:pt x="380" y="133"/>
                  <a:pt x="380" y="133"/>
                </a:cubicBezTo>
                <a:cubicBezTo>
                  <a:pt x="398" y="106"/>
                  <a:pt x="406" y="71"/>
                  <a:pt x="428" y="49"/>
                </a:cubicBezTo>
                <a:close/>
              </a:path>
            </a:pathLst>
          </a:cu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26"/>
          <p:cNvSpPr/>
          <p:nvPr/>
        </p:nvSpPr>
        <p:spPr>
          <a:xfrm>
            <a:off x="2743200" y="4952880"/>
            <a:ext cx="533520" cy="51120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27"/>
          <p:cNvSpPr/>
          <p:nvPr/>
        </p:nvSpPr>
        <p:spPr>
          <a:xfrm>
            <a:off x="3809880" y="4419720"/>
            <a:ext cx="60984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28"/>
          <p:cNvSpPr/>
          <p:nvPr/>
        </p:nvSpPr>
        <p:spPr>
          <a:xfrm>
            <a:off x="4572000" y="6172200"/>
            <a:ext cx="762120" cy="4348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29"/>
          <p:cNvSpPr/>
          <p:nvPr/>
        </p:nvSpPr>
        <p:spPr>
          <a:xfrm>
            <a:off x="5410080" y="5181480"/>
            <a:ext cx="606600" cy="66384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0"/>
          <p:cNvSpPr/>
          <p:nvPr/>
        </p:nvSpPr>
        <p:spPr>
          <a:xfrm>
            <a:off x="7162920" y="5334120"/>
            <a:ext cx="606240" cy="663480"/>
          </a:xfrm>
          <a:custGeom>
            <a:avLst/>
            <a:gdLst/>
            <a:ahLst/>
            <a:rect l="l" t="t" r="r" b="b"/>
            <a:pathLst>
              <a:path w="382" h="418">
                <a:moveTo>
                  <a:pt x="372" y="216"/>
                </a:moveTo>
                <a:cubicBezTo>
                  <a:pt x="331" y="278"/>
                  <a:pt x="354" y="275"/>
                  <a:pt x="288" y="324"/>
                </a:cubicBezTo>
                <a:cubicBezTo>
                  <a:pt x="257" y="418"/>
                  <a:pt x="195" y="380"/>
                  <a:pt x="96" y="372"/>
                </a:cubicBezTo>
                <a:cubicBezTo>
                  <a:pt x="76" y="365"/>
                  <a:pt x="36" y="356"/>
                  <a:pt x="24" y="336"/>
                </a:cubicBezTo>
                <a:cubicBezTo>
                  <a:pt x="11" y="315"/>
                  <a:pt x="0" y="264"/>
                  <a:pt x="0" y="264"/>
                </a:cubicBezTo>
                <a:cubicBezTo>
                  <a:pt x="20" y="185"/>
                  <a:pt x="26" y="167"/>
                  <a:pt x="96" y="120"/>
                </a:cubicBezTo>
                <a:cubicBezTo>
                  <a:pt x="136" y="60"/>
                  <a:pt x="108" y="92"/>
                  <a:pt x="192" y="36"/>
                </a:cubicBezTo>
                <a:cubicBezTo>
                  <a:pt x="213" y="22"/>
                  <a:pt x="240" y="20"/>
                  <a:pt x="264" y="12"/>
                </a:cubicBezTo>
                <a:cubicBezTo>
                  <a:pt x="276" y="8"/>
                  <a:pt x="300" y="0"/>
                  <a:pt x="300" y="0"/>
                </a:cubicBezTo>
                <a:cubicBezTo>
                  <a:pt x="322" y="11"/>
                  <a:pt x="370" y="25"/>
                  <a:pt x="372" y="60"/>
                </a:cubicBezTo>
                <a:cubicBezTo>
                  <a:pt x="382" y="220"/>
                  <a:pt x="306" y="216"/>
                  <a:pt x="372" y="21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1"/>
          <p:cNvSpPr/>
          <p:nvPr/>
        </p:nvSpPr>
        <p:spPr>
          <a:xfrm>
            <a:off x="4876920" y="662940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2"/>
          <p:cNvSpPr/>
          <p:nvPr/>
        </p:nvSpPr>
        <p:spPr>
          <a:xfrm>
            <a:off x="3352680" y="5105520"/>
            <a:ext cx="304920" cy="30456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3"/>
          <p:cNvSpPr/>
          <p:nvPr/>
        </p:nvSpPr>
        <p:spPr>
          <a:xfrm>
            <a:off x="8915400" y="5791320"/>
            <a:ext cx="21096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4"/>
          <p:cNvSpPr/>
          <p:nvPr/>
        </p:nvSpPr>
        <p:spPr>
          <a:xfrm>
            <a:off x="5867280" y="5715000"/>
            <a:ext cx="38124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5"/>
          <p:cNvSpPr/>
          <p:nvPr/>
        </p:nvSpPr>
        <p:spPr>
          <a:xfrm>
            <a:off x="4952880" y="5486400"/>
            <a:ext cx="211320" cy="2444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36"/>
          <p:cNvSpPr/>
          <p:nvPr/>
        </p:nvSpPr>
        <p:spPr>
          <a:xfrm>
            <a:off x="2895480" y="3581280"/>
            <a:ext cx="381240" cy="38124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37"/>
          <p:cNvSpPr/>
          <p:nvPr/>
        </p:nvSpPr>
        <p:spPr>
          <a:xfrm>
            <a:off x="2819520" y="44197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38"/>
          <p:cNvSpPr/>
          <p:nvPr/>
        </p:nvSpPr>
        <p:spPr>
          <a:xfrm>
            <a:off x="8305920" y="60199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39"/>
          <p:cNvSpPr/>
          <p:nvPr/>
        </p:nvSpPr>
        <p:spPr>
          <a:xfrm>
            <a:off x="6095880" y="5257800"/>
            <a:ext cx="559080" cy="32868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0"/>
          <p:cNvSpPr/>
          <p:nvPr/>
        </p:nvSpPr>
        <p:spPr>
          <a:xfrm>
            <a:off x="4114800" y="5105520"/>
            <a:ext cx="558720" cy="328320"/>
          </a:xfrm>
          <a:custGeom>
            <a:avLst/>
            <a:gdLst/>
            <a:ahLst/>
            <a:rect l="l" t="t" r="r" b="b"/>
            <a:pathLst>
              <a:path w="352" h="207">
                <a:moveTo>
                  <a:pt x="320" y="66"/>
                </a:moveTo>
                <a:cubicBezTo>
                  <a:pt x="254" y="0"/>
                  <a:pt x="193" y="17"/>
                  <a:pt x="103" y="2"/>
                </a:cubicBezTo>
                <a:cubicBezTo>
                  <a:pt x="31" y="20"/>
                  <a:pt x="23" y="35"/>
                  <a:pt x="0" y="105"/>
                </a:cubicBezTo>
                <a:cubicBezTo>
                  <a:pt x="17" y="187"/>
                  <a:pt x="14" y="182"/>
                  <a:pt x="90" y="207"/>
                </a:cubicBezTo>
                <a:cubicBezTo>
                  <a:pt x="171" y="195"/>
                  <a:pt x="240" y="189"/>
                  <a:pt x="307" y="143"/>
                </a:cubicBezTo>
                <a:cubicBezTo>
                  <a:pt x="314" y="133"/>
                  <a:pt x="352" y="84"/>
                  <a:pt x="346" y="66"/>
                </a:cubicBezTo>
                <a:cubicBezTo>
                  <a:pt x="343" y="58"/>
                  <a:pt x="329" y="66"/>
                  <a:pt x="320" y="66"/>
                </a:cubicBezTo>
                <a:close/>
              </a:path>
            </a:pathLst>
          </a:custGeom>
          <a:solidFill>
            <a:srgbClr val="cc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1"/>
          <p:cNvSpPr/>
          <p:nvPr/>
        </p:nvSpPr>
        <p:spPr>
          <a:xfrm>
            <a:off x="3276720" y="4572000"/>
            <a:ext cx="533160" cy="4665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42"/>
          <p:cNvSpPr/>
          <p:nvPr/>
        </p:nvSpPr>
        <p:spPr>
          <a:xfrm>
            <a:off x="4572000" y="5715000"/>
            <a:ext cx="272880" cy="426960"/>
          </a:xfrm>
          <a:custGeom>
            <a:avLst/>
            <a:gdLst/>
            <a:ahLst/>
            <a:rect l="l" t="t" r="r" b="b"/>
            <a:pathLst>
              <a:path w="172" h="269">
                <a:moveTo>
                  <a:pt x="146" y="25"/>
                </a:moveTo>
                <a:cubicBezTo>
                  <a:pt x="133" y="17"/>
                  <a:pt x="123" y="0"/>
                  <a:pt x="108" y="0"/>
                </a:cubicBezTo>
                <a:cubicBezTo>
                  <a:pt x="93" y="0"/>
                  <a:pt x="83" y="18"/>
                  <a:pt x="69" y="25"/>
                </a:cubicBezTo>
                <a:cubicBezTo>
                  <a:pt x="57" y="31"/>
                  <a:pt x="44" y="34"/>
                  <a:pt x="31" y="38"/>
                </a:cubicBezTo>
                <a:cubicBezTo>
                  <a:pt x="22" y="64"/>
                  <a:pt x="0" y="88"/>
                  <a:pt x="5" y="115"/>
                </a:cubicBezTo>
                <a:cubicBezTo>
                  <a:pt x="21" y="212"/>
                  <a:pt x="27" y="238"/>
                  <a:pt x="121" y="269"/>
                </a:cubicBezTo>
                <a:cubicBezTo>
                  <a:pt x="156" y="215"/>
                  <a:pt x="161" y="181"/>
                  <a:pt x="172" y="115"/>
                </a:cubicBezTo>
                <a:cubicBezTo>
                  <a:pt x="168" y="94"/>
                  <a:pt x="170" y="70"/>
                  <a:pt x="159" y="51"/>
                </a:cubicBezTo>
                <a:cubicBezTo>
                  <a:pt x="151" y="38"/>
                  <a:pt x="128" y="39"/>
                  <a:pt x="121" y="25"/>
                </a:cubicBezTo>
                <a:cubicBezTo>
                  <a:pt x="117" y="18"/>
                  <a:pt x="138" y="25"/>
                  <a:pt x="146" y="25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3"/>
          <p:cNvSpPr/>
          <p:nvPr/>
        </p:nvSpPr>
        <p:spPr>
          <a:xfrm>
            <a:off x="3276720" y="3352680"/>
            <a:ext cx="228600" cy="39708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44"/>
          <p:cNvSpPr/>
          <p:nvPr/>
        </p:nvSpPr>
        <p:spPr>
          <a:xfrm>
            <a:off x="3733920" y="5029200"/>
            <a:ext cx="380880" cy="3049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5"/>
          <p:cNvSpPr/>
          <p:nvPr/>
        </p:nvSpPr>
        <p:spPr>
          <a:xfrm>
            <a:off x="6858000" y="5334120"/>
            <a:ext cx="380880" cy="396720"/>
          </a:xfrm>
          <a:custGeom>
            <a:avLst/>
            <a:gdLst/>
            <a:ahLst/>
            <a:rect l="l" t="t" r="r" b="b"/>
            <a:pathLst>
              <a:path w="133" h="154">
                <a:moveTo>
                  <a:pt x="96" y="25"/>
                </a:moveTo>
                <a:cubicBezTo>
                  <a:pt x="40" y="6"/>
                  <a:pt x="20" y="0"/>
                  <a:pt x="0" y="61"/>
                </a:cubicBezTo>
                <a:cubicBezTo>
                  <a:pt x="16" y="141"/>
                  <a:pt x="14" y="154"/>
                  <a:pt x="96" y="133"/>
                </a:cubicBezTo>
                <a:cubicBezTo>
                  <a:pt x="104" y="109"/>
                  <a:pt x="112" y="85"/>
                  <a:pt x="120" y="61"/>
                </a:cubicBezTo>
                <a:cubicBezTo>
                  <a:pt x="133" y="22"/>
                  <a:pt x="55" y="25"/>
                  <a:pt x="96" y="25"/>
                </a:cubicBezTo>
                <a:close/>
              </a:path>
            </a:pathLst>
          </a:cu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46"/>
          <p:cNvSpPr/>
          <p:nvPr/>
        </p:nvSpPr>
        <p:spPr>
          <a:xfrm>
            <a:off x="5173560" y="6580080"/>
            <a:ext cx="1000080" cy="287280"/>
          </a:xfrm>
          <a:custGeom>
            <a:avLst/>
            <a:gdLst/>
            <a:ahLst/>
            <a:rect l="l" t="t" r="r" b="b"/>
            <a:pathLst>
              <a:path w="630" h="181">
                <a:moveTo>
                  <a:pt x="619" y="41"/>
                </a:moveTo>
                <a:cubicBezTo>
                  <a:pt x="486" y="59"/>
                  <a:pt x="503" y="67"/>
                  <a:pt x="351" y="53"/>
                </a:cubicBezTo>
                <a:cubicBezTo>
                  <a:pt x="282" y="32"/>
                  <a:pt x="218" y="14"/>
                  <a:pt x="146" y="2"/>
                </a:cubicBezTo>
                <a:cubicBezTo>
                  <a:pt x="103" y="6"/>
                  <a:pt x="58" y="0"/>
                  <a:pt x="18" y="15"/>
                </a:cubicBezTo>
                <a:cubicBezTo>
                  <a:pt x="0" y="22"/>
                  <a:pt x="1" y="92"/>
                  <a:pt x="18" y="117"/>
                </a:cubicBezTo>
                <a:cubicBezTo>
                  <a:pt x="26" y="128"/>
                  <a:pt x="121" y="141"/>
                  <a:pt x="133" y="143"/>
                </a:cubicBezTo>
                <a:cubicBezTo>
                  <a:pt x="239" y="116"/>
                  <a:pt x="360" y="161"/>
                  <a:pt x="466" y="181"/>
                </a:cubicBezTo>
                <a:cubicBezTo>
                  <a:pt x="492" y="175"/>
                  <a:pt x="538" y="171"/>
                  <a:pt x="555" y="143"/>
                </a:cubicBezTo>
                <a:cubicBezTo>
                  <a:pt x="630" y="23"/>
                  <a:pt x="534" y="97"/>
                  <a:pt x="619" y="41"/>
                </a:cubicBezTo>
                <a:close/>
              </a:path>
            </a:pathLst>
          </a:custGeom>
          <a:solidFill>
            <a:srgbClr val="ff66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47"/>
          <p:cNvSpPr/>
          <p:nvPr/>
        </p:nvSpPr>
        <p:spPr>
          <a:xfrm flipV="1">
            <a:off x="2743200" y="4037760"/>
            <a:ext cx="380880" cy="22860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48"/>
          <p:cNvSpPr/>
          <p:nvPr/>
        </p:nvSpPr>
        <p:spPr>
          <a:xfrm>
            <a:off x="1905120" y="4572000"/>
            <a:ext cx="304560" cy="31896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49"/>
          <p:cNvSpPr/>
          <p:nvPr/>
        </p:nvSpPr>
        <p:spPr>
          <a:xfrm>
            <a:off x="4114800" y="3505320"/>
            <a:ext cx="304920" cy="24264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0"/>
          <p:cNvSpPr/>
          <p:nvPr/>
        </p:nvSpPr>
        <p:spPr>
          <a:xfrm>
            <a:off x="4952880" y="4952880"/>
            <a:ext cx="533520" cy="5335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1"/>
          <p:cNvSpPr/>
          <p:nvPr/>
        </p:nvSpPr>
        <p:spPr>
          <a:xfrm>
            <a:off x="5410080" y="5867280"/>
            <a:ext cx="344520" cy="547920"/>
          </a:xfrm>
          <a:custGeom>
            <a:avLst/>
            <a:gdLst/>
            <a:ahLst/>
            <a:rect l="l" t="t" r="r" b="b"/>
            <a:pathLst>
              <a:path w="217" h="345">
                <a:moveTo>
                  <a:pt x="153" y="0"/>
                </a:moveTo>
                <a:cubicBezTo>
                  <a:pt x="124" y="10"/>
                  <a:pt x="99" y="15"/>
                  <a:pt x="76" y="38"/>
                </a:cubicBezTo>
                <a:cubicBezTo>
                  <a:pt x="36" y="78"/>
                  <a:pt x="31" y="144"/>
                  <a:pt x="0" y="192"/>
                </a:cubicBezTo>
                <a:cubicBezTo>
                  <a:pt x="15" y="274"/>
                  <a:pt x="14" y="317"/>
                  <a:pt x="102" y="345"/>
                </a:cubicBezTo>
                <a:cubicBezTo>
                  <a:pt x="192" y="328"/>
                  <a:pt x="178" y="322"/>
                  <a:pt x="217" y="243"/>
                </a:cubicBezTo>
                <a:cubicBezTo>
                  <a:pt x="213" y="209"/>
                  <a:pt x="216" y="173"/>
                  <a:pt x="204" y="141"/>
                </a:cubicBezTo>
                <a:cubicBezTo>
                  <a:pt x="194" y="112"/>
                  <a:pt x="153" y="64"/>
                  <a:pt x="153" y="64"/>
                </a:cubicBezTo>
                <a:cubicBezTo>
                  <a:pt x="149" y="51"/>
                  <a:pt x="150" y="35"/>
                  <a:pt x="140" y="25"/>
                </a:cubicBezTo>
                <a:cubicBezTo>
                  <a:pt x="115" y="0"/>
                  <a:pt x="50" y="26"/>
                  <a:pt x="153" y="0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2"/>
          <p:cNvSpPr/>
          <p:nvPr/>
        </p:nvSpPr>
        <p:spPr>
          <a:xfrm>
            <a:off x="4202280" y="5359320"/>
            <a:ext cx="674640" cy="371520"/>
          </a:xfrm>
          <a:custGeom>
            <a:avLst/>
            <a:gdLst/>
            <a:ahLst/>
            <a:rect l="l" t="t" r="r" b="b"/>
            <a:pathLst>
              <a:path w="425" h="234">
                <a:moveTo>
                  <a:pt x="399" y="3"/>
                </a:moveTo>
                <a:cubicBezTo>
                  <a:pt x="276" y="28"/>
                  <a:pt x="135" y="49"/>
                  <a:pt x="28" y="118"/>
                </a:cubicBezTo>
                <a:cubicBezTo>
                  <a:pt x="16" y="155"/>
                  <a:pt x="0" y="180"/>
                  <a:pt x="28" y="221"/>
                </a:cubicBezTo>
                <a:cubicBezTo>
                  <a:pt x="36" y="232"/>
                  <a:pt x="54" y="230"/>
                  <a:pt x="67" y="234"/>
                </a:cubicBezTo>
                <a:cubicBezTo>
                  <a:pt x="166" y="220"/>
                  <a:pt x="266" y="200"/>
                  <a:pt x="361" y="170"/>
                </a:cubicBezTo>
                <a:cubicBezTo>
                  <a:pt x="374" y="161"/>
                  <a:pt x="391" y="157"/>
                  <a:pt x="399" y="144"/>
                </a:cubicBezTo>
                <a:cubicBezTo>
                  <a:pt x="413" y="121"/>
                  <a:pt x="425" y="67"/>
                  <a:pt x="425" y="67"/>
                </a:cubicBezTo>
                <a:cubicBezTo>
                  <a:pt x="421" y="50"/>
                  <a:pt x="423" y="30"/>
                  <a:pt x="412" y="16"/>
                </a:cubicBezTo>
                <a:cubicBezTo>
                  <a:pt x="399" y="0"/>
                  <a:pt x="340" y="3"/>
                  <a:pt x="399" y="3"/>
                </a:cubicBez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53" descr="房子"/>
          <p:cNvPicPr/>
          <p:nvPr/>
        </p:nvPicPr>
        <p:blipFill>
          <a:blip r:embed="rId2"/>
          <a:stretch/>
        </p:blipFill>
        <p:spPr>
          <a:xfrm>
            <a:off x="3809880" y="1066680"/>
            <a:ext cx="6104160" cy="4937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4" descr="树"/>
          <p:cNvPicPr/>
          <p:nvPr/>
        </p:nvPicPr>
        <p:blipFill>
          <a:blip r:embed="rId3"/>
          <a:stretch/>
        </p:blipFill>
        <p:spPr>
          <a:xfrm>
            <a:off x="-838080" y="2895480"/>
            <a:ext cx="4876560" cy="3944880"/>
          </a:xfrm>
          <a:prstGeom prst="rect">
            <a:avLst/>
          </a:prstGeom>
          <a:ln w="0">
            <a:noFill/>
          </a:ln>
        </p:spPr>
      </p:pic>
      <p:sp>
        <p:nvSpPr>
          <p:cNvPr id="381" name="Freeform 55"/>
          <p:cNvSpPr/>
          <p:nvPr/>
        </p:nvSpPr>
        <p:spPr>
          <a:xfrm>
            <a:off x="3962520" y="3733920"/>
            <a:ext cx="253800" cy="304560"/>
          </a:xfrm>
          <a:custGeom>
            <a:avLst/>
            <a:gdLst/>
            <a:ahLst/>
            <a:rect l="l" t="t" r="r" b="b"/>
            <a:pathLst>
              <a:path w="160" h="192">
                <a:moveTo>
                  <a:pt x="121" y="0"/>
                </a:moveTo>
                <a:cubicBezTo>
                  <a:pt x="31" y="61"/>
                  <a:pt x="61" y="26"/>
                  <a:pt x="18" y="90"/>
                </a:cubicBezTo>
                <a:cubicBezTo>
                  <a:pt x="0" y="146"/>
                  <a:pt x="7" y="160"/>
                  <a:pt x="57" y="192"/>
                </a:cubicBezTo>
                <a:cubicBezTo>
                  <a:pt x="108" y="176"/>
                  <a:pt x="130" y="161"/>
                  <a:pt x="159" y="116"/>
                </a:cubicBezTo>
                <a:cubicBezTo>
                  <a:pt x="143" y="24"/>
                  <a:pt x="160" y="61"/>
                  <a:pt x="121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56"/>
          <p:cNvSpPr/>
          <p:nvPr/>
        </p:nvSpPr>
        <p:spPr>
          <a:xfrm>
            <a:off x="4419720" y="5334120"/>
            <a:ext cx="68724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57"/>
          <p:cNvSpPr/>
          <p:nvPr/>
        </p:nvSpPr>
        <p:spPr>
          <a:xfrm>
            <a:off x="2362320" y="4267080"/>
            <a:ext cx="60948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58"/>
          <p:cNvSpPr/>
          <p:nvPr/>
        </p:nvSpPr>
        <p:spPr>
          <a:xfrm>
            <a:off x="6934320" y="5638680"/>
            <a:ext cx="687240" cy="731880"/>
          </a:xfrm>
          <a:custGeom>
            <a:avLst/>
            <a:gdLst/>
            <a:ahLst/>
            <a:rect l="l" t="t" r="r" b="b"/>
            <a:pathLst>
              <a:path w="433" h="461">
                <a:moveTo>
                  <a:pt x="305" y="13"/>
                </a:moveTo>
                <a:cubicBezTo>
                  <a:pt x="292" y="9"/>
                  <a:pt x="280" y="0"/>
                  <a:pt x="266" y="0"/>
                </a:cubicBezTo>
                <a:cubicBezTo>
                  <a:pt x="171" y="0"/>
                  <a:pt x="218" y="89"/>
                  <a:pt x="177" y="141"/>
                </a:cubicBezTo>
                <a:cubicBezTo>
                  <a:pt x="151" y="174"/>
                  <a:pt x="61" y="192"/>
                  <a:pt x="61" y="192"/>
                </a:cubicBezTo>
                <a:cubicBezTo>
                  <a:pt x="3" y="280"/>
                  <a:pt x="0" y="240"/>
                  <a:pt x="23" y="307"/>
                </a:cubicBezTo>
                <a:cubicBezTo>
                  <a:pt x="49" y="303"/>
                  <a:pt x="75" y="302"/>
                  <a:pt x="100" y="294"/>
                </a:cubicBezTo>
                <a:cubicBezTo>
                  <a:pt x="146" y="279"/>
                  <a:pt x="152" y="228"/>
                  <a:pt x="177" y="192"/>
                </a:cubicBezTo>
                <a:cubicBezTo>
                  <a:pt x="190" y="196"/>
                  <a:pt x="211" y="192"/>
                  <a:pt x="215" y="205"/>
                </a:cubicBezTo>
                <a:cubicBezTo>
                  <a:pt x="233" y="269"/>
                  <a:pt x="182" y="317"/>
                  <a:pt x="138" y="345"/>
                </a:cubicBezTo>
                <a:cubicBezTo>
                  <a:pt x="108" y="437"/>
                  <a:pt x="98" y="399"/>
                  <a:pt x="138" y="461"/>
                </a:cubicBezTo>
                <a:cubicBezTo>
                  <a:pt x="151" y="457"/>
                  <a:pt x="166" y="457"/>
                  <a:pt x="177" y="448"/>
                </a:cubicBezTo>
                <a:cubicBezTo>
                  <a:pt x="189" y="438"/>
                  <a:pt x="192" y="421"/>
                  <a:pt x="202" y="409"/>
                </a:cubicBezTo>
                <a:cubicBezTo>
                  <a:pt x="288" y="306"/>
                  <a:pt x="201" y="432"/>
                  <a:pt x="266" y="333"/>
                </a:cubicBezTo>
                <a:cubicBezTo>
                  <a:pt x="270" y="299"/>
                  <a:pt x="265" y="262"/>
                  <a:pt x="279" y="230"/>
                </a:cubicBezTo>
                <a:cubicBezTo>
                  <a:pt x="284" y="218"/>
                  <a:pt x="305" y="211"/>
                  <a:pt x="317" y="217"/>
                </a:cubicBezTo>
                <a:cubicBezTo>
                  <a:pt x="329" y="223"/>
                  <a:pt x="326" y="243"/>
                  <a:pt x="330" y="256"/>
                </a:cubicBezTo>
                <a:cubicBezTo>
                  <a:pt x="326" y="282"/>
                  <a:pt x="325" y="308"/>
                  <a:pt x="317" y="333"/>
                </a:cubicBezTo>
                <a:cubicBezTo>
                  <a:pt x="290" y="415"/>
                  <a:pt x="280" y="322"/>
                  <a:pt x="305" y="422"/>
                </a:cubicBezTo>
                <a:cubicBezTo>
                  <a:pt x="371" y="411"/>
                  <a:pt x="381" y="428"/>
                  <a:pt x="407" y="371"/>
                </a:cubicBezTo>
                <a:cubicBezTo>
                  <a:pt x="418" y="346"/>
                  <a:pt x="433" y="294"/>
                  <a:pt x="433" y="294"/>
                </a:cubicBezTo>
                <a:cubicBezTo>
                  <a:pt x="422" y="218"/>
                  <a:pt x="430" y="178"/>
                  <a:pt x="356" y="153"/>
                </a:cubicBezTo>
                <a:cubicBezTo>
                  <a:pt x="347" y="140"/>
                  <a:pt x="334" y="130"/>
                  <a:pt x="330" y="115"/>
                </a:cubicBezTo>
                <a:cubicBezTo>
                  <a:pt x="321" y="86"/>
                  <a:pt x="333" y="51"/>
                  <a:pt x="317" y="25"/>
                </a:cubicBezTo>
                <a:cubicBezTo>
                  <a:pt x="308" y="10"/>
                  <a:pt x="283" y="17"/>
                  <a:pt x="266" y="13"/>
                </a:cubicBezTo>
                <a:cubicBezTo>
                  <a:pt x="216" y="25"/>
                  <a:pt x="189" y="32"/>
                  <a:pt x="189" y="89"/>
                </a:cubicBezTo>
                <a:lnTo>
                  <a:pt x="305" y="13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59"/>
          <p:cNvSpPr/>
          <p:nvPr/>
        </p:nvSpPr>
        <p:spPr>
          <a:xfrm>
            <a:off x="415800" y="3938760"/>
            <a:ext cx="64152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60"/>
          <p:cNvSpPr/>
          <p:nvPr/>
        </p:nvSpPr>
        <p:spPr>
          <a:xfrm>
            <a:off x="3505320" y="3352680"/>
            <a:ext cx="457200" cy="6098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61"/>
          <p:cNvSpPr/>
          <p:nvPr/>
        </p:nvSpPr>
        <p:spPr>
          <a:xfrm>
            <a:off x="5791320" y="5486400"/>
            <a:ext cx="538200" cy="512640"/>
          </a:xfrm>
          <a:custGeom>
            <a:avLst/>
            <a:gdLst/>
            <a:ahLst/>
            <a:rect l="l" t="t" r="r" b="b"/>
            <a:pathLst>
              <a:path w="339" h="323">
                <a:moveTo>
                  <a:pt x="262" y="38"/>
                </a:moveTo>
                <a:cubicBezTo>
                  <a:pt x="173" y="8"/>
                  <a:pt x="212" y="20"/>
                  <a:pt x="147" y="0"/>
                </a:cubicBezTo>
                <a:cubicBezTo>
                  <a:pt x="96" y="77"/>
                  <a:pt x="112" y="124"/>
                  <a:pt x="32" y="179"/>
                </a:cubicBezTo>
                <a:cubicBezTo>
                  <a:pt x="0" y="272"/>
                  <a:pt x="71" y="294"/>
                  <a:pt x="147" y="320"/>
                </a:cubicBezTo>
                <a:cubicBezTo>
                  <a:pt x="177" y="316"/>
                  <a:pt x="211" y="323"/>
                  <a:pt x="237" y="307"/>
                </a:cubicBezTo>
                <a:cubicBezTo>
                  <a:pt x="294" y="271"/>
                  <a:pt x="322" y="129"/>
                  <a:pt x="339" y="64"/>
                </a:cubicBezTo>
                <a:cubicBezTo>
                  <a:pt x="319" y="4"/>
                  <a:pt x="339" y="22"/>
                  <a:pt x="262" y="38"/>
                </a:cubicBezTo>
                <a:close/>
              </a:path>
            </a:pathLst>
          </a:custGeom>
          <a:solidFill>
            <a:srgbClr val="ff00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62"/>
          <p:cNvSpPr/>
          <p:nvPr/>
        </p:nvSpPr>
        <p:spPr>
          <a:xfrm>
            <a:off x="5761080" y="5832360"/>
            <a:ext cx="355680" cy="295560"/>
          </a:xfrm>
          <a:custGeom>
            <a:avLst/>
            <a:gdLst/>
            <a:ahLst/>
            <a:rect l="l" t="t" r="r" b="b"/>
            <a:pathLst>
              <a:path w="224" h="186">
                <a:moveTo>
                  <a:pt x="224" y="89"/>
                </a:moveTo>
                <a:cubicBezTo>
                  <a:pt x="182" y="62"/>
                  <a:pt x="151" y="28"/>
                  <a:pt x="109" y="0"/>
                </a:cubicBezTo>
                <a:cubicBezTo>
                  <a:pt x="50" y="18"/>
                  <a:pt x="42" y="11"/>
                  <a:pt x="6" y="64"/>
                </a:cubicBezTo>
                <a:cubicBezTo>
                  <a:pt x="31" y="137"/>
                  <a:pt x="0" y="71"/>
                  <a:pt x="57" y="128"/>
                </a:cubicBezTo>
                <a:cubicBezTo>
                  <a:pt x="115" y="186"/>
                  <a:pt x="43" y="156"/>
                  <a:pt x="134" y="179"/>
                </a:cubicBezTo>
                <a:cubicBezTo>
                  <a:pt x="224" y="149"/>
                  <a:pt x="202" y="179"/>
                  <a:pt x="224" y="115"/>
                </a:cubicBezTo>
                <a:cubicBezTo>
                  <a:pt x="193" y="68"/>
                  <a:pt x="184" y="69"/>
                  <a:pt x="224" y="89"/>
                </a:cubicBezTo>
                <a:close/>
              </a:path>
            </a:pathLst>
          </a:custGeom>
          <a:solidFill>
            <a:srgbClr val="80808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63"/>
          <p:cNvSpPr/>
          <p:nvPr/>
        </p:nvSpPr>
        <p:spPr>
          <a:xfrm>
            <a:off x="5867280" y="5562720"/>
            <a:ext cx="3049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08" y="40"/>
                  <a:pt x="24" y="80"/>
                  <a:pt x="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64"/>
          <p:cNvSpPr/>
          <p:nvPr/>
        </p:nvSpPr>
        <p:spPr>
          <a:xfrm>
            <a:off x="6175440" y="5546880"/>
            <a:ext cx="82440" cy="304560"/>
          </a:xfrm>
          <a:custGeom>
            <a:avLst/>
            <a:gdLst/>
            <a:ahLst/>
            <a:rect l="l" t="t" r="r" b="b"/>
            <a:pathLst>
              <a:path w="52" h="192">
                <a:moveTo>
                  <a:pt x="1" y="0"/>
                </a:moveTo>
                <a:cubicBezTo>
                  <a:pt x="5" y="56"/>
                  <a:pt x="0" y="113"/>
                  <a:pt x="14" y="167"/>
                </a:cubicBezTo>
                <a:cubicBezTo>
                  <a:pt x="18" y="182"/>
                  <a:pt x="52" y="192"/>
                  <a:pt x="52" y="1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65"/>
          <p:cNvSpPr/>
          <p:nvPr/>
        </p:nvSpPr>
        <p:spPr>
          <a:xfrm>
            <a:off x="3809880" y="4952880"/>
            <a:ext cx="228600" cy="355680"/>
          </a:xfrm>
          <a:custGeom>
            <a:avLst/>
            <a:gdLst/>
            <a:ahLst/>
            <a:rect l="l" t="t" r="r" b="b"/>
            <a:pathLst>
              <a:path w="144" h="224">
                <a:moveTo>
                  <a:pt x="48" y="0"/>
                </a:moveTo>
                <a:cubicBezTo>
                  <a:pt x="96" y="80"/>
                  <a:pt x="144" y="160"/>
                  <a:pt x="144" y="192"/>
                </a:cubicBezTo>
                <a:cubicBezTo>
                  <a:pt x="144" y="224"/>
                  <a:pt x="72" y="208"/>
                  <a:pt x="48" y="192"/>
                </a:cubicBezTo>
                <a:cubicBezTo>
                  <a:pt x="24" y="176"/>
                  <a:pt x="12" y="136"/>
                  <a:pt x="0" y="9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Freeform 66"/>
          <p:cNvSpPr/>
          <p:nvPr/>
        </p:nvSpPr>
        <p:spPr>
          <a:xfrm>
            <a:off x="3429000" y="5257800"/>
            <a:ext cx="1397160" cy="1479600"/>
          </a:xfrm>
          <a:custGeom>
            <a:avLst/>
            <a:gdLst/>
            <a:ahLst/>
            <a:rect l="l" t="t" r="r" b="b"/>
            <a:pathLst>
              <a:path w="880" h="932">
                <a:moveTo>
                  <a:pt x="0" y="665"/>
                </a:moveTo>
                <a:cubicBezTo>
                  <a:pt x="15" y="551"/>
                  <a:pt x="13" y="511"/>
                  <a:pt x="128" y="473"/>
                </a:cubicBezTo>
                <a:cubicBezTo>
                  <a:pt x="186" y="493"/>
                  <a:pt x="206" y="513"/>
                  <a:pt x="243" y="563"/>
                </a:cubicBezTo>
                <a:cubicBezTo>
                  <a:pt x="265" y="627"/>
                  <a:pt x="273" y="691"/>
                  <a:pt x="294" y="755"/>
                </a:cubicBezTo>
                <a:cubicBezTo>
                  <a:pt x="290" y="768"/>
                  <a:pt x="294" y="789"/>
                  <a:pt x="281" y="793"/>
                </a:cubicBezTo>
                <a:cubicBezTo>
                  <a:pt x="204" y="815"/>
                  <a:pt x="184" y="756"/>
                  <a:pt x="166" y="704"/>
                </a:cubicBezTo>
                <a:cubicBezTo>
                  <a:pt x="186" y="644"/>
                  <a:pt x="199" y="658"/>
                  <a:pt x="256" y="640"/>
                </a:cubicBezTo>
                <a:cubicBezTo>
                  <a:pt x="325" y="651"/>
                  <a:pt x="392" y="666"/>
                  <a:pt x="461" y="678"/>
                </a:cubicBezTo>
                <a:cubicBezTo>
                  <a:pt x="474" y="691"/>
                  <a:pt x="491" y="700"/>
                  <a:pt x="499" y="716"/>
                </a:cubicBezTo>
                <a:cubicBezTo>
                  <a:pt x="521" y="761"/>
                  <a:pt x="550" y="857"/>
                  <a:pt x="550" y="857"/>
                </a:cubicBezTo>
                <a:cubicBezTo>
                  <a:pt x="518" y="922"/>
                  <a:pt x="518" y="932"/>
                  <a:pt x="448" y="908"/>
                </a:cubicBezTo>
                <a:cubicBezTo>
                  <a:pt x="459" y="636"/>
                  <a:pt x="389" y="581"/>
                  <a:pt x="576" y="486"/>
                </a:cubicBezTo>
                <a:cubicBezTo>
                  <a:pt x="579" y="497"/>
                  <a:pt x="608" y="577"/>
                  <a:pt x="576" y="588"/>
                </a:cubicBezTo>
                <a:cubicBezTo>
                  <a:pt x="561" y="593"/>
                  <a:pt x="559" y="563"/>
                  <a:pt x="550" y="550"/>
                </a:cubicBezTo>
                <a:cubicBezTo>
                  <a:pt x="607" y="245"/>
                  <a:pt x="566" y="176"/>
                  <a:pt x="742" y="0"/>
                </a:cubicBezTo>
                <a:cubicBezTo>
                  <a:pt x="709" y="96"/>
                  <a:pt x="772" y="180"/>
                  <a:pt x="678" y="243"/>
                </a:cubicBezTo>
                <a:cubicBezTo>
                  <a:pt x="670" y="217"/>
                  <a:pt x="674" y="183"/>
                  <a:pt x="653" y="166"/>
                </a:cubicBezTo>
                <a:cubicBezTo>
                  <a:pt x="625" y="144"/>
                  <a:pt x="582" y="156"/>
                  <a:pt x="550" y="140"/>
                </a:cubicBezTo>
                <a:cubicBezTo>
                  <a:pt x="512" y="121"/>
                  <a:pt x="482" y="89"/>
                  <a:pt x="448" y="64"/>
                </a:cubicBezTo>
                <a:cubicBezTo>
                  <a:pt x="456" y="51"/>
                  <a:pt x="459" y="20"/>
                  <a:pt x="473" y="25"/>
                </a:cubicBezTo>
                <a:cubicBezTo>
                  <a:pt x="507" y="38"/>
                  <a:pt x="528" y="73"/>
                  <a:pt x="550" y="102"/>
                </a:cubicBezTo>
                <a:cubicBezTo>
                  <a:pt x="558" y="113"/>
                  <a:pt x="552" y="132"/>
                  <a:pt x="563" y="140"/>
                </a:cubicBezTo>
                <a:cubicBezTo>
                  <a:pt x="707" y="246"/>
                  <a:pt x="880" y="285"/>
                  <a:pt x="576" y="192"/>
                </a:cubicBezTo>
                <a:cubicBezTo>
                  <a:pt x="465" y="196"/>
                  <a:pt x="354" y="195"/>
                  <a:pt x="243" y="204"/>
                </a:cubicBezTo>
                <a:cubicBezTo>
                  <a:pt x="230" y="205"/>
                  <a:pt x="273" y="207"/>
                  <a:pt x="281" y="217"/>
                </a:cubicBezTo>
                <a:cubicBezTo>
                  <a:pt x="361" y="317"/>
                  <a:pt x="160" y="234"/>
                  <a:pt x="397" y="294"/>
                </a:cubicBezTo>
                <a:cubicBezTo>
                  <a:pt x="346" y="307"/>
                  <a:pt x="294" y="319"/>
                  <a:pt x="243" y="332"/>
                </a:cubicBezTo>
                <a:cubicBezTo>
                  <a:pt x="230" y="335"/>
                  <a:pt x="244" y="365"/>
                  <a:pt x="256" y="371"/>
                </a:cubicBezTo>
                <a:cubicBezTo>
                  <a:pt x="296" y="389"/>
                  <a:pt x="341" y="390"/>
                  <a:pt x="384" y="396"/>
                </a:cubicBezTo>
                <a:cubicBezTo>
                  <a:pt x="435" y="403"/>
                  <a:pt x="588" y="409"/>
                  <a:pt x="537" y="409"/>
                </a:cubicBezTo>
                <a:cubicBezTo>
                  <a:pt x="396" y="409"/>
                  <a:pt x="256" y="400"/>
                  <a:pt x="115" y="396"/>
                </a:cubicBezTo>
                <a:cubicBezTo>
                  <a:pt x="9" y="383"/>
                  <a:pt x="47" y="384"/>
                  <a:pt x="0" y="38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67"/>
          <p:cNvSpPr/>
          <p:nvPr/>
        </p:nvSpPr>
        <p:spPr>
          <a:xfrm>
            <a:off x="4648320" y="6172200"/>
            <a:ext cx="533160" cy="304920"/>
          </a:xfrm>
          <a:prstGeom prst="flowChartOnlineStorage">
            <a:avLst/>
          </a:prstGeom>
          <a:solidFill>
            <a:srgbClr val="00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68"/>
          <p:cNvSpPr/>
          <p:nvPr/>
        </p:nvSpPr>
        <p:spPr>
          <a:xfrm>
            <a:off x="5105520" y="6172200"/>
            <a:ext cx="228600" cy="304920"/>
          </a:xfrm>
          <a:prstGeom prst="flowChartDelay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69"/>
          <p:cNvSpPr/>
          <p:nvPr/>
        </p:nvSpPr>
        <p:spPr>
          <a:xfrm>
            <a:off x="4724280" y="6172200"/>
            <a:ext cx="276480" cy="306360"/>
          </a:xfrm>
          <a:custGeom>
            <a:avLst/>
            <a:gdLst/>
            <a:ahLst/>
            <a:rect l="l" t="t" r="r" b="b"/>
            <a:pathLst>
              <a:path w="174" h="193">
                <a:moveTo>
                  <a:pt x="149" y="0"/>
                </a:moveTo>
                <a:cubicBezTo>
                  <a:pt x="125" y="72"/>
                  <a:pt x="94" y="97"/>
                  <a:pt x="21" y="116"/>
                </a:cubicBezTo>
                <a:cubicBezTo>
                  <a:pt x="17" y="129"/>
                  <a:pt x="0" y="143"/>
                  <a:pt x="8" y="154"/>
                </a:cubicBezTo>
                <a:cubicBezTo>
                  <a:pt x="18" y="168"/>
                  <a:pt x="42" y="162"/>
                  <a:pt x="59" y="167"/>
                </a:cubicBezTo>
                <a:cubicBezTo>
                  <a:pt x="85" y="175"/>
                  <a:pt x="136" y="192"/>
                  <a:pt x="136" y="192"/>
                </a:cubicBezTo>
                <a:cubicBezTo>
                  <a:pt x="149" y="188"/>
                  <a:pt x="174" y="193"/>
                  <a:pt x="174" y="180"/>
                </a:cubicBezTo>
                <a:cubicBezTo>
                  <a:pt x="174" y="165"/>
                  <a:pt x="141" y="169"/>
                  <a:pt x="136" y="154"/>
                </a:cubicBezTo>
                <a:cubicBezTo>
                  <a:pt x="127" y="128"/>
                  <a:pt x="162" y="83"/>
                  <a:pt x="174" y="64"/>
                </a:cubicBezTo>
                <a:cubicBezTo>
                  <a:pt x="159" y="17"/>
                  <a:pt x="168" y="38"/>
                  <a:pt x="149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70"/>
          <p:cNvSpPr/>
          <p:nvPr/>
        </p:nvSpPr>
        <p:spPr>
          <a:xfrm>
            <a:off x="5765760" y="5749920"/>
            <a:ext cx="2548080" cy="1057320"/>
          </a:xfrm>
          <a:custGeom>
            <a:avLst/>
            <a:gdLst/>
            <a:ahLst/>
            <a:rect l="l" t="t" r="r" b="b"/>
            <a:pathLst>
              <a:path w="1605" h="666">
                <a:moveTo>
                  <a:pt x="438" y="346"/>
                </a:moveTo>
                <a:cubicBezTo>
                  <a:pt x="431" y="408"/>
                  <a:pt x="442" y="445"/>
                  <a:pt x="400" y="487"/>
                </a:cubicBezTo>
                <a:cubicBezTo>
                  <a:pt x="370" y="517"/>
                  <a:pt x="285" y="538"/>
                  <a:pt x="285" y="538"/>
                </a:cubicBezTo>
                <a:cubicBezTo>
                  <a:pt x="266" y="483"/>
                  <a:pt x="254" y="487"/>
                  <a:pt x="349" y="487"/>
                </a:cubicBezTo>
                <a:cubicBezTo>
                  <a:pt x="468" y="487"/>
                  <a:pt x="588" y="496"/>
                  <a:pt x="707" y="500"/>
                </a:cubicBezTo>
                <a:cubicBezTo>
                  <a:pt x="656" y="551"/>
                  <a:pt x="654" y="568"/>
                  <a:pt x="592" y="525"/>
                </a:cubicBezTo>
                <a:cubicBezTo>
                  <a:pt x="579" y="446"/>
                  <a:pt x="544" y="327"/>
                  <a:pt x="579" y="244"/>
                </a:cubicBezTo>
                <a:cubicBezTo>
                  <a:pt x="586" y="226"/>
                  <a:pt x="613" y="227"/>
                  <a:pt x="630" y="218"/>
                </a:cubicBezTo>
                <a:cubicBezTo>
                  <a:pt x="664" y="222"/>
                  <a:pt x="701" y="217"/>
                  <a:pt x="733" y="231"/>
                </a:cubicBezTo>
                <a:cubicBezTo>
                  <a:pt x="745" y="236"/>
                  <a:pt x="752" y="257"/>
                  <a:pt x="746" y="269"/>
                </a:cubicBezTo>
                <a:cubicBezTo>
                  <a:pt x="736" y="288"/>
                  <a:pt x="711" y="295"/>
                  <a:pt x="694" y="308"/>
                </a:cubicBezTo>
                <a:cubicBezTo>
                  <a:pt x="570" y="299"/>
                  <a:pt x="445" y="305"/>
                  <a:pt x="323" y="282"/>
                </a:cubicBezTo>
                <a:cubicBezTo>
                  <a:pt x="308" y="279"/>
                  <a:pt x="339" y="256"/>
                  <a:pt x="349" y="244"/>
                </a:cubicBezTo>
                <a:cubicBezTo>
                  <a:pt x="388" y="198"/>
                  <a:pt x="420" y="182"/>
                  <a:pt x="477" y="167"/>
                </a:cubicBezTo>
                <a:cubicBezTo>
                  <a:pt x="503" y="171"/>
                  <a:pt x="536" y="162"/>
                  <a:pt x="554" y="180"/>
                </a:cubicBezTo>
                <a:cubicBezTo>
                  <a:pt x="566" y="192"/>
                  <a:pt x="557" y="223"/>
                  <a:pt x="541" y="231"/>
                </a:cubicBezTo>
                <a:cubicBezTo>
                  <a:pt x="506" y="248"/>
                  <a:pt x="464" y="240"/>
                  <a:pt x="426" y="244"/>
                </a:cubicBezTo>
                <a:cubicBezTo>
                  <a:pt x="388" y="131"/>
                  <a:pt x="380" y="55"/>
                  <a:pt x="490" y="0"/>
                </a:cubicBezTo>
                <a:cubicBezTo>
                  <a:pt x="508" y="138"/>
                  <a:pt x="509" y="277"/>
                  <a:pt x="464" y="410"/>
                </a:cubicBezTo>
                <a:cubicBezTo>
                  <a:pt x="475" y="214"/>
                  <a:pt x="424" y="147"/>
                  <a:pt x="592" y="90"/>
                </a:cubicBezTo>
                <a:cubicBezTo>
                  <a:pt x="583" y="234"/>
                  <a:pt x="572" y="372"/>
                  <a:pt x="541" y="512"/>
                </a:cubicBezTo>
                <a:cubicBezTo>
                  <a:pt x="534" y="544"/>
                  <a:pt x="517" y="611"/>
                  <a:pt x="477" y="628"/>
                </a:cubicBezTo>
                <a:cubicBezTo>
                  <a:pt x="450" y="639"/>
                  <a:pt x="326" y="659"/>
                  <a:pt x="285" y="666"/>
                </a:cubicBezTo>
                <a:cubicBezTo>
                  <a:pt x="271" y="611"/>
                  <a:pt x="229" y="563"/>
                  <a:pt x="310" y="538"/>
                </a:cubicBezTo>
                <a:cubicBezTo>
                  <a:pt x="360" y="522"/>
                  <a:pt x="464" y="512"/>
                  <a:pt x="464" y="512"/>
                </a:cubicBezTo>
                <a:cubicBezTo>
                  <a:pt x="592" y="516"/>
                  <a:pt x="720" y="518"/>
                  <a:pt x="848" y="525"/>
                </a:cubicBezTo>
                <a:cubicBezTo>
                  <a:pt x="874" y="526"/>
                  <a:pt x="951" y="540"/>
                  <a:pt x="925" y="538"/>
                </a:cubicBezTo>
                <a:cubicBezTo>
                  <a:pt x="635" y="514"/>
                  <a:pt x="345" y="495"/>
                  <a:pt x="54" y="474"/>
                </a:cubicBezTo>
                <a:cubicBezTo>
                  <a:pt x="41" y="461"/>
                  <a:pt x="0" y="444"/>
                  <a:pt x="16" y="436"/>
                </a:cubicBezTo>
                <a:cubicBezTo>
                  <a:pt x="93" y="398"/>
                  <a:pt x="302" y="390"/>
                  <a:pt x="387" y="384"/>
                </a:cubicBezTo>
                <a:cubicBezTo>
                  <a:pt x="549" y="394"/>
                  <a:pt x="620" y="347"/>
                  <a:pt x="656" y="487"/>
                </a:cubicBezTo>
                <a:cubicBezTo>
                  <a:pt x="506" y="527"/>
                  <a:pt x="407" y="569"/>
                  <a:pt x="234" y="512"/>
                </a:cubicBezTo>
                <a:cubicBezTo>
                  <a:pt x="205" y="502"/>
                  <a:pt x="217" y="453"/>
                  <a:pt x="208" y="423"/>
                </a:cubicBezTo>
                <a:cubicBezTo>
                  <a:pt x="212" y="389"/>
                  <a:pt x="219" y="279"/>
                  <a:pt x="246" y="244"/>
                </a:cubicBezTo>
                <a:cubicBezTo>
                  <a:pt x="256" y="230"/>
                  <a:pt x="317" y="212"/>
                  <a:pt x="336" y="205"/>
                </a:cubicBezTo>
                <a:cubicBezTo>
                  <a:pt x="366" y="231"/>
                  <a:pt x="394" y="259"/>
                  <a:pt x="426" y="282"/>
                </a:cubicBezTo>
                <a:cubicBezTo>
                  <a:pt x="571" y="385"/>
                  <a:pt x="537" y="307"/>
                  <a:pt x="566" y="397"/>
                </a:cubicBezTo>
                <a:cubicBezTo>
                  <a:pt x="541" y="431"/>
                  <a:pt x="520" y="470"/>
                  <a:pt x="490" y="500"/>
                </a:cubicBezTo>
                <a:cubicBezTo>
                  <a:pt x="458" y="532"/>
                  <a:pt x="382" y="490"/>
                  <a:pt x="362" y="487"/>
                </a:cubicBezTo>
                <a:cubicBezTo>
                  <a:pt x="294" y="475"/>
                  <a:pt x="225" y="470"/>
                  <a:pt x="157" y="461"/>
                </a:cubicBezTo>
                <a:cubicBezTo>
                  <a:pt x="406" y="364"/>
                  <a:pt x="699" y="442"/>
                  <a:pt x="963" y="461"/>
                </a:cubicBezTo>
                <a:cubicBezTo>
                  <a:pt x="977" y="503"/>
                  <a:pt x="992" y="508"/>
                  <a:pt x="938" y="538"/>
                </a:cubicBezTo>
                <a:cubicBezTo>
                  <a:pt x="923" y="546"/>
                  <a:pt x="781" y="593"/>
                  <a:pt x="912" y="538"/>
                </a:cubicBezTo>
                <a:cubicBezTo>
                  <a:pt x="945" y="524"/>
                  <a:pt x="978" y="507"/>
                  <a:pt x="1014" y="500"/>
                </a:cubicBezTo>
                <a:cubicBezTo>
                  <a:pt x="1065" y="490"/>
                  <a:pt x="1117" y="491"/>
                  <a:pt x="1168" y="487"/>
                </a:cubicBezTo>
                <a:cubicBezTo>
                  <a:pt x="1305" y="491"/>
                  <a:pt x="1442" y="484"/>
                  <a:pt x="1578" y="500"/>
                </a:cubicBezTo>
                <a:cubicBezTo>
                  <a:pt x="1605" y="503"/>
                  <a:pt x="1523" y="510"/>
                  <a:pt x="1501" y="525"/>
                </a:cubicBezTo>
                <a:cubicBezTo>
                  <a:pt x="1471" y="545"/>
                  <a:pt x="1455" y="584"/>
                  <a:pt x="1424" y="602"/>
                </a:cubicBezTo>
                <a:cubicBezTo>
                  <a:pt x="1364" y="637"/>
                  <a:pt x="1287" y="627"/>
                  <a:pt x="1219" y="640"/>
                </a:cubicBezTo>
                <a:cubicBezTo>
                  <a:pt x="1212" y="639"/>
                  <a:pt x="985" y="639"/>
                  <a:pt x="1155" y="525"/>
                </a:cubicBezTo>
                <a:cubicBezTo>
                  <a:pt x="1214" y="486"/>
                  <a:pt x="1360" y="474"/>
                  <a:pt x="1360" y="474"/>
                </a:cubicBezTo>
                <a:cubicBezTo>
                  <a:pt x="1394" y="448"/>
                  <a:pt x="1425" y="418"/>
                  <a:pt x="1462" y="397"/>
                </a:cubicBezTo>
                <a:cubicBezTo>
                  <a:pt x="1485" y="384"/>
                  <a:pt x="1526" y="348"/>
                  <a:pt x="1539" y="372"/>
                </a:cubicBezTo>
                <a:cubicBezTo>
                  <a:pt x="1562" y="413"/>
                  <a:pt x="1533" y="466"/>
                  <a:pt x="1526" y="512"/>
                </a:cubicBezTo>
                <a:cubicBezTo>
                  <a:pt x="1514" y="590"/>
                  <a:pt x="1510" y="641"/>
                  <a:pt x="1437" y="666"/>
                </a:cubicBezTo>
                <a:cubicBezTo>
                  <a:pt x="1433" y="615"/>
                  <a:pt x="1430" y="563"/>
                  <a:pt x="1424" y="512"/>
                </a:cubicBezTo>
                <a:cubicBezTo>
                  <a:pt x="1421" y="486"/>
                  <a:pt x="1407" y="461"/>
                  <a:pt x="1411" y="436"/>
                </a:cubicBezTo>
                <a:cubicBezTo>
                  <a:pt x="1420" y="383"/>
                  <a:pt x="1445" y="333"/>
                  <a:pt x="1462" y="282"/>
                </a:cubicBezTo>
                <a:cubicBezTo>
                  <a:pt x="1468" y="264"/>
                  <a:pt x="1476" y="246"/>
                  <a:pt x="1488" y="231"/>
                </a:cubicBezTo>
                <a:cubicBezTo>
                  <a:pt x="1498" y="219"/>
                  <a:pt x="1526" y="205"/>
                  <a:pt x="1526" y="20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71"/>
          <p:cNvSpPr/>
          <p:nvPr/>
        </p:nvSpPr>
        <p:spPr>
          <a:xfrm>
            <a:off x="0" y="4724280"/>
            <a:ext cx="546120" cy="520920"/>
          </a:xfrm>
          <a:custGeom>
            <a:avLst/>
            <a:gdLst/>
            <a:ahLst/>
            <a:rect l="l" t="t" r="r" b="b"/>
            <a:pathLst>
              <a:path w="344" h="328">
                <a:moveTo>
                  <a:pt x="288" y="0"/>
                </a:moveTo>
                <a:cubicBezTo>
                  <a:pt x="316" y="124"/>
                  <a:pt x="344" y="248"/>
                  <a:pt x="336" y="288"/>
                </a:cubicBezTo>
                <a:cubicBezTo>
                  <a:pt x="328" y="328"/>
                  <a:pt x="272" y="272"/>
                  <a:pt x="240" y="240"/>
                </a:cubicBezTo>
                <a:cubicBezTo>
                  <a:pt x="208" y="208"/>
                  <a:pt x="144" y="120"/>
                  <a:pt x="144" y="96"/>
                </a:cubicBezTo>
                <a:cubicBezTo>
                  <a:pt x="144" y="72"/>
                  <a:pt x="264" y="64"/>
                  <a:pt x="240" y="96"/>
                </a:cubicBezTo>
                <a:cubicBezTo>
                  <a:pt x="216" y="128"/>
                  <a:pt x="40" y="264"/>
                  <a:pt x="0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72"/>
          <p:cNvSpPr/>
          <p:nvPr/>
        </p:nvSpPr>
        <p:spPr>
          <a:xfrm>
            <a:off x="990720" y="5943600"/>
            <a:ext cx="393480" cy="571680"/>
          </a:xfrm>
          <a:custGeom>
            <a:avLst/>
            <a:gdLst/>
            <a:ahLst/>
            <a:rect l="l" t="t" r="r" b="b"/>
            <a:pathLst>
              <a:path w="248" h="360">
                <a:moveTo>
                  <a:pt x="0" y="219"/>
                </a:moveTo>
                <a:cubicBezTo>
                  <a:pt x="59" y="239"/>
                  <a:pt x="248" y="231"/>
                  <a:pt x="179" y="334"/>
                </a:cubicBezTo>
                <a:cubicBezTo>
                  <a:pt x="171" y="347"/>
                  <a:pt x="154" y="351"/>
                  <a:pt x="141" y="360"/>
                </a:cubicBezTo>
                <a:cubicBezTo>
                  <a:pt x="128" y="245"/>
                  <a:pt x="131" y="129"/>
                  <a:pt x="115" y="14"/>
                </a:cubicBezTo>
                <a:cubicBezTo>
                  <a:pt x="113" y="0"/>
                  <a:pt x="110" y="42"/>
                  <a:pt x="102" y="53"/>
                </a:cubicBezTo>
                <a:cubicBezTo>
                  <a:pt x="92" y="68"/>
                  <a:pt x="77" y="78"/>
                  <a:pt x="64" y="91"/>
                </a:cubicBezTo>
                <a:cubicBezTo>
                  <a:pt x="118" y="175"/>
                  <a:pt x="163" y="128"/>
                  <a:pt x="243" y="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73"/>
          <p:cNvSpPr/>
          <p:nvPr/>
        </p:nvSpPr>
        <p:spPr>
          <a:xfrm>
            <a:off x="2347920" y="6175440"/>
            <a:ext cx="944640" cy="511200"/>
          </a:xfrm>
          <a:custGeom>
            <a:avLst/>
            <a:gdLst/>
            <a:ahLst/>
            <a:rect l="l" t="t" r="r" b="b"/>
            <a:pathLst>
              <a:path w="595" h="322">
                <a:moveTo>
                  <a:pt x="31" y="1"/>
                </a:moveTo>
                <a:cubicBezTo>
                  <a:pt x="170" y="76"/>
                  <a:pt x="328" y="144"/>
                  <a:pt x="441" y="257"/>
                </a:cubicBezTo>
                <a:cubicBezTo>
                  <a:pt x="378" y="322"/>
                  <a:pt x="360" y="310"/>
                  <a:pt x="262" y="296"/>
                </a:cubicBezTo>
                <a:cubicBezTo>
                  <a:pt x="181" y="284"/>
                  <a:pt x="19" y="257"/>
                  <a:pt x="19" y="257"/>
                </a:cubicBezTo>
                <a:cubicBezTo>
                  <a:pt x="15" y="244"/>
                  <a:pt x="0" y="231"/>
                  <a:pt x="6" y="219"/>
                </a:cubicBezTo>
                <a:cubicBezTo>
                  <a:pt x="12" y="207"/>
                  <a:pt x="31" y="208"/>
                  <a:pt x="44" y="206"/>
                </a:cubicBezTo>
                <a:cubicBezTo>
                  <a:pt x="86" y="199"/>
                  <a:pt x="129" y="196"/>
                  <a:pt x="172" y="193"/>
                </a:cubicBezTo>
                <a:cubicBezTo>
                  <a:pt x="240" y="188"/>
                  <a:pt x="309" y="184"/>
                  <a:pt x="377" y="180"/>
                </a:cubicBezTo>
                <a:cubicBezTo>
                  <a:pt x="393" y="133"/>
                  <a:pt x="418" y="77"/>
                  <a:pt x="377" y="27"/>
                </a:cubicBezTo>
                <a:cubicBezTo>
                  <a:pt x="355" y="0"/>
                  <a:pt x="309" y="10"/>
                  <a:pt x="275" y="1"/>
                </a:cubicBezTo>
                <a:cubicBezTo>
                  <a:pt x="342" y="47"/>
                  <a:pt x="376" y="143"/>
                  <a:pt x="454" y="168"/>
                </a:cubicBezTo>
                <a:cubicBezTo>
                  <a:pt x="480" y="176"/>
                  <a:pt x="505" y="185"/>
                  <a:pt x="531" y="193"/>
                </a:cubicBezTo>
                <a:cubicBezTo>
                  <a:pt x="585" y="235"/>
                  <a:pt x="561" y="232"/>
                  <a:pt x="595" y="23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74"/>
          <p:cNvSpPr/>
          <p:nvPr/>
        </p:nvSpPr>
        <p:spPr>
          <a:xfrm>
            <a:off x="7543800" y="4648320"/>
            <a:ext cx="64152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75"/>
          <p:cNvSpPr/>
          <p:nvPr/>
        </p:nvSpPr>
        <p:spPr>
          <a:xfrm>
            <a:off x="3124080" y="4800600"/>
            <a:ext cx="1576440" cy="895320"/>
          </a:xfrm>
          <a:custGeom>
            <a:avLst/>
            <a:gdLst/>
            <a:ahLst/>
            <a:rect l="l" t="t" r="r" b="b"/>
            <a:pathLst>
              <a:path w="993" h="564">
                <a:moveTo>
                  <a:pt x="416" y="474"/>
                </a:moveTo>
                <a:cubicBezTo>
                  <a:pt x="308" y="528"/>
                  <a:pt x="186" y="489"/>
                  <a:pt x="70" y="474"/>
                </a:cubicBezTo>
                <a:cubicBezTo>
                  <a:pt x="0" y="368"/>
                  <a:pt x="15" y="428"/>
                  <a:pt x="32" y="295"/>
                </a:cubicBezTo>
                <a:cubicBezTo>
                  <a:pt x="45" y="303"/>
                  <a:pt x="64" y="306"/>
                  <a:pt x="70" y="320"/>
                </a:cubicBezTo>
                <a:cubicBezTo>
                  <a:pt x="82" y="348"/>
                  <a:pt x="55" y="423"/>
                  <a:pt x="83" y="410"/>
                </a:cubicBezTo>
                <a:cubicBezTo>
                  <a:pt x="114" y="396"/>
                  <a:pt x="83" y="340"/>
                  <a:pt x="96" y="308"/>
                </a:cubicBezTo>
                <a:cubicBezTo>
                  <a:pt x="104" y="289"/>
                  <a:pt x="156" y="275"/>
                  <a:pt x="172" y="269"/>
                </a:cubicBezTo>
                <a:cubicBezTo>
                  <a:pt x="186" y="293"/>
                  <a:pt x="258" y="436"/>
                  <a:pt x="300" y="436"/>
                </a:cubicBezTo>
                <a:cubicBezTo>
                  <a:pt x="326" y="436"/>
                  <a:pt x="305" y="384"/>
                  <a:pt x="313" y="359"/>
                </a:cubicBezTo>
                <a:cubicBezTo>
                  <a:pt x="329" y="312"/>
                  <a:pt x="374" y="296"/>
                  <a:pt x="416" y="282"/>
                </a:cubicBezTo>
                <a:cubicBezTo>
                  <a:pt x="416" y="283"/>
                  <a:pt x="458" y="442"/>
                  <a:pt x="467" y="448"/>
                </a:cubicBezTo>
                <a:cubicBezTo>
                  <a:pt x="479" y="457"/>
                  <a:pt x="481" y="421"/>
                  <a:pt x="492" y="410"/>
                </a:cubicBezTo>
                <a:cubicBezTo>
                  <a:pt x="522" y="380"/>
                  <a:pt x="608" y="359"/>
                  <a:pt x="608" y="359"/>
                </a:cubicBezTo>
                <a:cubicBezTo>
                  <a:pt x="623" y="366"/>
                  <a:pt x="716" y="394"/>
                  <a:pt x="620" y="410"/>
                </a:cubicBezTo>
                <a:cubicBezTo>
                  <a:pt x="607" y="412"/>
                  <a:pt x="594" y="402"/>
                  <a:pt x="582" y="397"/>
                </a:cubicBezTo>
                <a:cubicBezTo>
                  <a:pt x="552" y="385"/>
                  <a:pt x="522" y="372"/>
                  <a:pt x="492" y="359"/>
                </a:cubicBezTo>
                <a:cubicBezTo>
                  <a:pt x="455" y="321"/>
                  <a:pt x="432" y="295"/>
                  <a:pt x="416" y="244"/>
                </a:cubicBezTo>
                <a:cubicBezTo>
                  <a:pt x="412" y="257"/>
                  <a:pt x="403" y="295"/>
                  <a:pt x="403" y="282"/>
                </a:cubicBezTo>
                <a:cubicBezTo>
                  <a:pt x="403" y="260"/>
                  <a:pt x="413" y="240"/>
                  <a:pt x="416" y="218"/>
                </a:cubicBezTo>
                <a:cubicBezTo>
                  <a:pt x="426" y="146"/>
                  <a:pt x="433" y="73"/>
                  <a:pt x="441" y="0"/>
                </a:cubicBezTo>
                <a:cubicBezTo>
                  <a:pt x="536" y="22"/>
                  <a:pt x="636" y="35"/>
                  <a:pt x="672" y="141"/>
                </a:cubicBezTo>
                <a:cubicBezTo>
                  <a:pt x="638" y="167"/>
                  <a:pt x="604" y="193"/>
                  <a:pt x="569" y="218"/>
                </a:cubicBezTo>
                <a:cubicBezTo>
                  <a:pt x="557" y="227"/>
                  <a:pt x="531" y="244"/>
                  <a:pt x="531" y="244"/>
                </a:cubicBezTo>
                <a:cubicBezTo>
                  <a:pt x="476" y="405"/>
                  <a:pt x="537" y="194"/>
                  <a:pt x="851" y="154"/>
                </a:cubicBezTo>
                <a:cubicBezTo>
                  <a:pt x="885" y="150"/>
                  <a:pt x="919" y="145"/>
                  <a:pt x="953" y="141"/>
                </a:cubicBezTo>
                <a:cubicBezTo>
                  <a:pt x="993" y="260"/>
                  <a:pt x="870" y="255"/>
                  <a:pt x="787" y="269"/>
                </a:cubicBezTo>
                <a:cubicBezTo>
                  <a:pt x="770" y="278"/>
                  <a:pt x="755" y="291"/>
                  <a:pt x="736" y="295"/>
                </a:cubicBezTo>
                <a:cubicBezTo>
                  <a:pt x="614" y="323"/>
                  <a:pt x="594" y="270"/>
                  <a:pt x="646" y="346"/>
                </a:cubicBezTo>
                <a:cubicBezTo>
                  <a:pt x="642" y="414"/>
                  <a:pt x="678" y="499"/>
                  <a:pt x="633" y="551"/>
                </a:cubicBezTo>
                <a:cubicBezTo>
                  <a:pt x="622" y="564"/>
                  <a:pt x="445" y="532"/>
                  <a:pt x="403" y="525"/>
                </a:cubicBezTo>
                <a:cubicBezTo>
                  <a:pt x="407" y="508"/>
                  <a:pt x="411" y="491"/>
                  <a:pt x="416" y="474"/>
                </a:cubicBezTo>
                <a:cubicBezTo>
                  <a:pt x="416" y="474"/>
                  <a:pt x="448" y="373"/>
                  <a:pt x="416" y="474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reeform 76"/>
          <p:cNvSpPr/>
          <p:nvPr/>
        </p:nvSpPr>
        <p:spPr>
          <a:xfrm>
            <a:off x="3556080" y="4937040"/>
            <a:ext cx="938160" cy="671760"/>
          </a:xfrm>
          <a:custGeom>
            <a:avLst/>
            <a:gdLst/>
            <a:ahLst/>
            <a:rect l="l" t="t" r="r" b="b"/>
            <a:pathLst>
              <a:path w="591" h="423">
                <a:moveTo>
                  <a:pt x="0" y="423"/>
                </a:moveTo>
                <a:cubicBezTo>
                  <a:pt x="11" y="379"/>
                  <a:pt x="18" y="269"/>
                  <a:pt x="64" y="231"/>
                </a:cubicBezTo>
                <a:cubicBezTo>
                  <a:pt x="91" y="209"/>
                  <a:pt x="125" y="199"/>
                  <a:pt x="154" y="180"/>
                </a:cubicBezTo>
                <a:cubicBezTo>
                  <a:pt x="179" y="184"/>
                  <a:pt x="208" y="179"/>
                  <a:pt x="230" y="192"/>
                </a:cubicBezTo>
                <a:cubicBezTo>
                  <a:pt x="256" y="207"/>
                  <a:pt x="237" y="289"/>
                  <a:pt x="230" y="295"/>
                </a:cubicBezTo>
                <a:cubicBezTo>
                  <a:pt x="211" y="312"/>
                  <a:pt x="179" y="304"/>
                  <a:pt x="154" y="308"/>
                </a:cubicBezTo>
                <a:cubicBezTo>
                  <a:pt x="110" y="293"/>
                  <a:pt x="56" y="290"/>
                  <a:pt x="141" y="205"/>
                </a:cubicBezTo>
                <a:cubicBezTo>
                  <a:pt x="159" y="187"/>
                  <a:pt x="192" y="197"/>
                  <a:pt x="218" y="192"/>
                </a:cubicBezTo>
                <a:cubicBezTo>
                  <a:pt x="235" y="189"/>
                  <a:pt x="252" y="184"/>
                  <a:pt x="269" y="180"/>
                </a:cubicBezTo>
                <a:cubicBezTo>
                  <a:pt x="282" y="171"/>
                  <a:pt x="309" y="169"/>
                  <a:pt x="307" y="154"/>
                </a:cubicBezTo>
                <a:cubicBezTo>
                  <a:pt x="304" y="128"/>
                  <a:pt x="254" y="63"/>
                  <a:pt x="218" y="52"/>
                </a:cubicBezTo>
                <a:cubicBezTo>
                  <a:pt x="189" y="43"/>
                  <a:pt x="99" y="30"/>
                  <a:pt x="128" y="39"/>
                </a:cubicBezTo>
                <a:cubicBezTo>
                  <a:pt x="229" y="69"/>
                  <a:pt x="333" y="90"/>
                  <a:pt x="435" y="116"/>
                </a:cubicBezTo>
                <a:cubicBezTo>
                  <a:pt x="444" y="129"/>
                  <a:pt x="461" y="139"/>
                  <a:pt x="461" y="154"/>
                </a:cubicBezTo>
                <a:cubicBezTo>
                  <a:pt x="461" y="210"/>
                  <a:pt x="433" y="219"/>
                  <a:pt x="397" y="244"/>
                </a:cubicBezTo>
                <a:cubicBezTo>
                  <a:pt x="434" y="134"/>
                  <a:pt x="367" y="299"/>
                  <a:pt x="486" y="180"/>
                </a:cubicBezTo>
                <a:cubicBezTo>
                  <a:pt x="505" y="161"/>
                  <a:pt x="498" y="126"/>
                  <a:pt x="512" y="103"/>
                </a:cubicBezTo>
                <a:cubicBezTo>
                  <a:pt x="543" y="54"/>
                  <a:pt x="576" y="105"/>
                  <a:pt x="589" y="26"/>
                </a:cubicBezTo>
                <a:cubicBezTo>
                  <a:pt x="591" y="14"/>
                  <a:pt x="572" y="9"/>
                  <a:pt x="563" y="0"/>
                </a:cubicBezTo>
                <a:lnTo>
                  <a:pt x="304" y="10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77"/>
          <p:cNvSpPr/>
          <p:nvPr/>
        </p:nvSpPr>
        <p:spPr>
          <a:xfrm>
            <a:off x="2819520" y="5562720"/>
            <a:ext cx="641160" cy="660240"/>
          </a:xfrm>
          <a:custGeom>
            <a:avLst/>
            <a:gdLst/>
            <a:ahLst/>
            <a:rect l="l" t="t" r="r" b="b"/>
            <a:pathLst>
              <a:path w="404" h="416">
                <a:moveTo>
                  <a:pt x="327" y="28"/>
                </a:moveTo>
                <a:cubicBezTo>
                  <a:pt x="242" y="0"/>
                  <a:pt x="252" y="22"/>
                  <a:pt x="224" y="105"/>
                </a:cubicBezTo>
                <a:cubicBezTo>
                  <a:pt x="220" y="118"/>
                  <a:pt x="199" y="114"/>
                  <a:pt x="186" y="117"/>
                </a:cubicBezTo>
                <a:cubicBezTo>
                  <a:pt x="161" y="123"/>
                  <a:pt x="135" y="126"/>
                  <a:pt x="109" y="130"/>
                </a:cubicBezTo>
                <a:cubicBezTo>
                  <a:pt x="99" y="133"/>
                  <a:pt x="32" y="153"/>
                  <a:pt x="32" y="169"/>
                </a:cubicBezTo>
                <a:cubicBezTo>
                  <a:pt x="32" y="184"/>
                  <a:pt x="58" y="186"/>
                  <a:pt x="71" y="194"/>
                </a:cubicBezTo>
                <a:cubicBezTo>
                  <a:pt x="120" y="177"/>
                  <a:pt x="168" y="158"/>
                  <a:pt x="224" y="169"/>
                </a:cubicBezTo>
                <a:cubicBezTo>
                  <a:pt x="237" y="172"/>
                  <a:pt x="233" y="194"/>
                  <a:pt x="237" y="207"/>
                </a:cubicBezTo>
                <a:cubicBezTo>
                  <a:pt x="233" y="220"/>
                  <a:pt x="235" y="237"/>
                  <a:pt x="224" y="245"/>
                </a:cubicBezTo>
                <a:cubicBezTo>
                  <a:pt x="184" y="273"/>
                  <a:pt x="85" y="279"/>
                  <a:pt x="45" y="284"/>
                </a:cubicBezTo>
                <a:cubicBezTo>
                  <a:pt x="0" y="416"/>
                  <a:pt x="187" y="320"/>
                  <a:pt x="263" y="297"/>
                </a:cubicBezTo>
                <a:cubicBezTo>
                  <a:pt x="268" y="282"/>
                  <a:pt x="283" y="227"/>
                  <a:pt x="301" y="220"/>
                </a:cubicBezTo>
                <a:cubicBezTo>
                  <a:pt x="314" y="215"/>
                  <a:pt x="327" y="229"/>
                  <a:pt x="340" y="233"/>
                </a:cubicBezTo>
                <a:cubicBezTo>
                  <a:pt x="336" y="258"/>
                  <a:pt x="335" y="285"/>
                  <a:pt x="327" y="309"/>
                </a:cubicBezTo>
                <a:cubicBezTo>
                  <a:pt x="322" y="324"/>
                  <a:pt x="297" y="333"/>
                  <a:pt x="301" y="348"/>
                </a:cubicBezTo>
                <a:cubicBezTo>
                  <a:pt x="304" y="361"/>
                  <a:pt x="327" y="357"/>
                  <a:pt x="340" y="361"/>
                </a:cubicBezTo>
                <a:cubicBezTo>
                  <a:pt x="353" y="357"/>
                  <a:pt x="370" y="359"/>
                  <a:pt x="378" y="348"/>
                </a:cubicBezTo>
                <a:cubicBezTo>
                  <a:pt x="394" y="326"/>
                  <a:pt x="404" y="271"/>
                  <a:pt x="404" y="271"/>
                </a:cubicBezTo>
                <a:cubicBezTo>
                  <a:pt x="388" y="209"/>
                  <a:pt x="391" y="189"/>
                  <a:pt x="327" y="169"/>
                </a:cubicBezTo>
                <a:cubicBezTo>
                  <a:pt x="344" y="118"/>
                  <a:pt x="327" y="80"/>
                  <a:pt x="327" y="28"/>
                </a:cubicBez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78"/>
          <p:cNvSpPr/>
          <p:nvPr/>
        </p:nvSpPr>
        <p:spPr>
          <a:xfrm>
            <a:off x="3276720" y="4800600"/>
            <a:ext cx="380880" cy="380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reeform 79"/>
          <p:cNvSpPr/>
          <p:nvPr/>
        </p:nvSpPr>
        <p:spPr>
          <a:xfrm>
            <a:off x="3048120" y="4114800"/>
            <a:ext cx="984240" cy="550800"/>
          </a:xfrm>
          <a:custGeom>
            <a:avLst/>
            <a:gdLst/>
            <a:ahLst/>
            <a:rect l="l" t="t" r="r" b="b"/>
            <a:pathLst>
              <a:path w="620" h="443">
                <a:moveTo>
                  <a:pt x="414" y="299"/>
                </a:moveTo>
                <a:cubicBezTo>
                  <a:pt x="431" y="370"/>
                  <a:pt x="438" y="385"/>
                  <a:pt x="375" y="427"/>
                </a:cubicBezTo>
                <a:cubicBezTo>
                  <a:pt x="345" y="423"/>
                  <a:pt x="310" y="432"/>
                  <a:pt x="286" y="414"/>
                </a:cubicBezTo>
                <a:cubicBezTo>
                  <a:pt x="258" y="394"/>
                  <a:pt x="253" y="354"/>
                  <a:pt x="234" y="325"/>
                </a:cubicBezTo>
                <a:cubicBezTo>
                  <a:pt x="210" y="289"/>
                  <a:pt x="186" y="254"/>
                  <a:pt x="158" y="222"/>
                </a:cubicBezTo>
                <a:cubicBezTo>
                  <a:pt x="126" y="186"/>
                  <a:pt x="17" y="150"/>
                  <a:pt x="55" y="120"/>
                </a:cubicBezTo>
                <a:cubicBezTo>
                  <a:pt x="113" y="75"/>
                  <a:pt x="200" y="129"/>
                  <a:pt x="273" y="133"/>
                </a:cubicBezTo>
                <a:cubicBezTo>
                  <a:pt x="210" y="117"/>
                  <a:pt x="48" y="84"/>
                  <a:pt x="17" y="30"/>
                </a:cubicBezTo>
                <a:cubicBezTo>
                  <a:pt x="0" y="0"/>
                  <a:pt x="85" y="21"/>
                  <a:pt x="119" y="17"/>
                </a:cubicBezTo>
                <a:cubicBezTo>
                  <a:pt x="286" y="51"/>
                  <a:pt x="96" y="0"/>
                  <a:pt x="222" y="69"/>
                </a:cubicBezTo>
                <a:cubicBezTo>
                  <a:pt x="254" y="86"/>
                  <a:pt x="290" y="94"/>
                  <a:pt x="324" y="107"/>
                </a:cubicBezTo>
                <a:cubicBezTo>
                  <a:pt x="333" y="120"/>
                  <a:pt x="335" y="145"/>
                  <a:pt x="350" y="145"/>
                </a:cubicBezTo>
                <a:cubicBezTo>
                  <a:pt x="363" y="145"/>
                  <a:pt x="356" y="119"/>
                  <a:pt x="362" y="107"/>
                </a:cubicBezTo>
                <a:cubicBezTo>
                  <a:pt x="369" y="93"/>
                  <a:pt x="377" y="80"/>
                  <a:pt x="388" y="69"/>
                </a:cubicBezTo>
                <a:cubicBezTo>
                  <a:pt x="408" y="49"/>
                  <a:pt x="455" y="28"/>
                  <a:pt x="478" y="17"/>
                </a:cubicBezTo>
                <a:cubicBezTo>
                  <a:pt x="467" y="195"/>
                  <a:pt x="479" y="303"/>
                  <a:pt x="426" y="145"/>
                </a:cubicBezTo>
                <a:cubicBezTo>
                  <a:pt x="444" y="75"/>
                  <a:pt x="450" y="79"/>
                  <a:pt x="516" y="56"/>
                </a:cubicBezTo>
                <a:cubicBezTo>
                  <a:pt x="529" y="73"/>
                  <a:pt x="545" y="88"/>
                  <a:pt x="554" y="107"/>
                </a:cubicBezTo>
                <a:cubicBezTo>
                  <a:pt x="571" y="144"/>
                  <a:pt x="593" y="222"/>
                  <a:pt x="593" y="222"/>
                </a:cubicBezTo>
                <a:cubicBezTo>
                  <a:pt x="598" y="252"/>
                  <a:pt x="620" y="317"/>
                  <a:pt x="593" y="350"/>
                </a:cubicBezTo>
                <a:cubicBezTo>
                  <a:pt x="573" y="374"/>
                  <a:pt x="533" y="368"/>
                  <a:pt x="503" y="376"/>
                </a:cubicBezTo>
                <a:cubicBezTo>
                  <a:pt x="415" y="434"/>
                  <a:pt x="455" y="417"/>
                  <a:pt x="388" y="440"/>
                </a:cubicBezTo>
                <a:cubicBezTo>
                  <a:pt x="275" y="402"/>
                  <a:pt x="331" y="443"/>
                  <a:pt x="298" y="376"/>
                </a:cubicBezTo>
                <a:cubicBezTo>
                  <a:pt x="295" y="371"/>
                  <a:pt x="290" y="367"/>
                  <a:pt x="286" y="363"/>
                </a:cubicBezTo>
                <a:lnTo>
                  <a:pt x="340" y="2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Picture 80" descr="5-422.gif (14217 字节)"/>
          <p:cNvPicPr/>
          <p:nvPr/>
        </p:nvPicPr>
        <p:blipFill>
          <a:blip r:embed="rId4"/>
          <a:stretch/>
        </p:blipFill>
        <p:spPr>
          <a:xfrm flipH="1">
            <a:off x="1752480" y="52578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1" descr="5-422.gif (14217 字节)"/>
          <p:cNvPicPr/>
          <p:nvPr/>
        </p:nvPicPr>
        <p:blipFill>
          <a:blip r:embed="rId5"/>
          <a:stretch/>
        </p:blipFill>
        <p:spPr>
          <a:xfrm flipH="1">
            <a:off x="4495680" y="48769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82" descr="5-422.gif (14217 字节)"/>
          <p:cNvPicPr/>
          <p:nvPr/>
        </p:nvPicPr>
        <p:blipFill>
          <a:blip r:embed="rId6"/>
          <a:stretch/>
        </p:blipFill>
        <p:spPr>
          <a:xfrm flipH="1">
            <a:off x="3962160" y="5943600"/>
            <a:ext cx="1600200" cy="895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3" descr="5-422.gif (14217 字节)"/>
          <p:cNvPicPr/>
          <p:nvPr/>
        </p:nvPicPr>
        <p:blipFill>
          <a:blip r:embed="rId7"/>
          <a:stretch/>
        </p:blipFill>
        <p:spPr>
          <a:xfrm flipH="1">
            <a:off x="3276720" y="41148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4" descr="5-422.gif (14217 字节)"/>
          <p:cNvPicPr/>
          <p:nvPr/>
        </p:nvPicPr>
        <p:blipFill>
          <a:blip r:embed="rId8"/>
          <a:stretch/>
        </p:blipFill>
        <p:spPr>
          <a:xfrm flipH="1">
            <a:off x="4038480" y="44197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5" descr="5-422.gif (14217 字节)"/>
          <p:cNvPicPr/>
          <p:nvPr/>
        </p:nvPicPr>
        <p:blipFill>
          <a:blip r:embed="rId9"/>
          <a:stretch/>
        </p:blipFill>
        <p:spPr>
          <a:xfrm flipH="1">
            <a:off x="5715000" y="46483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6" descr="5-422.gif (14217 字节)"/>
          <p:cNvPicPr/>
          <p:nvPr/>
        </p:nvPicPr>
        <p:blipFill>
          <a:blip r:embed="rId10"/>
          <a:stretch/>
        </p:blipFill>
        <p:spPr>
          <a:xfrm flipH="1">
            <a:off x="2286000" y="502920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7" descr="5-422.gif (14217 字节)"/>
          <p:cNvPicPr/>
          <p:nvPr/>
        </p:nvPicPr>
        <p:blipFill>
          <a:blip r:embed="rId11"/>
          <a:stretch/>
        </p:blipFill>
        <p:spPr>
          <a:xfrm flipH="1">
            <a:off x="1905120" y="3505320"/>
            <a:ext cx="1371600" cy="766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8" descr="5-422.gif (14217 字节)"/>
          <p:cNvPicPr/>
          <p:nvPr/>
        </p:nvPicPr>
        <p:blipFill>
          <a:blip r:embed="rId12"/>
          <a:stretch/>
        </p:blipFill>
        <p:spPr>
          <a:xfrm flipH="1">
            <a:off x="3886200" y="2438280"/>
            <a:ext cx="1295280" cy="723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89" descr="5-422.gif (14217 字节)"/>
          <p:cNvPicPr/>
          <p:nvPr/>
        </p:nvPicPr>
        <p:blipFill>
          <a:blip r:embed="rId13"/>
          <a:stretch/>
        </p:blipFill>
        <p:spPr>
          <a:xfrm flipH="1">
            <a:off x="2590560" y="2870280"/>
            <a:ext cx="1143000" cy="639720"/>
          </a:xfrm>
          <a:prstGeom prst="rect">
            <a:avLst/>
          </a:prstGeom>
          <a:ln w="0">
            <a:noFill/>
          </a:ln>
        </p:spPr>
      </p:pic>
      <p:sp>
        <p:nvSpPr>
          <p:cNvPr id="416" name="Freeform 90"/>
          <p:cNvSpPr/>
          <p:nvPr/>
        </p:nvSpPr>
        <p:spPr>
          <a:xfrm>
            <a:off x="-41400" y="5811840"/>
            <a:ext cx="284400" cy="263520"/>
          </a:xfrm>
          <a:custGeom>
            <a:avLst/>
            <a:gdLst/>
            <a:ahLst/>
            <a:rect l="l" t="t" r="r" b="b"/>
            <a:pathLst>
              <a:path w="179" h="166">
                <a:moveTo>
                  <a:pt x="0" y="115"/>
                </a:moveTo>
                <a:cubicBezTo>
                  <a:pt x="63" y="94"/>
                  <a:pt x="82" y="81"/>
                  <a:pt x="167" y="128"/>
                </a:cubicBezTo>
                <a:cubicBezTo>
                  <a:pt x="179" y="135"/>
                  <a:pt x="158" y="153"/>
                  <a:pt x="154" y="166"/>
                </a:cubicBezTo>
                <a:cubicBezTo>
                  <a:pt x="145" y="140"/>
                  <a:pt x="137" y="115"/>
                  <a:pt x="128" y="89"/>
                </a:cubicBezTo>
                <a:cubicBezTo>
                  <a:pt x="122" y="72"/>
                  <a:pt x="136" y="55"/>
                  <a:pt x="141" y="38"/>
                </a:cubicBezTo>
                <a:cubicBezTo>
                  <a:pt x="145" y="25"/>
                  <a:pt x="154" y="0"/>
                  <a:pt x="154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91"/>
          <p:cNvSpPr/>
          <p:nvPr/>
        </p:nvSpPr>
        <p:spPr>
          <a:xfrm>
            <a:off x="1768320" y="6608880"/>
            <a:ext cx="284400" cy="223560"/>
          </a:xfrm>
          <a:custGeom>
            <a:avLst/>
            <a:gdLst/>
            <a:ahLst/>
            <a:rect l="l" t="t" r="r" b="b"/>
            <a:pathLst>
              <a:path w="179" h="141">
                <a:moveTo>
                  <a:pt x="0" y="48"/>
                </a:moveTo>
                <a:cubicBezTo>
                  <a:pt x="1" y="47"/>
                  <a:pt x="66" y="0"/>
                  <a:pt x="76" y="10"/>
                </a:cubicBezTo>
                <a:cubicBezTo>
                  <a:pt x="86" y="19"/>
                  <a:pt x="68" y="35"/>
                  <a:pt x="64" y="48"/>
                </a:cubicBezTo>
                <a:cubicBezTo>
                  <a:pt x="89" y="65"/>
                  <a:pt x="117" y="79"/>
                  <a:pt x="140" y="99"/>
                </a:cubicBezTo>
                <a:cubicBezTo>
                  <a:pt x="152" y="109"/>
                  <a:pt x="153" y="129"/>
                  <a:pt x="166" y="138"/>
                </a:cubicBezTo>
                <a:cubicBezTo>
                  <a:pt x="171" y="141"/>
                  <a:pt x="175" y="129"/>
                  <a:pt x="179" y="12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92"/>
          <p:cNvSpPr/>
          <p:nvPr/>
        </p:nvSpPr>
        <p:spPr>
          <a:xfrm>
            <a:off x="1459080" y="3736800"/>
            <a:ext cx="129960" cy="165240"/>
          </a:xfrm>
          <a:custGeom>
            <a:avLst/>
            <a:gdLst/>
            <a:ahLst/>
            <a:rect l="l" t="t" r="r" b="b"/>
            <a:pathLst>
              <a:path w="82" h="104">
                <a:moveTo>
                  <a:pt x="15" y="1"/>
                </a:moveTo>
                <a:cubicBezTo>
                  <a:pt x="32" y="5"/>
                  <a:pt x="56" y="0"/>
                  <a:pt x="67" y="14"/>
                </a:cubicBezTo>
                <a:cubicBezTo>
                  <a:pt x="82" y="34"/>
                  <a:pt x="0" y="104"/>
                  <a:pt x="54" y="1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93"/>
          <p:cNvSpPr/>
          <p:nvPr/>
        </p:nvSpPr>
        <p:spPr>
          <a:xfrm>
            <a:off x="101520" y="3759120"/>
            <a:ext cx="262080" cy="244440"/>
          </a:xfrm>
          <a:custGeom>
            <a:avLst/>
            <a:gdLst/>
            <a:ahLst/>
            <a:rect l="l" t="t" r="r" b="b"/>
            <a:pathLst>
              <a:path w="165" h="154">
                <a:moveTo>
                  <a:pt x="0" y="102"/>
                </a:moveTo>
                <a:cubicBezTo>
                  <a:pt x="75" y="53"/>
                  <a:pt x="74" y="76"/>
                  <a:pt x="90" y="154"/>
                </a:cubicBezTo>
                <a:cubicBezTo>
                  <a:pt x="103" y="145"/>
                  <a:pt x="117" y="139"/>
                  <a:pt x="128" y="128"/>
                </a:cubicBezTo>
                <a:cubicBezTo>
                  <a:pt x="139" y="117"/>
                  <a:pt x="165" y="101"/>
                  <a:pt x="154" y="90"/>
                </a:cubicBezTo>
                <a:cubicBezTo>
                  <a:pt x="128" y="64"/>
                  <a:pt x="85" y="64"/>
                  <a:pt x="51" y="51"/>
                </a:cubicBezTo>
                <a:cubicBezTo>
                  <a:pt x="97" y="6"/>
                  <a:pt x="74" y="21"/>
                  <a:pt x="11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05:10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