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B47-FDC4-41E9-BF85-98F401B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B2D-C68F-489B-B6B8-F1BFC1F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2A8-1BB5-4D7F-8E19-3ECF11E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1DB-23DE-4205-A763-3B490B5E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1F7-E328-4C8A-B371-71900BB7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7E2-6255-4D80-B702-E4F82F1A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E2A-7C7E-4315-BC26-80529163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C187-D7C2-41B8-AACA-C2C1F780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4A1-8916-4BE3-94B3-B4CEBD6E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63C5-B163-45F1-A114-E65E9931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D8BC-EBB6-4F22-9916-9E7F603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A85-8A22-4D07-ABF6-C9E27629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AFF-9C9E-4092-8331-C6FBE46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18A5-7BF1-4C4C-952C-AE98F98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92BE-B088-435F-8664-2D84203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2213-A0EE-4143-8A95-D2F430CE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57FB-CC85-4111-9C89-B9DFD2D7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7DC-9D4F-4E60-8C1B-9FF1D192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6EF-1472-4211-863C-74A7877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195-1AFE-42C2-8DBD-9B2CAF5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38D-A331-4F95-BEAE-A194981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3EF-204E-40FD-9981-A610E87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C59-FD4A-470F-8CC7-189A2F12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F21-91B3-4862-9F98-A1E03E7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01B9-5EA2-4984-8962-9E9D6808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407-BBE7-4FFE-A1BF-0C077DE034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F62E-15A7-4C3A-9CD9-EDE26AB9F6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{76A0ECA4-96C4-4E86-BDFE-C64170771DA5}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876240" y="620640"/>
            <a:ext cx="7064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棉鞋里的阳光课件</a:t>
            </a:r>
            <a:r>
              <a:rPr b="1" lang="en-US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打包下载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4360" y="155736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棉被     照射      晒太阳      盖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午           收衣服           脱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躺下      合眼       眼睛        摆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55640" y="1268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an bei      zhao she    shai tai yang    gai sh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55640" y="270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hong wu            shou yi fu                 tuo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9640" y="3789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ng xia        he yan        yan jing           bai z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Mj02888700000[1]"/>
          <p:cNvPicPr/>
          <p:nvPr/>
        </p:nvPicPr>
        <p:blipFill>
          <a:blip r:embed="rId1"/>
          <a:stretch/>
        </p:blipFill>
        <p:spPr>
          <a:xfrm>
            <a:off x="6732720" y="5084640"/>
            <a:ext cx="2087280" cy="155736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棉被     照射      晒太阳      盖上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午           收衣服           脱离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躺下      合眼       眼睛        摆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5"/>
          <p:cNvSpPr txBox="1"/>
          <p:nvPr/>
        </p:nvSpPr>
        <p:spPr>
          <a:xfrm>
            <a:off x="900000" y="404640"/>
            <a:ext cx="2772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Picture 16" descr="MMj03033640000[1]"/>
          <p:cNvPicPr/>
          <p:nvPr/>
        </p:nvPicPr>
        <p:blipFill>
          <a:blip r:embed="rId1"/>
          <a:stretch/>
        </p:blipFill>
        <p:spPr>
          <a:xfrm>
            <a:off x="6516720" y="333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MMj03363960000[1]"/>
          <p:cNvPicPr/>
          <p:nvPr/>
        </p:nvPicPr>
        <p:blipFill>
          <a:blip r:embed="rId2"/>
          <a:stretch/>
        </p:blipFill>
        <p:spPr>
          <a:xfrm>
            <a:off x="5364000" y="404640"/>
            <a:ext cx="1224000" cy="107172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200"/>
          <p:cNvSpPr/>
          <p:nvPr/>
        </p:nvSpPr>
        <p:spPr>
          <a:xfrm>
            <a:off x="684360" y="5950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F82-566A-49FB-B34A-D2905B30C1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{64CBB845-5524-4C3D-B4F6-232D268E9DF6}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2:46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7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