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241-919E-4715-B418-32D1C833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749-B51F-45DD-BEE9-E1071FA6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4B2-1719-4390-A1C2-F83D895B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078-6E20-4E0C-8A7F-E351FD4E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CD54-683D-40DF-BBC9-DAF3D6AF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2CD7-9E41-4162-8067-63B9957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D181-0441-4383-90ED-C498C194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9F65-D5BA-48F8-AD73-4CADCF67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67E9-6FD5-4BEB-9E3C-FC4C5CB3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21A8-7C7F-4FB9-B770-9D95FF87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2547-6591-4A7E-ADE7-7839D55F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8CE2-EE07-43C7-AAE1-3C849E91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CF56-3415-4773-AEF0-3838382C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BDDD-D1F8-44ED-8C0D-0006C378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660E-35B0-4CF5-BE1A-4B869DA7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BCBB-0087-44B1-A935-E3AEDBD6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FDEB-AD55-4F7E-A113-91505FBC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969-0C3D-48E2-B5C0-6CB90926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DEE-623E-4DE7-BCF5-A9FA442D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BB1-CEB2-496A-AD7D-5728E10C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DA1-8024-409A-A087-3E67283F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B9A-8893-4DE4-878A-5AA2778E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D74-D1EC-41DA-A4F3-94E3DCF4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BDCF-F18E-4551-920E-935BD9E1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5DE8-5E0B-48FA-A839-DA39CE58186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6" descr=""/>
          <p:cNvPicPr/>
          <p:nvPr/>
        </p:nvPicPr>
        <p:blipFill>
          <a:blip r:embed="rId3"/>
          <a:srcRect l="0" t="0" r="0" b="13857"/>
          <a:stretch/>
        </p:blipFill>
        <p:spPr>
          <a:xfrm>
            <a:off x="-17640" y="4719600"/>
            <a:ext cx="3510000" cy="21384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981000"/>
            <a:ext cx="9144000" cy="360"/>
            <a:chOff x="0" y="981000"/>
            <a:chExt cx="9144000" cy="360"/>
          </a:xfrm>
        </p:grpSpPr>
        <p:sp>
          <p:nvSpPr>
            <p:cNvPr id="8" name="直接连接符 9"/>
            <p:cNvSpPr/>
            <p:nvPr/>
          </p:nvSpPr>
          <p:spPr>
            <a:xfrm>
              <a:off x="0" y="981000"/>
              <a:ext cx="9144000" cy="0"/>
            </a:xfrm>
            <a:prstGeom prst="line">
              <a:avLst/>
            </a:prstGeom>
            <a:ln w="9360">
              <a:solidFill>
                <a:srgbClr val="f0a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0" y="981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09C8-63A1-4CC2-B45E-1EDE2DD97EC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8D5F-1592-4A0F-86D0-72C19F1608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7" descr=""/>
          <p:cNvPicPr/>
          <p:nvPr/>
        </p:nvPicPr>
        <p:blipFill>
          <a:blip r:embed="rId1"/>
          <a:srcRect l="0" t="18616" r="0" b="0"/>
          <a:stretch/>
        </p:blipFill>
        <p:spPr>
          <a:xfrm>
            <a:off x="0" y="-1260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88" name="矩形 9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8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4724280"/>
            <a:ext cx="9144000" cy="1800"/>
            <a:chOff x="0" y="4724280"/>
            <a:chExt cx="9144000" cy="1800"/>
          </a:xfrm>
        </p:grpSpPr>
        <p:sp>
          <p:nvSpPr>
            <p:cNvPr id="90" name="直接连接符 11"/>
            <p:cNvSpPr/>
            <p:nvPr/>
          </p:nvSpPr>
          <p:spPr>
            <a:xfrm flipH="1">
              <a:off x="0" y="4724280"/>
              <a:ext cx="9144000" cy="1800"/>
            </a:xfrm>
            <a:prstGeom prst="line">
              <a:avLst/>
            </a:prstGeom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0" y="4724280"/>
              <a:ext cx="914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图片 8" descr=""/>
          <p:cNvPicPr/>
          <p:nvPr/>
        </p:nvPicPr>
        <p:blipFill>
          <a:blip r:embed="rId2"/>
          <a:srcRect l="0" t="0" r="0" b="13857"/>
          <a:stretch/>
        </p:blipFill>
        <p:spPr>
          <a:xfrm>
            <a:off x="0" y="1681200"/>
            <a:ext cx="5508720" cy="3354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24000" y="48690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94" name="文本框 307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3079"/>
          <p:cNvSpPr/>
          <p:nvPr/>
        </p:nvSpPr>
        <p:spPr>
          <a:xfrm>
            <a:off x="2709000" y="6922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起跑线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C787-2BB7-4414-9206-2D399D2AAF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4099"/>
          <p:cNvSpPr/>
          <p:nvPr/>
        </p:nvSpPr>
        <p:spPr>
          <a:xfrm>
            <a:off x="900000" y="206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2:1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33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