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075B-FB4D-45B1-9271-223B24039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C160-CF6E-4CBD-B218-A830EAF64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B874-D11D-4B05-8CD1-2129DD95C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3343-8B8F-4F28-9852-DDFA25910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F49D-CF5B-44A3-B53E-6541C0276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BDEE-9FEB-4733-A7EB-7F98F27C4F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1D68-F7C2-4092-9C31-73DAB582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50BEF-9179-426C-BFF8-03334F0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FC684-21D0-416B-9928-B38AD2FA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A662-0212-40D8-ABD3-3C9DF4C747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264F4-B1C8-4B2D-9E1B-96F9A1F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B5A77-8FFC-4E41-AB46-4B3E549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7CE73-6F29-4101-8F0E-DA1A2C5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898C-1C20-405F-B22D-B255A3A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A99DF-DE59-4FBD-B8B1-533F90F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25214-0EF8-4A99-BFF8-015FC0B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BF07-DB7D-4095-AA5F-25FC0CB5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BF0FB-9F7B-47DF-84D8-72494EB4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56500-E834-4151-BCD8-918371DC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01B3-85A1-4D19-ADA8-6DC4A5C836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7A36-4337-4872-9C00-70B08E7FFD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C139-4B4E-40CF-A8EA-DA1844732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F792-084B-4465-A45C-72A60325A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4240-E3FB-4395-8BE4-6167302F8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g2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9ACDA9C-6038-47F7-9B2A-0D51024DF2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0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101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102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11"/>
          </p:cNvPr>
          <p:cNvSpPr/>
          <p:nvPr/>
        </p:nvSpPr>
        <p:spPr>
          <a:xfrm>
            <a:off x="217764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07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08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09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10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11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349800" y="1125360"/>
            <a:ext cx="360" cy="576360"/>
            <a:chOff x="3349800" y="1125360"/>
            <a:chExt cx="360" cy="576360"/>
          </a:xfrm>
        </p:grpSpPr>
        <p:sp>
          <p:nvSpPr>
            <p:cNvPr id="97" name="直接连接符 4113"/>
            <p:cNvSpPr/>
            <p:nvPr/>
          </p:nvSpPr>
          <p:spPr>
            <a:xfrm>
              <a:off x="3349800" y="1125360"/>
              <a:ext cx="0" cy="57636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349800" y="11253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4114" descr="tm_logo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4115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94F6-AD37-4E94-8B88-9E4E54BF1A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DCF-CCBB-4449-A69A-CF343FA421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4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企业地球仪幻灯片完整版下载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75FB477-82C4-47B5-8DEC-B3570D0A077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 u="sng">
                <a:solidFill>
                  <a:srgbClr val="002850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8F4B-2FD8-4A92-902E-F5B8D761C0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2627280" y="4262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09Z</dcterms:modified>
  <cp:revision>2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