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F13-FE30-4732-8C14-0F9901B9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6D7-50AF-474A-89BB-83E9ACA8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87116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293-4EE9-41B6-8B68-1594113B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436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064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436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3064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B6E-6A0C-45FC-B20D-D252620C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7AB4-BAC5-44AF-B7EF-74437D17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6F55-36C2-4B77-8FD4-3079EB4D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74F8-14A8-4F94-8B78-8B2A8617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858E-71DE-47E0-9FF2-FDAD35A0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A72C-709A-4AB8-82AB-C8D13369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840" y="280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B1C6-DAA0-4F05-A9F5-066B57E1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1789-973D-445E-A6EA-E4A9F632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6D5-A423-44B9-8DA9-9E1C603B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7116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C957-6A39-46DA-9276-2B79070F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29D8-0248-4176-A01C-EE97A39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672B-1653-44D9-B89C-CC15F0F8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7116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8A92-1D09-4F6B-973C-85054388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436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064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436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064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9457-FC93-4127-80ED-B5B3E1F4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29B0-6916-46B2-B3F3-52835942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D72C1-F02B-40D3-990F-D87590BD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1065-F7B8-4CE3-9839-5CCA6DB9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5EFF5-24F5-485B-BBF6-A43208A6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5A7A-DF7D-4C7F-A7F4-A7FE31B9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066-3D35-4E15-ADF9-3991B88A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2840" y="280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3213B-6C29-429D-9540-1E2FD484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73BB-B220-49D7-B0EB-0A9076B5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7116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8F2CE-91A2-4B42-853F-1D8FDE9A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DB5F-661F-458A-A0B6-C38EF181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7475D-866B-47B7-923D-41F565B9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7116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7D4B1-5565-4327-978C-AD95FA10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436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064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436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064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DA7DA-744B-48E2-B1E1-45CA89FA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011-5099-49C3-983C-EA88AD7D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AA0-B3AF-4D0A-821E-AD755857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2840" y="280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D25-9A9D-44E2-97CD-B9F32B22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627-9B0E-4EAF-BF91-990A92E7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87116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941-1DEB-4369-83CF-D6AEA00C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B6A-7D34-4DFE-8A9C-4B760496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52" descr="Z:\newtek\_backgrounds_1.02\Tim\powerpoint templates\21-40\strategic_alliance\elements\shake.jpg"/>
          <p:cNvPicPr/>
          <p:nvPr/>
        </p:nvPicPr>
        <p:blipFill>
          <a:blip r:embed="rId3"/>
          <a:stretch/>
        </p:blipFill>
        <p:spPr>
          <a:xfrm>
            <a:off x="7318440" y="0"/>
            <a:ext cx="1639800" cy="789120"/>
          </a:xfrm>
          <a:prstGeom prst="rect">
            <a:avLst/>
          </a:prstGeom>
          <a:ln w="0">
            <a:noFill/>
          </a:ln>
        </p:spPr>
      </p:pic>
      <p:sp>
        <p:nvSpPr>
          <p:cNvPr id="1" name="平行四边形 1051"/>
          <p:cNvSpPr/>
          <p:nvPr/>
        </p:nvSpPr>
        <p:spPr>
          <a:xfrm>
            <a:off x="-304920" y="76320"/>
            <a:ext cx="7620120" cy="609480"/>
          </a:xfrm>
          <a:prstGeom prst="parallelogram">
            <a:avLst>
              <a:gd name="adj" fmla="val 2899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矩形 1049"/>
          <p:cNvSpPr/>
          <p:nvPr/>
        </p:nvSpPr>
        <p:spPr>
          <a:xfrm>
            <a:off x="0" y="797040"/>
            <a:ext cx="347760" cy="5500440"/>
          </a:xfrm>
          <a:prstGeom prst="rect">
            <a:avLst/>
          </a:prstGeom>
          <a:gradFill rotWithShape="0">
            <a:gsLst>
              <a:gs pos="0">
                <a:srgbClr val="5d6b6e"/>
              </a:gs>
              <a:gs pos="100000">
                <a:srgbClr val="c9e7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E047-3D1D-4B34-9FFF-86DD7967B6EA}" type="slidenum">
              <a:rPr b="0" lang="en-US" sz="10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15840" y="793800"/>
            <a:ext cx="8778960" cy="360"/>
            <a:chOff x="-15840" y="793800"/>
            <a:chExt cx="8778960" cy="360"/>
          </a:xfrm>
        </p:grpSpPr>
        <p:sp>
          <p:nvSpPr>
            <p:cNvPr id="9" name="直接连接符 1030"/>
            <p:cNvSpPr/>
            <p:nvPr/>
          </p:nvSpPr>
          <p:spPr>
            <a:xfrm>
              <a:off x="-15840" y="793800"/>
              <a:ext cx="8778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 txBox="1"/>
            <p:nvPr/>
          </p:nvSpPr>
          <p:spPr>
            <a:xfrm>
              <a:off x="-15840" y="793800"/>
              <a:ext cx="877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6480" y="6294600"/>
            <a:ext cx="7308720" cy="360"/>
            <a:chOff x="6480" y="6294600"/>
            <a:chExt cx="7308720" cy="360"/>
          </a:xfrm>
        </p:grpSpPr>
        <p:sp>
          <p:nvSpPr>
            <p:cNvPr id="12" name="直接连接符 1034"/>
            <p:cNvSpPr/>
            <p:nvPr/>
          </p:nvSpPr>
          <p:spPr>
            <a:xfrm>
              <a:off x="6480" y="6294600"/>
              <a:ext cx="7308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6480" y="6294600"/>
              <a:ext cx="730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组合 1048"/>
          <p:cNvGrpSpPr/>
          <p:nvPr/>
        </p:nvGrpSpPr>
        <p:grpSpPr>
          <a:xfrm>
            <a:off x="0" y="838080"/>
            <a:ext cx="304560" cy="5410440"/>
            <a:chOff x="0" y="838080"/>
            <a:chExt cx="304560" cy="5410440"/>
          </a:xfrm>
        </p:grpSpPr>
        <p:sp>
          <p:nvSpPr>
            <p:cNvPr id="15" name="矩形 1035"/>
            <p:cNvSpPr/>
            <p:nvPr/>
          </p:nvSpPr>
          <p:spPr>
            <a:xfrm>
              <a:off x="0" y="8380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矩形 1036"/>
            <p:cNvSpPr/>
            <p:nvPr/>
          </p:nvSpPr>
          <p:spPr>
            <a:xfrm>
              <a:off x="0" y="12952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矩形 1038"/>
            <p:cNvSpPr/>
            <p:nvPr/>
          </p:nvSpPr>
          <p:spPr>
            <a:xfrm>
              <a:off x="0" y="17524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矩形 1039"/>
            <p:cNvSpPr/>
            <p:nvPr/>
          </p:nvSpPr>
          <p:spPr>
            <a:xfrm>
              <a:off x="0" y="22096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矩形 1040"/>
            <p:cNvSpPr/>
            <p:nvPr/>
          </p:nvSpPr>
          <p:spPr>
            <a:xfrm>
              <a:off x="0" y="26668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矩形 1041"/>
            <p:cNvSpPr/>
            <p:nvPr/>
          </p:nvSpPr>
          <p:spPr>
            <a:xfrm>
              <a:off x="0" y="31240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矩形 1042"/>
            <p:cNvSpPr/>
            <p:nvPr/>
          </p:nvSpPr>
          <p:spPr>
            <a:xfrm>
              <a:off x="0" y="35812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矩形 1043"/>
            <p:cNvSpPr/>
            <p:nvPr/>
          </p:nvSpPr>
          <p:spPr>
            <a:xfrm>
              <a:off x="0" y="40384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矩形 1044"/>
            <p:cNvSpPr/>
            <p:nvPr/>
          </p:nvSpPr>
          <p:spPr>
            <a:xfrm>
              <a:off x="0" y="44956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矩形 1045"/>
            <p:cNvSpPr/>
            <p:nvPr/>
          </p:nvSpPr>
          <p:spPr>
            <a:xfrm>
              <a:off x="0" y="49528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矩形 1046"/>
            <p:cNvSpPr/>
            <p:nvPr/>
          </p:nvSpPr>
          <p:spPr>
            <a:xfrm>
              <a:off x="0" y="54100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矩形 1047"/>
            <p:cNvSpPr/>
            <p:nvPr/>
          </p:nvSpPr>
          <p:spPr>
            <a:xfrm>
              <a:off x="0" y="58672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83F7-930C-4C84-83C1-26937F13372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B17F-D8F1-437B-A750-E35748CFBE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90CD-B7E8-4C74-AA24-5519B1313BDC}" type="slidenum">
              <a:rPr b="0" lang="en-US" sz="10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平行四边形 2059"/>
          <p:cNvSpPr/>
          <p:nvPr/>
        </p:nvSpPr>
        <p:spPr>
          <a:xfrm>
            <a:off x="5715000" y="1371600"/>
            <a:ext cx="3276720" cy="533520"/>
          </a:xfrm>
          <a:prstGeom prst="parallelogram">
            <a:avLst>
              <a:gd name="adj" fmla="val 25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图片 2056" descr="Z:\newtek\_backgrounds_1.02\Tim\powerpoint templates\21-40\strategic_alliance\elements\shake.jpg"/>
          <p:cNvPicPr/>
          <p:nvPr/>
        </p:nvPicPr>
        <p:blipFill>
          <a:blip r:embed="rId1"/>
          <a:stretch/>
        </p:blipFill>
        <p:spPr>
          <a:xfrm>
            <a:off x="1219320" y="1066680"/>
            <a:ext cx="2361960" cy="11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7" name="平行四边形 2057"/>
          <p:cNvSpPr/>
          <p:nvPr/>
        </p:nvSpPr>
        <p:spPr>
          <a:xfrm>
            <a:off x="3048120" y="1828800"/>
            <a:ext cx="3276360" cy="380880"/>
          </a:xfrm>
          <a:prstGeom prst="parallelogram">
            <a:avLst>
              <a:gd name="adj" fmla="val 27917"/>
            </a:avLst>
          </a:prstGeom>
          <a:solidFill>
            <a:srgbClr val="c9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平行四边形 2058"/>
          <p:cNvSpPr/>
          <p:nvPr/>
        </p:nvSpPr>
        <p:spPr>
          <a:xfrm>
            <a:off x="2819520" y="1066680"/>
            <a:ext cx="6172200" cy="762120"/>
          </a:xfrm>
          <a:prstGeom prst="parallelogram">
            <a:avLst>
              <a:gd name="adj" fmla="val 27708"/>
            </a:avLst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Your Strategic Alliances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8120" y="177768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1"/>
          <p:cNvSpPr/>
          <p:nvPr/>
        </p:nvSpPr>
        <p:spPr>
          <a:xfrm>
            <a:off x="2372760" y="2708280"/>
            <a:ext cx="49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企业合作幻灯片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5124" descr="Z:\newtek\_backgrounds_1.02\Tim\powerpoint templates\21-40\strategic_alliance\elements\shake.jpg"/>
          <p:cNvPicPr/>
          <p:nvPr/>
        </p:nvPicPr>
        <p:blipFill>
          <a:blip r:embed="rId2"/>
          <a:stretch/>
        </p:blipFill>
        <p:spPr>
          <a:xfrm>
            <a:off x="1698480" y="1066680"/>
            <a:ext cx="1600200" cy="77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平行四边形 5123"/>
          <p:cNvSpPr/>
          <p:nvPr/>
        </p:nvSpPr>
        <p:spPr>
          <a:xfrm>
            <a:off x="2819520" y="1066680"/>
            <a:ext cx="4572000" cy="762120"/>
          </a:xfrm>
          <a:prstGeom prst="parallelogram">
            <a:avLst>
              <a:gd name="adj" fmla="val 29579"/>
            </a:avLst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124080" y="172476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2C7C-062B-42D4-B523-A2DA6AB546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14:54:59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0:09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