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328-BA8B-47AC-A6B3-56D91FBA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E8A-B438-446E-B7D3-1F7D2D04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146-41EC-4486-B3E7-35A32BB0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B36-B4F9-4FD9-9CF7-6ECA9C62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4663-9A73-44D4-B000-9852B020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8A3F-84CD-4BB8-B374-ED81EB1C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4D5-295A-461E-8564-C6E82A63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2A05-F190-41CE-9297-FDAEFE21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95A9-0626-4EF5-B1F4-C3CD10E0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43EF-E6C0-4F8A-9E52-93E5ECFB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D244-3A5E-4342-AE4A-08E1EDF2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168-EB27-4C08-9315-44903C2D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F876-3030-49DD-9738-45FB4E66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E076-A34C-4E06-BAF7-0D1F109C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2537-F68B-4214-B17C-522662C4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228B-4DF7-4A82-8370-288EC017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5E8D-AA05-4CF5-A3B9-C8959DBC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4B4B-E33F-4B9C-8D59-49038CE9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1AF7-C0FC-461B-9AEB-52526F7F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C897-6EDC-4A44-8508-BD7BEED4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9EC1-EF0C-42CA-A343-A945040B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2AD4-0DBD-4C52-8D24-6F9A53C6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330-00EF-4035-B0D6-2C668BBD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9C9E-F442-4389-B6C0-CF5A21A2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ED4E-0D2A-4303-99BF-9AA64441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8E34-AE5E-4453-9D0C-23DDBC62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07CE-2794-4735-A9B8-DB74BB6C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70EB-F420-48B8-8171-8FC7BDD8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7530A-7981-48FF-A51B-AFA6B3E5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9733C-30FA-4CB9-9B9A-8CE424A6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74E2-688A-4AA6-9B99-C8263F85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4707B-7BA8-4F87-B543-68B54AF8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A4619-D87B-43CF-9408-69880622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E2A-1016-49B5-BEB0-156FA000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8466-AF7F-49D8-8746-2A04E999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3227F-22A7-41EE-AFAF-DCC5EF8C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8536-D46C-4D7A-9A0E-24B11DAA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A6EA-C22D-4302-90CD-1665CBD7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DA3C5-8FC1-4464-93A6-2A416F4E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BDB11-9A2B-4EB6-885F-BA00241F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813C-B308-42B2-B452-43338A90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1E18-6F62-467A-9261-3B239BB7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D4A9-112F-4376-B479-40C4F428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2A8A8-B286-42E3-B127-791B1CB0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1DB-7B33-42D3-82EA-3C916C78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45C97-1EDC-4E65-AA72-E3B1BBDB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01832-7919-4385-B315-30D3033C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0EC68-2B53-4DBC-82F7-A26E315D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B8096-8CDC-4089-AB7C-A13EB3BB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C28A0-BF06-44CC-A267-77221DB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05809-C164-430F-90E0-1A12B335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D2306-1F4C-4DA0-BA9C-E1274FCB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D084-8222-4232-BF97-6396B8E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E07D8-83F3-4498-81E7-01303539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51168-7D76-4067-AB49-4EBD9DCF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BF3-8211-408E-81A0-7FE3060B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193CA-432A-43F9-AFE7-F92FE83D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B8CB8-484B-4C6A-8834-E44B6A29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D9228-5C94-41A5-90C8-2C37245A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4B875-EA62-47F6-A6DA-6487580F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ECA54-10C9-4D9F-B6A2-98D6CE1D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40635-2B94-4269-9F6D-0C49BE0C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C3FBC-290E-4B18-9B58-4BE251E4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2FB6-E34A-439E-B3F5-164CD27B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34739-2273-473D-873F-2012FC29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B71E7-1E8E-4CF3-B481-A7098475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79B-B78B-4FE3-B37E-093F936E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E42C-4CC4-446C-B6F6-7C2097C0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3DE49-62D4-4B75-A3C3-78AE99C2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C5383-756A-4DC7-9A5D-76674A6D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64D-4D56-423A-BAC8-6847A7CF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713-DF6B-4EE8-8F59-DFEEFF53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gif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b0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36225" descr="河山图标"/>
          <p:cNvPicPr/>
          <p:nvPr/>
        </p:nvPicPr>
        <p:blipFill>
          <a:blip r:embed="rId2"/>
          <a:stretch/>
        </p:blipFill>
        <p:spPr>
          <a:xfrm>
            <a:off x="613404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图片 436226" descr="wpecker3"/>
          <p:cNvPicPr/>
          <p:nvPr/>
        </p:nvPicPr>
        <p:blipFill>
          <a:blip r:embed="rId3"/>
          <a:stretch/>
        </p:blipFill>
        <p:spPr>
          <a:xfrm>
            <a:off x="3133800" y="0"/>
            <a:ext cx="6010200" cy="1874880"/>
          </a:xfrm>
          <a:prstGeom prst="rect">
            <a:avLst/>
          </a:prstGeom>
          <a:ln w="0">
            <a:noFill/>
          </a:ln>
        </p:spPr>
      </p:pic>
      <p:pic>
        <p:nvPicPr>
          <p:cNvPr id="2" name="图片 436227" descr="wpecker1"/>
          <p:cNvPicPr/>
          <p:nvPr/>
        </p:nvPicPr>
        <p:blipFill>
          <a:blip r:embed="rId4"/>
          <a:stretch/>
        </p:blipFill>
        <p:spPr>
          <a:xfrm>
            <a:off x="0" y="10476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3" name="图片 436228" descr="wpecker2"/>
          <p:cNvPicPr/>
          <p:nvPr/>
        </p:nvPicPr>
        <p:blipFill>
          <a:blip r:embed="rId5"/>
          <a:stretch/>
        </p:blipFill>
        <p:spPr>
          <a:xfrm>
            <a:off x="0" y="0"/>
            <a:ext cx="3165480" cy="10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C6B2-DFF4-4B81-8BD4-4718EC01EB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b9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37249" descr="河山图标"/>
          <p:cNvPicPr/>
          <p:nvPr/>
        </p:nvPicPr>
        <p:blipFill>
          <a:blip r:embed="rId2"/>
          <a:stretch/>
        </p:blipFill>
        <p:spPr>
          <a:xfrm>
            <a:off x="685800" y="640080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37250" descr="hsale1"/>
          <p:cNvPicPr/>
          <p:nvPr/>
        </p:nvPicPr>
        <p:blipFill>
          <a:blip r:embed="rId3"/>
          <a:stretch/>
        </p:blipFill>
        <p:spPr>
          <a:xfrm>
            <a:off x="0" y="4160880"/>
            <a:ext cx="3578400" cy="26971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37251" descr="hsale2"/>
          <p:cNvPicPr/>
          <p:nvPr/>
        </p:nvPicPr>
        <p:blipFill>
          <a:blip r:embed="rId4"/>
          <a:stretch/>
        </p:blipFill>
        <p:spPr>
          <a:xfrm>
            <a:off x="3505320" y="4708440"/>
            <a:ext cx="5638680" cy="2149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B4C7-7310-4AFF-97AA-9D4E5AE5AA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图片 437257" descr="gold_spacer"/>
          <p:cNvPicPr/>
          <p:nvPr/>
        </p:nvPicPr>
        <p:blipFill>
          <a:blip r:embed="rId5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42369" descr="河山图标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42370" descr="flower_for_mom_pinkred"/>
          <p:cNvPicPr/>
          <p:nvPr/>
        </p:nvPicPr>
        <p:blipFill>
          <a:blip r:embed="rId3"/>
          <a:stretch/>
        </p:blipFill>
        <p:spPr>
          <a:xfrm>
            <a:off x="0" y="4950000"/>
            <a:ext cx="9144000" cy="19080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42371" descr="flower_for_mom"/>
          <p:cNvPicPr/>
          <p:nvPr/>
        </p:nvPicPr>
        <p:blipFill>
          <a:blip r:embed="rId4"/>
          <a:stretch/>
        </p:blipFill>
        <p:spPr>
          <a:xfrm>
            <a:off x="3200400" y="4950000"/>
            <a:ext cx="2378160" cy="190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A136-9E88-41F4-BF26-BC9FB09FA7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47489" descr="河山图标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447490" descr="hugs_4_mom_04"/>
          <p:cNvPicPr/>
          <p:nvPr/>
        </p:nvPicPr>
        <p:blipFill>
          <a:blip r:embed="rId3"/>
          <a:stretch/>
        </p:blipFill>
        <p:spPr>
          <a:xfrm>
            <a:off x="4525920" y="5565600"/>
            <a:ext cx="4618080" cy="12924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47491" descr="h4m_girl_happy_mothers_day_hug_md_clr"/>
          <p:cNvPicPr/>
          <p:nvPr/>
        </p:nvPicPr>
        <p:blipFill>
          <a:blip r:embed="rId4"/>
          <a:stretch/>
        </p:blipFill>
        <p:spPr>
          <a:xfrm>
            <a:off x="0" y="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447492" descr="hugs_4_mom_03"/>
          <p:cNvPicPr/>
          <p:nvPr/>
        </p:nvPicPr>
        <p:blipFill>
          <a:blip r:embed="rId5"/>
          <a:stretch/>
        </p:blipFill>
        <p:spPr>
          <a:xfrm>
            <a:off x="6537240" y="2681280"/>
            <a:ext cx="2606760" cy="2892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D3EA-29D3-4067-8F0F-53DE59E129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449537" descr="h4m2_boy_happy_mothers_day_hug_md_clr"/>
          <p:cNvPicPr/>
          <p:nvPr/>
        </p:nvPicPr>
        <p:blipFill>
          <a:blip r:embed="rId2"/>
          <a:stretch/>
        </p:blipFill>
        <p:spPr>
          <a:xfrm>
            <a:off x="0" y="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449538" descr="河山图标"/>
          <p:cNvPicPr/>
          <p:nvPr/>
        </p:nvPicPr>
        <p:blipFill>
          <a:blip r:embed="rId3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181" name="组合 449539"/>
          <p:cNvGrpSpPr/>
          <p:nvPr/>
        </p:nvGrpSpPr>
        <p:grpSpPr>
          <a:xfrm>
            <a:off x="4525920" y="2676600"/>
            <a:ext cx="4618080" cy="4181400"/>
            <a:chOff x="4525920" y="2676600"/>
            <a:chExt cx="4618080" cy="4181400"/>
          </a:xfrm>
        </p:grpSpPr>
        <p:pic>
          <p:nvPicPr>
            <p:cNvPr id="182" name="图片 449540" descr="hugs_4_mom2_03"/>
            <p:cNvPicPr/>
            <p:nvPr/>
          </p:nvPicPr>
          <p:blipFill>
            <a:blip r:embed="rId4"/>
            <a:stretch/>
          </p:blipFill>
          <p:spPr>
            <a:xfrm>
              <a:off x="6537240" y="2676600"/>
              <a:ext cx="2606760" cy="28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图片 449541" descr="hugs_4_mom2_04"/>
            <p:cNvPicPr/>
            <p:nvPr/>
          </p:nvPicPr>
          <p:blipFill>
            <a:blip r:embed="rId5"/>
            <a:stretch/>
          </p:blipFill>
          <p:spPr>
            <a:xfrm>
              <a:off x="4525920" y="5565600"/>
              <a:ext cx="461808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15E5-CBA4-494D-A592-1B42B3EA26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F41B-764D-4BBD-BA5A-7DCD5750B63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3B40-CB1F-4A68-AFED-7D53BBA8FF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物动画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8198"/>
          <p:cNvSpPr/>
          <p:nvPr/>
        </p:nvSpPr>
        <p:spPr>
          <a:xfrm>
            <a:off x="2484360" y="3573360"/>
            <a:ext cx="505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65EE-1D01-4F95-9304-DC6EDAAB57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8:26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4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