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418-A6BC-4D80-972F-24AD42F6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E7F-BE43-4FCD-A554-A11DE1DF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8A5-EED8-43E9-A879-6CA749AA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5C0-E511-460E-94C4-FFD8A715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90DE-A2B9-44B1-92AF-B0EF3933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026F-A492-443F-9727-E13AD70C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984D-DFE0-4303-A183-294C5C28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1F47-9A64-443E-AFB4-D5338E1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8764-A9AF-4C91-A619-47EBE40E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96F9-0722-4506-8A10-8DF8F58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181F-0A03-422C-BBA7-E69C1303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EE9-A2AA-4740-B7F2-992CFA1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DD0A-79A2-40FA-860C-149457D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B36C-7E2F-4A3C-B1A9-8A5A1FD4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5569-1AC0-4D2A-A40D-B8FE9D06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9AA-ADAC-4629-97BF-F8E12989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592B-DA74-4E0E-9FE8-C80FCED6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D6D-6473-422E-B3F8-077E6BA6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A73-CCE3-4D2A-9871-9634E7E6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A20-A3C4-45ED-AB61-5081DA4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DA2-CC64-40FD-A6F5-FF9AA6A6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ECC-230E-40C5-A876-EB3AD70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C52-7697-40A8-B9C1-02E7EC8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BEE-0455-4F41-B0FB-9194DCF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B50-FC54-4C50-9B7B-F4DEF7601A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5F0-EE99-4153-AC81-B87E7E8FDF8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138-7F10-4F75-B26C-CA29481797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圣诞快乐卡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1403640" y="642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4978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8"/>
          <p:cNvSpPr/>
          <p:nvPr/>
        </p:nvSpPr>
        <p:spPr>
          <a:xfrm>
            <a:off x="2411280" y="1268280"/>
            <a:ext cx="5061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2293-9A9B-4F60-96B6-840EA8887A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1854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6498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151992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283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6498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8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