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9CA-9948-469A-A81C-8E19EFDB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0B3-5E66-4F35-BAEE-B2F38817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E05-7CBC-42A3-A043-D1AA02AD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F9E-AEAB-4FBB-B881-7F233B75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1A52-5D40-46C5-9D70-60CABF10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AC3F-7C0C-4BE8-8C66-4D585DFE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A093-5E14-4E6A-BD9B-C4C7F798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6290-0F3C-454D-A21A-83A7DD5C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BA4F-59F0-4E20-B05C-6F1AA679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A199-2BC5-4DBE-AA3F-BE23FB46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26CE-DB5F-41C9-8A62-DF62CE47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C54-BA51-493E-BBCB-2A6907E5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CEAA-7912-45C2-A118-D09BBB31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47C4-E1CE-4C6F-B140-A8A824E8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6202-16A0-4969-89B1-F8A3D4EA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D195-8629-4CD7-95E3-59200BC2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4ADC-B11E-4447-8AAD-CFB3C190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768-1C36-4A85-B321-F4467544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860-76BC-4CAD-836E-80C1F6E1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ACF-C1BF-4A97-BBFA-9EE6FD0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1A4-92EA-4D08-939B-40F10215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781-6980-45F9-8AAF-B5843A1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102-845B-49E4-9AC1-37130091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780-A397-446E-8781-B914989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7606-55B7-4CAC-8A45-E1C4FD75D3B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2A9F-BFAC-4B83-BA82-0288191D33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B117-1065-433F-AA21-AEBF90D6A2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hyperlink" Target="http://www.eeppt.com" TargetMode="External"/><Relationship Id="rId18" Type="http://schemas.openxmlformats.org/officeDocument/2006/relationships/hyperlink" Target="http://www.eeppt.com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8584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f0e2"/>
                </a:solidFill>
                <a:latin typeface="汉真广标"/>
                <a:ea typeface="汉真广标"/>
              </a:rPr>
              <a:t>圣诞礼物像火山一样的喷发圣诞节</a:t>
            </a:r>
            <a:r>
              <a:rPr b="1" lang="en-US" sz="4000" spc="-1" strike="noStrike">
                <a:solidFill>
                  <a:srgbClr val="f4f0e2"/>
                </a:solidFill>
                <a:latin typeface="汉真广标"/>
                <a:ea typeface="汉真广标"/>
              </a:rPr>
              <a:t>PPT</a:t>
            </a:r>
            <a:r>
              <a:rPr b="1" lang="zh-CN" sz="4000" spc="-1" strike="noStrike">
                <a:solidFill>
                  <a:srgbClr val="f4f0e2"/>
                </a:solidFill>
                <a:latin typeface="汉真广标"/>
                <a:ea typeface="汉真广标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-19080" y="-334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"/>
          <p:cNvSpPr/>
          <p:nvPr/>
        </p:nvSpPr>
        <p:spPr>
          <a:xfrm>
            <a:off x="7596360" y="170028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719280" y="1484280"/>
            <a:ext cx="7705080" cy="3852720"/>
            <a:chOff x="719280" y="1484280"/>
            <a:chExt cx="7705080" cy="3852720"/>
          </a:xfrm>
        </p:grpSpPr>
        <p:sp>
          <p:nvSpPr>
            <p:cNvPr id="87" name="AutoShape 5"/>
            <p:cNvSpPr/>
            <p:nvPr/>
          </p:nvSpPr>
          <p:spPr>
            <a:xfrm>
              <a:off x="719280" y="1484280"/>
              <a:ext cx="684000" cy="684360"/>
            </a:xfrm>
            <a:custGeom>
              <a:avLst/>
              <a:gdLst>
                <a:gd name="textAreaLeft" fmla="*/ 33120 w 684000"/>
                <a:gd name="textAreaRight" fmla="*/ 650880 w 684000"/>
                <a:gd name="textAreaTop" fmla="*/ 33120 h 684360"/>
                <a:gd name="textAreaBottom" fmla="*/ 651240 h 684360"/>
              </a:gdLst>
              <a:ahLst/>
              <a:rect l="textAreaLeft" t="textAreaTop" r="textAreaRight" b="textAreaBottom"/>
              <a:pathLst>
                <a:path w="21600" h="21611">
                  <a:moveTo>
                    <a:pt x="3600" y="0"/>
                  </a:moveTo>
                  <a:arcTo wR="3600" hR="3600" stAng="16200000" swAng="-5400000"/>
                  <a:lnTo>
                    <a:pt x="0" y="18011"/>
                  </a:lnTo>
                  <a:arcTo wR="3600" hR="3600" stAng="10800000" swAng="-5400000"/>
                  <a:lnTo>
                    <a:pt x="18000" y="216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6"/>
            <p:cNvSpPr/>
            <p:nvPr/>
          </p:nvSpPr>
          <p:spPr>
            <a:xfrm>
              <a:off x="1512720" y="1484280"/>
              <a:ext cx="6911640" cy="68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497d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7"/>
            <p:cNvSpPr/>
            <p:nvPr/>
          </p:nvSpPr>
          <p:spPr>
            <a:xfrm>
              <a:off x="719280" y="2276280"/>
              <a:ext cx="684000" cy="684360"/>
            </a:xfrm>
            <a:custGeom>
              <a:avLst/>
              <a:gdLst>
                <a:gd name="textAreaLeft" fmla="*/ 33120 w 684000"/>
                <a:gd name="textAreaRight" fmla="*/ 650880 w 684000"/>
                <a:gd name="textAreaTop" fmla="*/ 33120 h 684360"/>
                <a:gd name="textAreaBottom" fmla="*/ 651240 h 684360"/>
              </a:gdLst>
              <a:ahLst/>
              <a:rect l="textAreaLeft" t="textAreaTop" r="textAreaRight" b="textAreaBottom"/>
              <a:pathLst>
                <a:path w="21600" h="21611">
                  <a:moveTo>
                    <a:pt x="3600" y="0"/>
                  </a:moveTo>
                  <a:arcTo wR="3600" hR="3600" stAng="16200000" swAng="-5400000"/>
                  <a:lnTo>
                    <a:pt x="0" y="18011"/>
                  </a:lnTo>
                  <a:arcTo wR="3600" hR="3600" stAng="10800000" swAng="-5400000"/>
                  <a:lnTo>
                    <a:pt x="18000" y="216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8"/>
            <p:cNvSpPr/>
            <p:nvPr/>
          </p:nvSpPr>
          <p:spPr>
            <a:xfrm>
              <a:off x="1512720" y="2276280"/>
              <a:ext cx="6911640" cy="68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497d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9"/>
            <p:cNvSpPr/>
            <p:nvPr/>
          </p:nvSpPr>
          <p:spPr>
            <a:xfrm>
              <a:off x="719280" y="3068640"/>
              <a:ext cx="684000" cy="684000"/>
            </a:xfrm>
            <a:prstGeom prst="roundRect">
              <a:avLst>
                <a:gd name="adj" fmla="val 16667"/>
              </a:avLst>
            </a:pr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0"/>
            <p:cNvSpPr/>
            <p:nvPr/>
          </p:nvSpPr>
          <p:spPr>
            <a:xfrm>
              <a:off x="1512720" y="3068640"/>
              <a:ext cx="69116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497d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1"/>
            <p:cNvSpPr/>
            <p:nvPr/>
          </p:nvSpPr>
          <p:spPr>
            <a:xfrm>
              <a:off x="719280" y="3860640"/>
              <a:ext cx="684000" cy="684360"/>
            </a:xfrm>
            <a:custGeom>
              <a:avLst/>
              <a:gdLst>
                <a:gd name="textAreaLeft" fmla="*/ 33120 w 684000"/>
                <a:gd name="textAreaRight" fmla="*/ 650880 w 684000"/>
                <a:gd name="textAreaTop" fmla="*/ 33120 h 684360"/>
                <a:gd name="textAreaBottom" fmla="*/ 651240 h 684360"/>
              </a:gdLst>
              <a:ahLst/>
              <a:rect l="textAreaLeft" t="textAreaTop" r="textAreaRight" b="textAreaBottom"/>
              <a:pathLst>
                <a:path w="21600" h="21611">
                  <a:moveTo>
                    <a:pt x="3600" y="0"/>
                  </a:moveTo>
                  <a:arcTo wR="3600" hR="3600" stAng="16200000" swAng="-5400000"/>
                  <a:lnTo>
                    <a:pt x="0" y="18011"/>
                  </a:lnTo>
                  <a:arcTo wR="3600" hR="3600" stAng="10800000" swAng="-5400000"/>
                  <a:lnTo>
                    <a:pt x="18000" y="216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2"/>
            <p:cNvSpPr/>
            <p:nvPr/>
          </p:nvSpPr>
          <p:spPr>
            <a:xfrm>
              <a:off x="1512720" y="3860640"/>
              <a:ext cx="6911640" cy="68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497d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3"/>
            <p:cNvSpPr/>
            <p:nvPr/>
          </p:nvSpPr>
          <p:spPr>
            <a:xfrm>
              <a:off x="719280" y="4653000"/>
              <a:ext cx="684000" cy="684000"/>
            </a:xfrm>
            <a:prstGeom prst="roundRect">
              <a:avLst>
                <a:gd name="adj" fmla="val 16667"/>
              </a:avLst>
            </a:prstGeom>
            <a:solidFill>
              <a:srgbClr val="ff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4"/>
            <p:cNvSpPr/>
            <p:nvPr/>
          </p:nvSpPr>
          <p:spPr>
            <a:xfrm>
              <a:off x="1512720" y="4653000"/>
              <a:ext cx="6911640" cy="6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497d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5"/>
            <p:cNvSpPr/>
            <p:nvPr/>
          </p:nvSpPr>
          <p:spPr>
            <a:xfrm>
              <a:off x="755280" y="1520640"/>
              <a:ext cx="61272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6"/>
            <p:cNvSpPr/>
            <p:nvPr/>
          </p:nvSpPr>
          <p:spPr>
            <a:xfrm>
              <a:off x="755280" y="2313000"/>
              <a:ext cx="612720" cy="3236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7"/>
            <p:cNvSpPr/>
            <p:nvPr/>
          </p:nvSpPr>
          <p:spPr>
            <a:xfrm>
              <a:off x="755280" y="3105000"/>
              <a:ext cx="61272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8"/>
            <p:cNvSpPr/>
            <p:nvPr/>
          </p:nvSpPr>
          <p:spPr>
            <a:xfrm>
              <a:off x="755280" y="3897360"/>
              <a:ext cx="612720" cy="3236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9"/>
            <p:cNvSpPr/>
            <p:nvPr/>
          </p:nvSpPr>
          <p:spPr>
            <a:xfrm>
              <a:off x="755280" y="4689360"/>
              <a:ext cx="61272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WordArt 20"/>
            <p:cNvSpPr/>
            <p:nvPr/>
          </p:nvSpPr>
          <p:spPr>
            <a:xfrm>
              <a:off x="936360" y="1663560"/>
              <a:ext cx="213840" cy="3240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WordArt 21"/>
            <p:cNvSpPr/>
            <p:nvPr/>
          </p:nvSpPr>
          <p:spPr>
            <a:xfrm>
              <a:off x="936360" y="2455920"/>
              <a:ext cx="250560" cy="323640"/>
            </a:xfrm>
            <a:custGeom>
              <a:avLst/>
              <a:gdLst>
                <a:gd name="textAreaLeft" fmla="*/ 0 w 250560"/>
                <a:gd name="textAreaRight" fmla="*/ 250560 w 2505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WordArt 22"/>
            <p:cNvSpPr/>
            <p:nvPr/>
          </p:nvSpPr>
          <p:spPr>
            <a:xfrm>
              <a:off x="936360" y="3247920"/>
              <a:ext cx="250560" cy="324000"/>
            </a:xfrm>
            <a:custGeom>
              <a:avLst/>
              <a:gdLst>
                <a:gd name="textAreaLeft" fmla="*/ 0 w 250560"/>
                <a:gd name="textAreaRight" fmla="*/ 250560 w 2505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WordArt 23"/>
            <p:cNvSpPr/>
            <p:nvPr/>
          </p:nvSpPr>
          <p:spPr>
            <a:xfrm>
              <a:off x="936360" y="4040280"/>
              <a:ext cx="250560" cy="323640"/>
            </a:xfrm>
            <a:custGeom>
              <a:avLst/>
              <a:gdLst>
                <a:gd name="textAreaLeft" fmla="*/ 0 w 250560"/>
                <a:gd name="textAreaRight" fmla="*/ 250560 w 2505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WordArt 24"/>
            <p:cNvSpPr/>
            <p:nvPr/>
          </p:nvSpPr>
          <p:spPr>
            <a:xfrm>
              <a:off x="936360" y="4832280"/>
              <a:ext cx="250560" cy="324000"/>
            </a:xfrm>
            <a:custGeom>
              <a:avLst/>
              <a:gdLst>
                <a:gd name="textAreaLeft" fmla="*/ 0 w 250560"/>
                <a:gd name="textAreaRight" fmla="*/ 250560 w 2505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"/>
            <p:cNvSpPr/>
            <p:nvPr/>
          </p:nvSpPr>
          <p:spPr>
            <a:xfrm>
              <a:off x="1547640" y="1520640"/>
              <a:ext cx="684000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6"/>
            <p:cNvSpPr/>
            <p:nvPr/>
          </p:nvSpPr>
          <p:spPr>
            <a:xfrm>
              <a:off x="1547640" y="2313000"/>
              <a:ext cx="6840000" cy="3236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1547640" y="3105000"/>
              <a:ext cx="684000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8"/>
            <p:cNvSpPr/>
            <p:nvPr/>
          </p:nvSpPr>
          <p:spPr>
            <a:xfrm>
              <a:off x="1547640" y="3897360"/>
              <a:ext cx="6840000" cy="32364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9"/>
            <p:cNvSpPr/>
            <p:nvPr/>
          </p:nvSpPr>
          <p:spPr>
            <a:xfrm>
              <a:off x="1547640" y="4689360"/>
              <a:ext cx="6840000" cy="324000"/>
            </a:xfrm>
            <a:prstGeom prst="roundRect">
              <a:avLst>
                <a:gd name="adj" fmla="val 2597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2120400" y="2492280"/>
              <a:ext cx="485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 Black"/>
                  <a:ea typeface="Calibri"/>
                </a:rPr>
                <a:t>Stylish templates can be a valuable aid to creative professional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2120400" y="3284640"/>
              <a:ext cx="485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 Black"/>
                  <a:ea typeface="Calibri"/>
                </a:rPr>
                <a:t>Stylish templates can be a valuable aid to creative professional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2"/>
            <p:cNvSpPr/>
            <p:nvPr/>
          </p:nvSpPr>
          <p:spPr>
            <a:xfrm>
              <a:off x="2120400" y="4076640"/>
              <a:ext cx="485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 Black"/>
                  <a:ea typeface="Calibri"/>
                </a:rPr>
                <a:t>Stylish templates can be a valuable aid to creative professional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3"/>
            <p:cNvSpPr/>
            <p:nvPr/>
          </p:nvSpPr>
          <p:spPr>
            <a:xfrm>
              <a:off x="2120400" y="4869000"/>
              <a:ext cx="485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 Black"/>
                  <a:ea typeface="Calibri"/>
                </a:rPr>
                <a:t>Stylish templates can be a valuable aid to creative professional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4"/>
            <p:cNvSpPr/>
            <p:nvPr/>
          </p:nvSpPr>
          <p:spPr>
            <a:xfrm>
              <a:off x="2120400" y="1700280"/>
              <a:ext cx="485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 Black"/>
                  <a:ea typeface="Calibri"/>
                </a:rPr>
                <a:t>Stylish templates can be a valuable aid to creative professional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4129"/>
          <p:cNvSpPr/>
          <p:nvPr/>
        </p:nvSpPr>
        <p:spPr>
          <a:xfrm>
            <a:off x="900000" y="6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617B-EB12-43DC-A9A0-44288415BD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5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07:4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03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