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ACF464-2737-4373-8BA0-7F5A43ADE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B3B77-EBBD-4426-B32B-A485F93F3B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2951E-8A87-4C07-A832-830B0C97F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E73CC-20C4-470E-8152-2C3BBBA48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74704-F46B-488A-957B-A863DB88C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3115B-646D-4141-8AFD-1B5D546F4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1C1BD-1FFD-471B-9CBD-310E06C46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A993A-C8DD-4FFC-B9CB-9224EAA5A1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BAC0C5-6D23-4BA8-A843-B8FD90554F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EC5F76-DDEC-4501-BF1B-0BABEBD522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7F850D-EA30-4A64-8961-ACBDBC3AB9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0C71B-73F6-4ACD-88FC-8A18843D73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A6918-29CC-4558-9B47-B1C852542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A4AF9-D573-4589-BC2F-92E12CFF2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5F384-8183-482D-8DC6-582A79D59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DB37A-E7AD-4FD0-88BB-86677AD41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6C870-CFA2-4611-8BCD-A53640C3A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849CE-0E4C-450B-BC4C-9696119C3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69A6E3-4839-4447-A9FE-9C60C199D6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9B7F8B-F760-455D-B732-375EEF6441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3BAE96-ED32-46B9-A98A-92264C24D9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8A7873-39DD-480E-BE7B-63C9232982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DB7B64-242B-437D-A6D8-7702FF62B7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887A38-58B7-40A6-BB61-EDCBFD73BD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9299C1-4B88-43DB-824A-D9EC41A162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8BD6C6-410E-432A-BDA2-0D83CD8CB4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0989B4-18F5-4B69-AD24-45B71FFCB5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DD7BC9-57CF-450C-84F2-F9D05C5A8F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771A9B-C193-46E7-BA1C-8F635E238E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7A011C-0F05-4E06-B21A-C0B407EEBD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9D7A8-ED2B-4F5E-8C98-EF7188A08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36A711-9296-4846-80A9-BADDE2E70F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FDC31A-D884-4FC6-A986-2EDC78F41F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4488AD-84D6-4C0E-98FF-CDE76E4334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50DE1A-1008-45A6-9514-34175EEFCB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C823A5-FF32-44BB-891F-C3B961C4F2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95F92D-A630-43B7-9D89-62FF997E03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AE269-B52E-4CA4-B5A9-762EECAB1A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030E22-FC48-41C6-AB29-93944EA546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E4285B-69DB-450D-902A-C820981DAB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01947C-BDF6-4A21-9067-5076EE0E69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B2060-2110-457D-B2E3-00C43B17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07EF4A-25B9-49A0-BDD7-D0CB98E773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3DC243-3D84-4F3F-ADD8-FA799C0191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4B3825-74C2-4BE4-9022-83F51FC4C5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B7F49C-50F8-4118-A91E-A1AC67B9E9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648DB8-36BA-447E-A4AD-61F74A8B50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1730AB-A6D6-4BAB-B724-4BF4EAC744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6B2506-5834-4904-872A-03CFD98189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C9DCCE-541F-449C-9566-C43392B0ED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8813B9-AFE6-42A6-BBFF-3BDE4D873D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A39174-834B-4132-B210-27F645362C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FF53-0BF0-4F5E-A245-7D715667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3225BE-3DE7-4BA2-A39B-5A026ED71B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6DC30-FEFA-48D1-B8B7-46FD9C6D76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705A31-DC46-4033-839F-EAB9628C58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2AED0A-B9A4-444E-88D5-D1EE72D549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24FFC0-4876-4ACB-B7F3-DBE7D696CE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814172-3168-47BE-A32A-796B92817D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A5EA58-D3BC-4B91-B283-A4F7AB59F3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FAF4-24F1-439E-BD0D-FC6A9EFB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217F-77EC-4AC3-8098-ACF479E8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605B-C761-44B9-8CE6-680D08FD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04090-359E-4F9E-AE8F-5689BE52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925D-F884-4C3B-948B-3FF225CD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1258-4488-4F82-84F5-823BB55B1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91C4-AA8A-4524-9009-53F13DDD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5DD94-4F88-4B51-B7BB-23F6AE72D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BEC63-92F8-4447-B852-65BDB7D2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D8040-1AF9-45EB-A7F3-F5BBF64FF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7C4CF-8ED2-4EB5-AE36-B20748495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ECE7B-E622-47A9-92EE-80244608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2B461-8981-4364-9F60-8A6CCA6B7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7E4ED-15F4-47F6-B4AC-C86F37EBE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96C1F-325C-4017-B356-593CA296B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494FF-3903-40DD-95D2-1728A98DC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BED1F-3A19-4FB1-9CA9-01778B30E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CB63-17D9-4D44-BCAB-D6E832E4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F28C-C203-440D-A45D-745EACA7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65210-FF0D-41A6-BA46-F9547FAFB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BB76D-AA8E-4A6E-A4BB-86140446A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22559-3F53-4780-8F3C-BF45D97992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DEE75-EB66-4338-ABFF-28330CCE7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848AF-8AA5-42A9-91B7-070BDC493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142C8-51BC-40FE-A1F2-9034A48166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F76B3-8E65-42CE-A773-1DA27B227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668C3-93CF-4D54-86BF-62E70C5F7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BCADB-8817-4A71-A38E-A098FEDB1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CB23E-1A74-49E1-AE2A-2F8C937F8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CB6AC-80AC-468F-A12E-C3E0AAC32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8EF81-C0AF-4276-AC7B-C56755B39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8B465-18A0-4774-9C82-A80C80269F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D5070-05B4-43B9-AB3C-599353060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07B07-8C8B-4012-8476-EB839F1EF7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4373D-0BF1-4A28-A994-CA564D3DF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29AF4-D6F6-47C3-B2F5-BC8A5ED99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60DD9-0FEE-4A5D-A895-3DDDF2D4A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AD229-D9FB-4CEC-93D5-0583975C5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EFD93-43C7-439A-B2F7-F7E31105F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1A8C5-5124-4396-B785-85D89C962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4F574-6967-49A1-AC87-C38F86256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CDAE1-FA26-498F-9EAF-47DAEA4AB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FE0F8-2336-42CE-85A7-7B23E1404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37DF4-BD7C-4367-BAF0-EE754DE25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31BDAC-17EC-4939-83A2-CC9A4CAFB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CEA2E-4BCE-4655-93E6-990A5499E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9D6F7-149C-46EE-82DA-0C3AB1175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5A5F2-F7C6-4EB6-8862-A9F033E88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B38B9-936E-43AA-B85D-489FC5334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1DC3A-D6B6-463D-9272-273D62572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B21A78-A531-44E5-933E-3322F8C24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AB435-555C-4437-8B0B-277BE761B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01544-98A6-488E-9498-E61A2D26D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4B532-094B-4FA2-94DF-4D37C8ECF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1E872-4779-4DA7-AC0E-924B22BD7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AF6D1A-AC0A-48BE-A66C-6CFC366EF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1436DF-E673-4B96-830B-CA3C13E3F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5C2B68-F286-4E81-B69D-E3241075AF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95A3A-AE24-44D1-B5B8-7B9AD169B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CD80A-D5C5-401F-B6C1-F27CCC8F7A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327F04-B311-4030-A1FC-AF8DA9DE9C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73C90-FF9E-4ACF-8595-E782EA089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B30E7-377E-4BD5-9A9A-7D21D1423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75E20-3718-459E-83CA-7C8AF0CFD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0B4D2-FF2A-4717-8DCC-8F21A435C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6B653-770D-4818-BED2-B0AAC4334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F299D-96C2-4F5A-916D-A2B479482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E8328-F26F-4773-9325-D920CF0D7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5D85FB-D701-485B-9575-EA64BD0AC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B69DC0-713B-4213-AC9C-B7B3AB9306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F9DFC-D7D5-4F40-A145-D49A072AE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41E2C7-CDA8-45DE-A741-3A3F0645B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9C78D-B906-4C63-80CB-F1825FB6A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8B6E3-272D-4E62-B775-CE3699F1B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78A75-7699-4BD6-9E6E-0ECF67C46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E4501-7AA1-476C-ADE8-C7BEE2DE8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E6280-BE4A-4F13-9400-63F58A04C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E2ABA-8D7B-4697-AA59-F5EE6D6F2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9203D-6ED6-437B-959D-1EC8E36A7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B12540-2444-4CF8-994A-ED2D1B446A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C5E7E6-6C8F-42CB-BAFB-6039F50FB7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17FE17-122C-4A58-918B-CB07CEF07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6C6C1F-1A87-455E-9ABC-64F3A2465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23F21-7AD2-44E5-AA99-A8060D2E75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ujytjnfbd"/>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E1D28620-E2A6-47E1-B6D2-951BFB8D09D9}"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685E-B3DE-4B8A-8796-6BEB375BB89A}"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37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7D2C-FF8F-449F-AECF-61333776DBF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8D54-FBB6-4E26-9652-A6EF9586599A}"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41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F70B-F491-4BC6-ACAA-29FE7E8B87D9}"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BBD1-DAFB-4654-9646-BD5C64E02F5B}"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45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19CD-5BA6-4B4F-B777-1385F9CA09F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55E6-F132-4D8C-B1F6-8A426A0F6814}"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9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A498-E894-417A-8948-B16BD9DDEB0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27BD-32D4-4A6F-8BF6-9042875C4B7D}" type="datetime">
              <a:rPr b="0" lang="zh-CN" sz="1200" spc="-1" strike="noStrike">
                <a:solidFill>
                  <a:srgbClr val="898989"/>
                </a:solidFill>
                <a:latin typeface="Calibri"/>
                <a:ea typeface="宋体"/>
              </a:rPr>
              <a:t>26/7/31</a:t>
            </a:fld>
            <a:endParaRPr b="0" lang="en-US" sz="1200" spc="-1" strike="noStrike">
              <a:solidFill>
                <a:srgbClr val="000000"/>
              </a:solidFill>
              <a:latin typeface="Arial"/>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A243-45ED-4FD9-A11B-A92822E02BFC}"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793A-8642-438A-A896-E6A6468253D1}"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9E93-928C-47C8-A581-60949A08027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7237-7492-49E0-9BDE-A24B8474BBC1}"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12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42EE-53B9-48E8-A5E9-78AC43F583A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44F9-E15F-4098-892C-F91C1F32222A}"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16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F915-29DD-4CF0-AF84-3A6EDD25FA4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D373-254A-49D3-A7DC-5A7CF1C630EC}"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20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2746-B422-4EED-8EC2-41D87859B9C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22D5-664E-4B8F-82EF-7F871DAD0AAC}"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24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A9AE-A093-49A7-B621-8F963F02F8A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3C48-5EE0-47FB-B910-2BC0598F8F61}"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28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1778-2931-4965-8189-305A90445AF4}"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E466-6B58-4DE7-8BCE-793F4E29B1BB}"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32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6D2E-4C44-4134-B124-6DADE670E9FC}"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hyperlink" Target="http://www.powerpointstyles.com/" TargetMode="External"/><Relationship Id="rId17" Type="http://schemas.openxmlformats.org/officeDocument/2006/relationships/image" Target="../media/image2.jpe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532" name="Picture 3" descr="zertbtyyoiu"/>
          <p:cNvPicPr/>
          <p:nvPr/>
        </p:nvPicPr>
        <p:blipFill>
          <a:blip r:embed="rId2"/>
          <a:stretch/>
        </p:blipFill>
        <p:spPr>
          <a:xfrm>
            <a:off x="0" y="0"/>
            <a:ext cx="9144000" cy="6858000"/>
          </a:xfrm>
          <a:prstGeom prst="rect">
            <a:avLst/>
          </a:prstGeom>
          <a:ln w="0">
            <a:noFill/>
          </a:ln>
        </p:spPr>
      </p:pic>
      <p:sp>
        <p:nvSpPr>
          <p:cNvPr id="533" name="Text Box 4"/>
          <p:cNvSpPr/>
          <p:nvPr/>
        </p:nvSpPr>
        <p:spPr>
          <a:xfrm>
            <a:off x="4874760" y="3209760"/>
            <a:ext cx="3452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圣诞球</a:t>
            </a:r>
            <a:r>
              <a:rPr b="0" lang="en-US" sz="4000" spc="-1" strike="noStrike">
                <a:solidFill>
                  <a:srgbClr val="ffffff"/>
                </a:solidFill>
                <a:latin typeface="时尚中黑简体"/>
                <a:ea typeface="时尚中黑简体"/>
              </a:rPr>
              <a:t>PPT</a:t>
            </a:r>
            <a:r>
              <a:rPr b="0" lang="zh-CN" sz="4000" spc="-1" strike="noStrike">
                <a:solidFill>
                  <a:srgbClr val="ffffff"/>
                </a:solidFill>
                <a:latin typeface="时尚中黑简体"/>
                <a:ea typeface="时尚中黑简体"/>
              </a:rPr>
              <a:t>模板下载</a:t>
            </a:r>
            <a:endParaRPr b="0" lang="en-US" sz="4000" spc="-1" strike="noStrike">
              <a:solidFill>
                <a:srgbClr val="000000"/>
              </a:solidFill>
              <a:latin typeface="Arial"/>
            </a:endParaRPr>
          </a:p>
        </p:txBody>
      </p:sp>
      <p:sp>
        <p:nvSpPr>
          <p:cNvPr id="534" name="文本框 14340"/>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078160" y="189000"/>
            <a:ext cx="169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ea typeface="宋体"/>
              </a:rPr>
              <a:t>First Page</a:t>
            </a:r>
            <a:endParaRPr b="0" lang="en-US" sz="2400" spc="-1" strike="noStrike">
              <a:solidFill>
                <a:srgbClr val="000000"/>
              </a:solidFill>
              <a:latin typeface="Arial"/>
            </a:endParaRPr>
          </a:p>
        </p:txBody>
      </p:sp>
      <p:sp>
        <p:nvSpPr>
          <p:cNvPr id="536" name="Text Box 3"/>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4924800" y="18900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ea typeface="宋体"/>
              </a:rPr>
              <a:t>Second Page</a:t>
            </a:r>
            <a:endParaRPr b="0" lang="en-US" sz="2400" spc="-1" strike="noStrike">
              <a:solidFill>
                <a:srgbClr val="000000"/>
              </a:solidFill>
              <a:latin typeface="Arial"/>
            </a:endParaRPr>
          </a:p>
        </p:txBody>
      </p:sp>
      <p:sp>
        <p:nvSpPr>
          <p:cNvPr id="538" name="Text Box 3"/>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539" name="文本框 16387"/>
          <p:cNvSpPr/>
          <p:nvPr/>
        </p:nvSpPr>
        <p:spPr>
          <a:xfrm>
            <a:off x="3492360" y="981000"/>
            <a:ext cx="503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AF63-20E8-4E2E-B8E7-5474CE149DF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7"/>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Arial"/>
            </a:endParaRPr>
          </a:p>
        </p:txBody>
      </p:sp>
      <p:sp>
        <p:nvSpPr>
          <p:cNvPr id="545"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6"/>
              </a:rPr>
              <a:t>Free Powerpoint Templates</a:t>
            </a:r>
            <a:endParaRPr b="0" lang="en-US" sz="1800" spc="-1" strike="noStrike">
              <a:solidFill>
                <a:srgbClr val="000000"/>
              </a:solidFill>
              <a:latin typeface="Arial"/>
            </a:endParaRPr>
          </a:p>
        </p:txBody>
      </p:sp>
      <p:pic>
        <p:nvPicPr>
          <p:cNvPr id="546" name="Picture 3" descr="zertbtyyoiu"/>
          <p:cNvPicPr/>
          <p:nvPr/>
        </p:nvPicPr>
        <p:blipFill>
          <a:blip r:embed="rId17"/>
          <a:stretch/>
        </p:blipFill>
        <p:spPr>
          <a:xfrm>
            <a:off x="0" y="0"/>
            <a:ext cx="9144000" cy="6858000"/>
          </a:xfrm>
          <a:prstGeom prst="rect">
            <a:avLst/>
          </a:prstGeom>
          <a:ln w="0">
            <a:noFill/>
          </a:ln>
        </p:spPr>
      </p:pic>
      <p:sp>
        <p:nvSpPr>
          <p:cNvPr id="547" name="Text Box 4"/>
          <p:cNvSpPr/>
          <p:nvPr/>
        </p:nvSpPr>
        <p:spPr>
          <a:xfrm>
            <a:off x="5672160" y="3209760"/>
            <a:ext cx="1857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谢谢观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www.eeppt.com</dc:creator>
  <dc:description>幻灯片之家：www.eeppt.com</dc:description>
  <cp:keywords>幻灯片之家：www.eeppt.com</cp:keywords>
  <dc:language>en-US</dc:language>
  <cp:lastModifiedBy>pc</cp:lastModifiedBy>
  <dcterms:modified xsi:type="dcterms:W3CDTF">2016-01-24T03:32:01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