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9C11-4EE0-4F7B-A5F0-3A4CFEDB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BFCC-5089-4AC7-BE12-B1E26D89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36FF0-7B52-45F5-820B-C1BD8044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86613-A343-4873-A52B-9BF4F6E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1B45-0657-4125-B125-01E67A92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0E3FF-DC75-4E26-83BC-4AC61DB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BBBB0-E141-423D-A66E-8C1A0CA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94F6-A965-4D14-814E-62EC11A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DD4B6-E0AD-497B-8D73-4341894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250CB-8D3E-416A-9A28-FC6FE622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92CFA-67B4-4F36-9910-45775BA5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CA39E-6BEC-4BE4-A5FD-EEA3B242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5F0C-79AE-4038-A076-C47F4A6E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B9577-A5B8-4B0E-9FEF-44489859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DE3FD-6498-4BDD-9F71-3041AA87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A95F0-BC4A-4612-B18B-EC3C288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DBB42-8BEF-420B-BAD0-869FD3E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F1A0A-18D8-4D4C-9AEA-53308820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E2FD-17AC-484D-879B-4F58478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E628-7EF6-44FC-ACF2-F8B9AA1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59463-1EEF-487F-B12A-97A64B4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F83CD-E253-4B61-98F4-B8E55F1E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33502-BA2B-4B0E-B231-1722E7B6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6929-9745-4DA9-B069-03D66BDD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8C3D4-0CE5-445D-8A4A-A5BD3BFA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46DF5-1AF4-4568-AA65-203ECDF3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DD27-F188-4DAC-AA6E-8E93C23F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141E7-382E-46F8-A004-E6B2F22A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01064-EFA4-47AC-A004-CC66D9A6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3941A-E599-4013-9F67-D4004014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E0788-74EE-499C-9B0A-BAC1DD96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26DBF-358C-49A2-B265-42FC35F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D4DFB-DABA-43E1-BF77-FF1CB53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B380B-8290-4972-A9AA-F3FD152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AB0D6-07D1-45AC-950A-7ADF64C2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3A451-CEAB-40BC-88C1-3BF5B3F0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3300-580F-41D0-ABF9-DE93C18C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9CED6-F546-4527-8BE8-3AEE2B0C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8B838-6130-4C69-A2BC-3FE0CEFA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1F652-7AA7-465A-B230-07967579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EAB66-BC4B-4B1E-BD3F-4F7C876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1A29-9E13-46BA-92F1-C6F6573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AC692-91C2-4778-8D35-7F13C834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EC176-9123-4FE6-9E00-B186DFAD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5DDDE-9196-46C0-A118-9FC7609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BF3DF-3E08-4192-A52F-351F220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D535C-482E-4BC9-BA2B-BCE4DE6F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C09E6-0083-46C0-9690-205D26A0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B57AB-8F25-4FEF-BE71-4E02563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10136-B913-4E9A-A68D-BDECE2BE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A1BAE-2C8D-4DBD-9C08-80C1216A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A0470-B78A-4466-A581-E7D19E36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74000-EF8D-4F0E-8F5C-25F0B22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4293-FDEB-4D0D-A27E-5E38196D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80F6B-A951-495C-B1FF-4ADC956F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3867C-ED65-4518-AC87-C58D824C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71241-F149-4994-BD92-5C421C8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B7FF8-A7C5-470C-8304-D65A977E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B9BC1-CF4E-41D2-BC8E-268902C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B4CCF-D27E-41C5-830A-AAC164EB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D067C-6DB3-43AA-B11A-A34B20A5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11551-F82A-4A4D-AE4A-A8DA843B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BAC58-EA7E-42CD-8E25-507C6BA4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221B6-5531-449F-9C7A-8ED1A10E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C4D4B-BD72-4EB5-B618-D2380B55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1AA69-E790-4130-9CCB-2EE2653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9E628-94EB-41A5-9286-1C0C419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0E7F-62FB-49D1-8444-9F61E8B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D7ED5-20C8-49D2-BDAE-36B8DEE3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679CC-DD6A-4DCC-B10A-38EE0AA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1801E-A461-4758-A538-466BC30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14531-9255-4968-ADF6-D9EF403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1B349-A2EC-4ED3-ADC0-58205138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7771C-EB25-4C5A-91FE-CE901603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B1856-20DD-4E9D-AFEB-F836F7D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34557-4BC2-49AF-999B-838DEBF5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0BD08-8135-4091-B15A-488B35CA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903B3-66D1-4799-915B-C1C352F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3755-4C00-4D92-93AF-3F46EFB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00C36-C363-4E60-A9BA-CCA4CFD6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9107-A8AF-4519-AEBC-1AF94B72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3C0BC-1C5B-4BE0-964F-B446294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58EB-3BF1-4337-A79E-B2BFA3B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7356-2D50-48F2-BF6D-CCD2C4A1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8390-4963-4C26-B098-DD10E1DE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59248-D45D-4333-A3EF-FFA5C40E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3F12-6137-4A4B-A00E-504B76E0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9A5E-8ABA-46C7-A9E3-4C2360B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9902-C03F-44B9-AEF5-4C00281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5265-9963-4C71-AA97-278D539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8EF9-0117-4F86-9DE8-5F961F5F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6B2B-A9CD-4374-B2B7-622F8CA8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1969-9D48-4A18-89C7-66A2DD3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2937-50F3-4EB5-AA95-F779D97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EDA7-D320-4F18-9366-84A28F01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1901-40ED-4CAC-9E6E-668F453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8557-6270-4BB4-BD64-C00EDB73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71F2-3B84-40AD-8F37-B27692A8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A6FCD-E217-4F18-94BC-F40448A3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DFAA-E11A-4F25-98DC-4584CB57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572F-8FC9-4ABA-9A8C-9337F9B5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7E81-F412-4C8C-8FFA-2CFE80CC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B5F5-94EE-479E-B75D-6513E6AA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2D7EB-F0CB-4E08-A033-DB36F7D0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CF1D-986C-46E6-ABB7-53C82C6A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DA16-5D85-429C-8EED-EA5AEDE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9F06-B7A9-4DEC-BE80-41D3C86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8D15-1566-47E1-BB25-2EF4262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1BD7-1946-4916-8B59-29AA10D1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C923-F86F-4B4B-BC83-1F26AF7F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3E95-2636-4B1B-9F8B-CF35BDFA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435D-C544-4178-8BD2-F07818E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79A07-32ED-4E42-8E85-A7BD72B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0F68-4F43-4374-B723-45A09A4E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735D-EC9E-4C2B-8C39-94278A4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7598-42E1-4834-9DA8-66449F09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6251D-BB39-4FD9-BA83-08A30D8F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ED01-FCFB-4D1C-A138-77C703B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2666-4A04-4CC5-B77C-2D8398D0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54B0-6C47-411F-96D1-EB5E309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5A6C-A319-4ADA-AABF-9078800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37BD-DE19-46B6-87A6-5493E93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4117-8E1F-4965-9891-93AE513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B33D-19C4-491A-92C1-FADCC224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A129-7A57-47D4-B210-4300C72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81CC6-2D98-4DE9-A65D-CE6DDE4D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0A42-D93B-475D-AABA-A67D8BE4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B539-4B4B-4281-BA3A-3706D103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6BF2D-9C76-400F-B2C8-E7B7962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FBBB2-19D6-442E-BA9D-93218B0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48EE0-5808-4F51-BD7F-56D7D58C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00F0-0423-437B-9C96-1F3830C4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9B03-A78E-4415-9A05-D1DA6EB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4D77D-D7F5-45DB-8649-10CE11F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275C0-2E25-4A9B-9D3D-A825FA5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3263-83E7-4B54-82AD-7BD1650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4050-2974-4C86-BA72-4E01B89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01C0D-6A83-4146-AD4B-2CC3F589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21AC-057D-455C-9CCC-AC4FA7F9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B9A3-8064-4BFB-842C-EAB8D139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B7F2D-D414-4326-88B3-FD2C7312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5929-E367-4C50-A9A3-A5E04B0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D6C8-13AC-4805-AB4F-CF729D3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A86D-43C2-49EC-B4BF-3821B28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384B6-DE27-4B3D-B09E-4727F14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7645-15C3-4058-B6EA-204D3F0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2E19-8B43-4066-8FE3-04F97CEB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40F7-C14D-49E6-A11B-A84E2FE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2F16F-281E-4E30-BAFE-625709ED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1211-5E71-44DB-B548-398AA57F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DC05-FF6D-4686-8F18-163515F9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1A05-2B18-4DD2-AD45-29E1D885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45043-FAA9-4FA3-8803-215F81E4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533FF-3347-4F0B-8150-643ABD2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3BB5-ECDD-4E76-924D-36D3A5CF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5F1A5-55B7-47FB-B3F9-C43DDB14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8969-B331-4639-B3AE-D42A9648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322D-893E-435D-B361-9B2695A0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67AEC-64C4-4CC7-A9C3-5EC88F38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47FBA-F0B8-47BC-A579-C43E84E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2C15-F81E-41E1-9999-2DE0629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0C77-85DE-438F-82A3-905ECC31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550E-0ED5-438C-BDD4-8A34ACE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94B52-8B89-471F-BF2C-10281C34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36CB-3CE5-42A9-99DE-8B7DFA5C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778C4-ECAB-4C10-9763-2F1C0821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6C168-87BE-4F7B-970D-D2295E78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1962A-B931-4394-9A86-E1F0AAF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23E4-9E27-48B3-9512-6877AFA512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48C3-ABAE-4E03-B48B-B6EC60DC64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DD6-D19F-422C-9467-2C86F42F32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43B4-637B-4E68-81E1-5F8F72E045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7E1D-4363-478B-BFEB-B94C1157A1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74B-BE64-4A91-8C1A-5384BF52AE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75D-0548-4126-869A-063A6B96027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72A-3A3E-4CA2-BDAF-9DDC095BAA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846A-2F52-4D6D-9F9F-A3CECFDB49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E05D-460D-42E3-B188-EB2EFE70E5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C86-6161-4471-8F1F-9693132509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CE2-2B63-4BCF-B8BD-4FF4126DA4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83BF-E9B8-45EF-B916-C59D50370815}" type="datetime">
              <a:rPr b="0" lang="ru-RU" sz="1400" spc="-1" strike="noStrike">
                <a:solidFill>
                  <a:srgbClr val="ffffff"/>
                </a:solidFill>
                <a:latin typeface="Arial"/>
                <a:ea typeface="宋体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1AA-7C7D-4013-A8DD-A2A8BCEC2CF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BC8-760D-45C2-A90A-1E1A2FDF0A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E2BD-8A0F-4A9E-9CF7-0A60EEFFB4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C0AE-A804-47B3-AF9D-5E3EE5A7F21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31D-4E8F-465D-A1A0-088BCDC8B0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0717-FF71-4FFE-8DC8-C1B651DDCD4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A164-4119-4E9E-955B-EFF3F6F80D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6A70-AB9C-496C-A6DC-C8D2A91A45D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AEE5-6C6F-4DF6-B36A-0DDC2D97B4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E23D-5E0C-4A3B-9F70-FB21569C43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D98-71E4-4187-AA06-45A92562AA9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8913-8C84-4360-9716-99ACAEE03F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315-AC2F-4754-BBCB-F6B8667E23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D44B-1F8B-4802-9DC5-BBBC6F881C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E6ED-8F3C-4A62-91C3-BE904F2612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0920" y="1125360"/>
            <a:ext cx="684216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3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圣诞夜晚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文本框 15362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sketbal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9" name="文本框 17411"/>
          <p:cNvSpPr/>
          <p:nvPr/>
        </p:nvSpPr>
        <p:spPr>
          <a:xfrm>
            <a:off x="900000" y="1989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47d79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47d79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4ED7-18F9-4010-8E6D-40FDA62F48F1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0920" y="1267920"/>
            <a:ext cx="640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 Script"/>
                <a:ea typeface="宋体"/>
              </a:rPr>
              <a:t>Merry Christmas </a:t>
            </a:r>
            <a:r>
              <a:rPr b="1" lang="zh-CN" sz="3600" spc="-1" strike="noStrike">
                <a:solidFill>
                  <a:srgbClr val="ffffff"/>
                </a:solidFill>
                <a:latin typeface="Segoe Script"/>
                <a:ea typeface="宋体"/>
              </a:rPr>
              <a:t>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7Z</dcterms:modified>
  <cp:revision>9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