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AA3-A454-4669-B862-7FEC54AE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B5C4-101F-433C-9D57-92C6F989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DDFF-10AC-47D6-BF9F-05F647AD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F0DB-F054-4199-BF19-49A08A2B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906C-4581-4304-A9A8-501BFE2D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5FD8-6826-4008-B527-0F0133F4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A661-20D4-4A2D-A45D-59C85345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951B-DED1-4624-8AC7-2A69138C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66DF-D351-468C-802E-EDB5E801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5B27-07F5-43A4-8C9E-40F76B61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CB58-C5B8-416B-8408-889BCDD8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5FF3-2058-4EFF-AA5B-C984F44B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5E94-8F74-4FD1-B9BF-3CDABF59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62CE-5E27-4C87-A4BF-A5E6A5EE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2949-8A20-4461-B7F8-1A0DF266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A5EF-60D7-4195-B8A5-335FDE5E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15F3-6CAE-485F-B11D-B1874420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6365-3938-4962-821C-B1356DC6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CC13-2DA2-4DC2-BD79-53704953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EA37-8724-4A8A-9E2B-3B25F804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8ED1-AFB0-4886-B707-35B18E22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D3C1-D567-45E5-8427-FA9B2E9E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67E-B9BD-4690-B917-819B72B0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43C-3F1A-4725-8417-DC224B27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BCEB-EA6F-4980-A72D-68340F4D35D5}" type="datetime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9B5F-4079-4A98-B505-A75EC9B9DDE4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FE35-6259-4D2C-8EB8-9DBF249D10B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A2F6-349E-4FF5-BABB-B399371DDD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95748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  <a:ea typeface="宋体"/>
              </a:rPr>
              <a:t>Name of Presentation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4498560"/>
            <a:ext cx="64008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  <a:ea typeface="宋体"/>
              </a:rPr>
              <a:t>Company Name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6" name="文本框 7171"/>
          <p:cNvSpPr/>
          <p:nvPr/>
        </p:nvSpPr>
        <p:spPr>
          <a:xfrm>
            <a:off x="34920" y="4732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文本框 7172"/>
          <p:cNvSpPr/>
          <p:nvPr/>
        </p:nvSpPr>
        <p:spPr>
          <a:xfrm>
            <a:off x="2531880" y="196920"/>
            <a:ext cx="51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适合厨师自我介绍的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050560" y="206280"/>
            <a:ext cx="66358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  <a:ea typeface="宋体"/>
              </a:rPr>
              <a:t>Title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050560" y="1200240"/>
            <a:ext cx="66358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  <a:ea typeface="宋体"/>
              </a:rPr>
              <a:t>Lorem ipsum dolor sit amet, consectetur adipisicing elit, sed do eiusmod tempor incididunt ut labore et dolore magna aliqua. 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50560" y="206280"/>
            <a:ext cx="66358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  <a:ea typeface="宋体"/>
              </a:rPr>
              <a:t>Title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050560" y="1200240"/>
            <a:ext cx="66358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  <a:ea typeface="宋体"/>
              </a:rPr>
              <a:t>Lorem ipsum dolor sit amet, consectetur adipisicing elit, sed do eiusmod tempor incididunt ut labore et dolore magna aliqua. 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2" name="文本框 9219"/>
          <p:cNvSpPr/>
          <p:nvPr/>
        </p:nvSpPr>
        <p:spPr>
          <a:xfrm>
            <a:off x="1547640" y="35082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6D1A-820F-481F-ADA0-21337E6EBB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206280"/>
            <a:ext cx="74883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  <a:ea typeface="宋体"/>
              </a:rPr>
              <a:t>Title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8000" y="1200240"/>
            <a:ext cx="74883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  <a:ea typeface="宋体"/>
              </a:rPr>
              <a:t>Lorem ipsum dolor sit amet, consectetur adipisicing elit, sed do eiusmod tempor incididunt ut labore et dolore magna aliqua. 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3T22:18:16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4:47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