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1E2B-EF3E-414E-80B0-3D9952FE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3676-BA49-4B52-85EA-22F1D4B2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2154-EBF0-4954-A89E-A61E33844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361D-EF37-40D5-8095-9A0923EA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FB20-6A86-405E-9C73-83E9AD40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A9CD-B8FD-4BE4-B799-94970E8B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EE26-0A02-4B86-8CB8-8BECFFD7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C69E-4CF7-442E-B2D7-ACAC1F08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4F04-5609-4FE8-920E-A8ADC4F3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3E3A-4D1B-4642-8319-571E6EB0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E62D-D661-421C-BAB5-D11F8FA6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BD1C-0841-42AD-AED8-53D71CE9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5A8E-3EA2-4467-8275-9604F293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197E-29AC-41CD-9CA1-3AB99918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523B-303A-4936-A967-04A6AB2D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E466-A9AF-4540-8F2C-961924A5C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0B83-D5CF-4D4E-8D83-9D986C10C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EF40-9DDC-42B5-A9AB-3AC133B1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1846-19D6-4225-826B-0FA39A0C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BFE6-DB44-40E8-B4C1-B15AD08B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680B-05B3-46D6-9EFC-61487A8B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2283-6053-401C-BEBA-2BE0B4D8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C746-8A92-46CA-953F-A39C9508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7282-903D-47E0-9D38-F9DB24BD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544C-3183-4912-89AF-09E606429E9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2E13-AEB8-44C6-BB3C-7821A53FD4B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15AB-E96C-43F8-BD36-4F682AE9BA6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4"/>
          <p:cNvSpPr/>
          <p:nvPr/>
        </p:nvSpPr>
        <p:spPr>
          <a:xfrm>
            <a:off x="822240" y="11736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矩形 5"/>
          <p:cNvSpPr/>
          <p:nvPr/>
        </p:nvSpPr>
        <p:spPr>
          <a:xfrm>
            <a:off x="6575400" y="328680"/>
            <a:ext cx="7858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7577280" y="404640"/>
            <a:ext cx="45072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7"/>
          <p:cNvSpPr/>
          <p:nvPr/>
        </p:nvSpPr>
        <p:spPr>
          <a:xfrm>
            <a:off x="5583600" y="328680"/>
            <a:ext cx="366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模板适合用于制作与爱情有关的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3078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3079"/>
          <p:cNvSpPr/>
          <p:nvPr/>
        </p:nvSpPr>
        <p:spPr>
          <a:xfrm>
            <a:off x="1307880" y="18900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适合情人节使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版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59CB-AA23-43BA-8BB7-69FEEC793E1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文本框 4097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6T00:32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4:49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