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D19-B649-4FFE-B50D-D23E968A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55F-AF86-4987-84E8-76785D11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232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713-ABDC-4406-9A63-2E1FFBA6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772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16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772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16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79E0-43A6-4968-9D36-A4BF038E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9241-45C2-4BDF-9FFE-154ABE0C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CDA3-3753-40A4-B335-8B34BC9C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6B38-5D86-47F2-89B0-3418F948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78C4-5F0D-42A9-8EF6-D80C0D59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10B3-D844-4072-9C20-C98916E0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C04D-22EE-462F-A332-9ED83D58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C790-912F-4339-BA78-8B721446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802D-F0E0-44CA-968B-F2D585A5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1232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67E7-1637-4D3A-A88B-510AF845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EB3C-6915-4E94-8CF2-A3BD1FE2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6BC6-17E2-454D-90AE-3C003C8D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1232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BDAE-3307-4CC7-853D-97591B72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772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016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772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016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4CA5-0745-4245-B693-7E99A4DD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4B3A-6CE7-433B-8F0D-0AF68AE5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8F933-9CC1-4E3C-811D-89F4698A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B9C95-8166-4D09-9E74-9ACF434B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9F6E9-8AD0-4E1D-8FB1-37D8C4F4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3D2F2-BFEA-4E9F-AC59-7AFEA95C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7BF-654C-4343-A1DB-E13C2891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8B80-F1FF-4A88-A679-01E9389D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81564-B56C-4840-B0A1-769269C7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1232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E714-A6E6-4918-AE64-B674CF60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3DD7C-7315-43F8-ADA0-C0877BC6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9528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58AF-B34A-4DFC-9E75-1457FC5E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1232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F1DF-2FB8-4D0A-9A7C-78ADA8EBF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772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016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9528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772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016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A7CCF-0818-4089-BB40-8DE23096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01AD-7855-4A6D-A09F-21EDA06F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94CA-1DE0-4CA4-8FA0-2DC58066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DF8-9538-4D7E-92A2-3E9A093B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630-F3F9-40A1-B4A3-14D80547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232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584-01D5-466F-BC6E-8EBB4858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232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E83-5298-4483-A90D-B073AC3A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06DC-6C7F-4950-A681-A00F6FF35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E9BC-D2E0-4579-94F1-F7093EB858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5625-D63A-4D7E-82E3-AA165095E7E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F056-CADF-4E22-9B7D-11A85C1E2B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098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2298600" y="4046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水墨树创意植树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PMingLiU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5122"/>
          <p:cNvSpPr/>
          <p:nvPr/>
        </p:nvSpPr>
        <p:spPr>
          <a:xfrm>
            <a:off x="682560" y="314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57BA-6229-4788-B7A2-77057B6F5B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7:13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3:25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