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522-7183-4F76-BDE5-0FD64965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118-93D2-40FC-9034-E7B10BC1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99F-B4E1-4D3E-9AE4-EB4485D7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C36-8434-4801-B6B4-2C016D9B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F816-1D80-4DE7-9CD6-4FE60570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E0C8-CFD4-468E-8AB0-751FB7FF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51E4-4C86-498E-BA62-B5ED21DF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541A-AA5B-46C9-A525-860D833B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2322-F1A3-468F-8022-0161D6CD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3215-64AE-43F0-9C11-DB279B16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1FAF-B011-4CA2-B187-498CF43F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839-FC33-4A37-92CD-7E15C1A4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5690-AAE0-4DB0-811E-17EF2065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C2BD-E7AC-4FAF-BD4F-22130300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6840-A1EA-482F-818E-0A14EB36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BF2A-74BD-4751-BE97-E1B5F9F3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9B9F-F266-43DC-AE0A-D985998B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25D-6D20-4122-8453-62F19781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8C2-7F0E-472E-A068-735F3309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730-E52B-440A-858D-1DE114AB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043-DD5E-4045-A464-B383BCEC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63A-62F8-4B3F-B89F-9C33074B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F81-0A44-4CBE-83C9-3453D26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6DD-3B23-43B6-ACC1-FCA2C0D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1FE9-64FA-44E6-8D76-37B501B40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93A2-761F-4AF7-9CB4-0C096CA7426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E753-4B31-4B4C-B9D7-79E9DE07D2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1979640" y="177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26720" y="17017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手捧空花盆的孩子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862280" y="1197000"/>
            <a:ext cx="5982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盆     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芽    煮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并     宣    盛    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丝     表    </a:t>
            </a:r>
            <a:r>
              <a:rPr b="1" lang="zh-CN" sz="5400" spc="-1" strike="noStrike">
                <a:solidFill>
                  <a:srgbClr val="99cc00"/>
                </a:solidFill>
                <a:latin typeface="Arial"/>
              </a:rPr>
              <a:t>要     没    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08000" y="803160"/>
            <a:ext cx="88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手捧空花盆的孩子是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73240" y="352728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他为什么会捧着空花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12120" y="1413000"/>
            <a:ext cx="145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十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心地培育花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十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兴地来到校园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045160" y="4292640"/>
            <a:ext cx="56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十分”可以换成什么词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200"/>
          <p:cNvSpPr/>
          <p:nvPr/>
        </p:nvSpPr>
        <p:spPr>
          <a:xfrm>
            <a:off x="755640" y="5445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918080" y="765000"/>
            <a:ext cx="5142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个叫雄日的孩子，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用心地培育花种，十天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去了，一个月过去了，花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里的种子却不见发芽。雄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又难种子施了些肥，浇了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。他天天看啊，看啊，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子就是不发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579E-EBED-46E4-8D91-295AD36FBD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460600" y="27813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国王为什么选雄日做继承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4:11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33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