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songshu.WAV" ContentType="audio/x-wav"/>
  <Override PartName="/ppt/media/image5.gif" ContentType="image/gif"/>
  <Override PartName="/ppt/media/image6.gif" ContentType="image/gi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AE4E-820A-45C6-8A27-5C89CCE2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184-8EAF-4CC3-B8EE-36BECDE0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97E-FC1B-40EE-B6F2-994D2B4C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3B17-45AA-4FB2-8619-5D336AB0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EEB9-13B7-4253-AB65-AB70921E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725E-2D46-48A2-AF64-60C49F5D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8827-65BA-469E-B180-58DFA2C3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0F6E-BED9-4167-B870-7526EDF3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1312-4F56-4BE5-9560-12643397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42CE-78F5-4708-9133-62B09EBA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760F-0AD2-4512-88E8-CE809B4F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B52-C756-4E2D-A4AF-1EE1A252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C853-2CB9-4EAB-9CB6-2428A751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36DE-E51D-4E19-8110-422033D9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16B1-E6B3-4301-BF8D-F6F080D9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2B15-414B-49FD-9990-92E9220A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E0A1-C0E0-4E8B-8AC5-22028F70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2D4-497D-4201-A8E9-4CBF3311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707-CE39-4A26-AEF5-C522DA03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2CA-F9A9-4829-A4EB-B379434C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5BE0-7245-473E-9254-2B7C954D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831-B7CD-49F7-9DC1-A2980D83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B68-B544-41C5-9A50-CBAD1A64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0AC-B054-4644-B1B1-9FD687CF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F20F-4FF6-4711-A8DE-2D237174E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82C1-6990-4361-9B82-512BBDFB516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CDCE-EDEF-4E95-B94E-B0C9623C58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-1,-1,NEXT" TargetMode="External"/><Relationship Id="rId3" Type="http://schemas.openxmlformats.org/officeDocument/2006/relationships/hyperlink" Target="256,3,&#24187;&#28783;&#29255; 3" TargetMode="External"/><Relationship Id="rId4" Type="http://schemas.openxmlformats.org/officeDocument/2006/relationships/hyperlink" Target="264,9,&#24187;&#28783;&#29255; 9" TargetMode="External"/><Relationship Id="rId5" Type="http://schemas.openxmlformats.org/officeDocument/2006/relationships/hyperlink" Target="265,10,&#24187;&#28783;&#29255; 10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265,11,&#24187;&#28783;&#29255; 11" TargetMode="External"/><Relationship Id="rId2" Type="http://schemas.openxmlformats.org/officeDocument/2006/relationships/hyperlink" Target="267,12,&#24187;&#28783;&#29255; 12" TargetMode="External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songshu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2"/>
          <p:cNvSpPr/>
          <p:nvPr/>
        </p:nvSpPr>
        <p:spPr>
          <a:xfrm>
            <a:off x="1917720" y="297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线035"/>
          <p:cNvPicPr/>
          <p:nvPr/>
        </p:nvPicPr>
        <p:blipFill>
          <a:blip r:embed="rId1"/>
          <a:stretch/>
        </p:blipFill>
        <p:spPr>
          <a:xfrm>
            <a:off x="0" y="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"/>
          <p:cNvSpPr/>
          <p:nvPr/>
        </p:nvSpPr>
        <p:spPr>
          <a:xfrm>
            <a:off x="0" y="838080"/>
            <a:ext cx="9144000" cy="6019920"/>
          </a:xfrm>
          <a:prstGeom prst="flowChartProcess">
            <a:avLst/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62120" y="1981080"/>
            <a:ext cx="1199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课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966960" y="274320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课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762120" y="3581280"/>
            <a:ext cx="1199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762120" y="4419720"/>
            <a:ext cx="1199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扩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900000" y="1052640"/>
            <a:ext cx="76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松鼠和松果</a:t>
            </a:r>
            <a:r>
              <a:rPr b="0" lang="en-US" sz="4000" spc="-1" strike="noStrike">
                <a:solidFill>
                  <a:srgbClr val="ff505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447920" y="2133720"/>
            <a:ext cx="450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森林的重要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094480" y="3124080"/>
            <a:ext cx="6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松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天使"/>
          <p:cNvPicPr/>
          <p:nvPr/>
        </p:nvPicPr>
        <p:blipFill>
          <a:blip r:embed="rId3"/>
          <a:stretch/>
        </p:blipFill>
        <p:spPr>
          <a:xfrm>
            <a:off x="228600" y="198108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天使"/>
          <p:cNvPicPr/>
          <p:nvPr/>
        </p:nvPicPr>
        <p:blipFill>
          <a:blip r:embed="rId4"/>
          <a:stretch/>
        </p:blipFill>
        <p:spPr>
          <a:xfrm>
            <a:off x="228600" y="289548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8200"/>
          <p:cNvSpPr/>
          <p:nvPr/>
        </p:nvSpPr>
        <p:spPr>
          <a:xfrm>
            <a:off x="3060720" y="6453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000228.avi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6172200" cy="457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俺就是奇奇玩"/>
          <p:cNvPicPr/>
          <p:nvPr/>
        </p:nvPicPr>
        <p:blipFill>
          <a:blip r:embed="rId2"/>
          <a:stretch/>
        </p:blipFill>
        <p:spPr>
          <a:xfrm>
            <a:off x="501480" y="504720"/>
            <a:ext cx="652680" cy="766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tree"/>
          <p:cNvPicPr/>
          <p:nvPr/>
        </p:nvPicPr>
        <p:blipFill>
          <a:blip r:embed="rId3"/>
          <a:stretch/>
        </p:blipFill>
        <p:spPr>
          <a:xfrm>
            <a:off x="1371600" y="5791320"/>
            <a:ext cx="709128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F02A-761F-48BA-8664-A6FA621C63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000182.AVI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029200" cy="3886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tree"/>
          <p:cNvPicPr/>
          <p:nvPr/>
        </p:nvPicPr>
        <p:blipFill>
          <a:blip r:embed="rId2"/>
          <a:stretch/>
        </p:blipFill>
        <p:spPr>
          <a:xfrm>
            <a:off x="1371600" y="5791320"/>
            <a:ext cx="709128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3"/>
          <p:cNvPicPr/>
          <p:nvPr/>
        </p:nvPicPr>
        <p:blipFill>
          <a:blip r:embed="rId1"/>
          <a:stretch/>
        </p:blipFill>
        <p:spPr>
          <a:xfrm>
            <a:off x="1066680" y="2362320"/>
            <a:ext cx="2743200" cy="2674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4018680" y="838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U0502t22"/>
          <p:cNvPicPr/>
          <p:nvPr/>
        </p:nvPicPr>
        <p:blipFill>
          <a:blip r:embed="rId2"/>
          <a:stretch/>
        </p:blipFill>
        <p:spPr>
          <a:xfrm>
            <a:off x="5715000" y="2666880"/>
            <a:ext cx="2320920" cy="2217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49160" y="7621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</a:rPr>
              <a:t>松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4952880" y="7621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</a:rPr>
              <a:t>松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2" descr="tree"/>
          <p:cNvPicPr/>
          <p:nvPr/>
        </p:nvPicPr>
        <p:blipFill>
          <a:blip r:embed="rId3"/>
          <a:stretch/>
        </p:blipFill>
        <p:spPr>
          <a:xfrm>
            <a:off x="1371600" y="5791320"/>
            <a:ext cx="709128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ongsh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4920" y="189000"/>
            <a:ext cx="89391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宋体"/>
              </a:rPr>
              <a:t>　　松鼠聪明活泼，学会了摘松果吃。他高高兴兴地走进大森林，摘了一个又一个。每个松果都那么香，那么可口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10526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宋体"/>
              </a:rPr>
              <a:t>　　忽然，松鼠眨眨眼睛，想起来了：如果光摘松果，不栽松树，总有一天，一棵松树也没有了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8200"/>
          <p:cNvSpPr/>
          <p:nvPr/>
        </p:nvSpPr>
        <p:spPr>
          <a:xfrm>
            <a:off x="1763640" y="5445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900000" y="1125360"/>
            <a:ext cx="75567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95280" y="836640"/>
            <a:ext cx="87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　　没有了松树，没有了森林以后到处光秃秃的，小松鼠、小小松鼠、小小小松鼠</a:t>
            </a:r>
            <a:r>
              <a:rPr b="0" lang="en-US" sz="6000" spc="-1" strike="noStrike">
                <a:solidFill>
                  <a:srgbClr val="3333cc"/>
                </a:solidFill>
                <a:latin typeface="宋体"/>
              </a:rPr>
              <a:t>……</a:t>
            </a: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他们吃什么呢？到哪儿去住呢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1197000"/>
            <a:ext cx="91440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宋体"/>
              </a:rPr>
              <a:t>　　对，松鼠有了好主意每次摘松果，吃一个，就在土里埋下一个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404640"/>
            <a:ext cx="914400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　　　　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宋体"/>
              </a:rPr>
              <a:t>　　春天，几场蒙蒙细雨过后，在松鼠埋松果的地方，长出了一棵棵挺拔的小松树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tree"/>
          <p:cNvPicPr/>
          <p:nvPr/>
        </p:nvPicPr>
        <p:blipFill>
          <a:blip r:embed="rId1"/>
          <a:stretch/>
        </p:blipFill>
        <p:spPr>
          <a:xfrm>
            <a:off x="1981080" y="6019920"/>
            <a:ext cx="5948640" cy="37944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8200"/>
          <p:cNvSpPr/>
          <p:nvPr/>
        </p:nvSpPr>
        <p:spPr>
          <a:xfrm>
            <a:off x="1619280" y="5589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549360"/>
            <a:ext cx="91440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　　将来，这里会是一片更茂密的松树林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tree"/>
          <p:cNvPicPr/>
          <p:nvPr/>
        </p:nvPicPr>
        <p:blipFill>
          <a:blip r:embed="rId1"/>
          <a:stretch/>
        </p:blipFill>
        <p:spPr>
          <a:xfrm>
            <a:off x="838080" y="5791320"/>
            <a:ext cx="762480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3589200" y="1414440"/>
            <a:ext cx="215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聪明活泼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聪明活泼的小明学会了种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626480" y="2286000"/>
            <a:ext cx="569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忽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天忽然暗了下来，很快就下起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大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730520" y="3700440"/>
            <a:ext cx="586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如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如果明天天晴，我们就要去春游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134880" y="4495680"/>
            <a:ext cx="232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以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学了这一课，我们以后会更爱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树木了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3318840" y="5867280"/>
            <a:ext cx="24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主意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我们有一个美化校园的好主意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j0095744"/>
          <p:cNvPicPr/>
          <p:nvPr/>
        </p:nvPicPr>
        <p:blipFill>
          <a:blip r:embed="rId1"/>
          <a:stretch/>
        </p:blipFill>
        <p:spPr>
          <a:xfrm>
            <a:off x="8283600" y="0"/>
            <a:ext cx="860400" cy="8334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1676520" y="304920"/>
            <a:ext cx="361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ffcc00"/>
                </a:solidFill>
                <a:uFillTx/>
                <a:latin typeface="Times New Roman"/>
              </a:rPr>
              <a:t>我 会 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9" descr="天使"/>
          <p:cNvPicPr/>
          <p:nvPr/>
        </p:nvPicPr>
        <p:blipFill>
          <a:blip r:embed="rId2"/>
          <a:stretch/>
        </p:blipFill>
        <p:spPr>
          <a:xfrm>
            <a:off x="380880" y="304920"/>
            <a:ext cx="1096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07:28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13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