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8568-A75E-4EB7-B976-9B48758C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DB60-FE16-4B9F-AFC1-37E27881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8029-71BF-4376-A093-43393103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FB56-6605-467B-9C29-2BC0E16D6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5284-4F70-4F07-BBB3-A5788A940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372D-D9D1-42D9-891E-D1F44156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1F1F-583F-4A0A-A4A8-87EEE2FB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59A0-EBAD-4A4E-98D8-ACBF66B8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4037-3E8F-4672-BAA6-66911872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058D-D73F-4EDF-AA65-0FD2D6C1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3FCF-3377-4D17-831E-A858A4BA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1FFA-BE29-4610-BD04-5DC322DC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E73C-FFF4-4178-922C-341F8B86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64AE-7546-4E4C-8216-362BCAA9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E307-9250-42D2-BBEC-12CB4713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2EC1-A741-47A5-A62D-7C0DC2DD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71AC-C5D9-4B05-9BCA-5831C07E2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BDFF-580F-4E74-950A-70D46E02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8BED-FFCD-423B-84F5-AEF301D6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35A2-D235-4819-8A04-E772C922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8252-3F0C-40D1-96C2-705C9AB7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48C3-F602-4B57-8543-D13120F4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20A1-87CF-4296-8C14-67ACFBDD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2166-4559-4967-B0D7-EB3AB1B4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1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D83F-F12F-4D81-8578-1C4FFE2E5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9A17-B7E7-4950-97B5-ECC9580F642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1C56-CD13-45C2-841E-C617425388F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503280" y="1557360"/>
            <a:ext cx="774216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失物招领</a:t>
            </a:r>
            <a:r>
              <a:rPr b="0" lang="en-US" sz="4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PPT</a:t>
            </a:r>
            <a:r>
              <a:rPr b="0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课件打包下载</a:t>
            </a:r>
            <a:endParaRPr b="0" lang="en-US" sz="4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3" name="矩形 8"/>
          <p:cNvSpPr/>
          <p:nvPr/>
        </p:nvSpPr>
        <p:spPr>
          <a:xfrm>
            <a:off x="8244000" y="652464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b0f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b0f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00b0f0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00b0f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b0f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b0f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00b0f0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b0f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b0f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b0f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00b0f0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00b0f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b0f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b0f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00b0f0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00b0f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00b0f0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b0f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b0f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b0f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00b0f0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00b0f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00b0f0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b0f0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00b0f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00b0f0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00b0f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00b0f0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b0f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00b0f0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00b0f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00b0f0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b0f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00b0f0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00b0f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00b0f0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b0f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00b0f0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b0f0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64771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围</a:t>
            </a:r>
            <a:endParaRPr b="0" lang="en-US" sz="40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915480" y="609480"/>
            <a:ext cx="647172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宋体"/>
              </a:rPr>
              <a:t>   </a:t>
            </a:r>
            <a:r>
              <a:rPr b="1" lang="en-US" sz="8000" spc="-1" strike="noStrike">
                <a:solidFill>
                  <a:srgbClr val="ff3300"/>
                </a:solidFill>
                <a:latin typeface="宋体"/>
              </a:rPr>
              <a:t>w</a:t>
            </a: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é</a:t>
            </a:r>
            <a:r>
              <a:rPr b="1" lang="en-US" sz="8000" spc="-1" strike="noStrike">
                <a:solidFill>
                  <a:srgbClr val="ff3300"/>
                </a:solidFill>
                <a:latin typeface="宋体"/>
              </a:rPr>
              <a:t>i 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围着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周围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工</a:t>
            </a:r>
            <a:endParaRPr b="0" lang="en-US" sz="49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509120" y="353880"/>
            <a:ext cx="647172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宋体"/>
              </a:rPr>
              <a:t>  </a:t>
            </a:r>
            <a:r>
              <a:rPr b="1" lang="en-US" sz="8000" spc="-1" strike="noStrike">
                <a:solidFill>
                  <a:srgbClr val="ff3300"/>
                </a:solidFill>
                <a:latin typeface="宋体"/>
              </a:rPr>
              <a:t>gōng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工人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做工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专</a:t>
            </a:r>
            <a:endParaRPr b="0" lang="en-US" sz="4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596240" y="390600"/>
            <a:ext cx="421632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宋体"/>
              </a:rPr>
              <a:t>zhuān  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专  心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专  门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560" y="609480"/>
            <a:ext cx="701028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准</a:t>
            </a:r>
            <a:endParaRPr b="0" lang="en-US" sz="40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文本框 8200"/>
          <p:cNvSpPr/>
          <p:nvPr/>
        </p:nvSpPr>
        <p:spPr>
          <a:xfrm>
            <a:off x="1979640" y="5661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324840" cy="56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备</a:t>
            </a:r>
            <a:endParaRPr b="0" lang="en-US" sz="40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80880" y="380880"/>
            <a:ext cx="690876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宋体"/>
              </a:rPr>
              <a:t>zhǔn qu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准备      准确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269600" y="3124080"/>
            <a:ext cx="515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我准备送还鸟蛋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小松鼠准备种松果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鸭先生准备清扫小路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我们准备回家了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81080" y="609480"/>
            <a:ext cx="647712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队</a:t>
            </a:r>
            <a:endParaRPr b="0" lang="en-US" sz="4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Times New Roman"/>
                <a:ea typeface="隶书"/>
              </a:rPr>
              <a:t>我会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676520" y="2743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2990520" y="-685800"/>
            <a:ext cx="359460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失</a:t>
            </a:r>
            <a:endParaRPr b="0" lang="en-US" sz="4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2257560" y="44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171880" y="685800"/>
            <a:ext cx="411264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宋体"/>
              </a:rPr>
              <a:t>p</a:t>
            </a: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á</a:t>
            </a:r>
            <a:r>
              <a:rPr b="1" lang="en-US" sz="8000" spc="-1" strike="noStrike">
                <a:solidFill>
                  <a:srgbClr val="ff3300"/>
                </a:solidFill>
                <a:latin typeface="宋体"/>
              </a:rPr>
              <a:t>i  du</a:t>
            </a: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ì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排  队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排好队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9280" y="549360"/>
            <a:ext cx="59436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才</a:t>
            </a:r>
            <a:endParaRPr b="0" lang="en-US" sz="4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588960" y="838080"/>
            <a:ext cx="942084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宋体"/>
              </a:rPr>
              <a:t>gāng c</a:t>
            </a: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á</a:t>
            </a:r>
            <a:r>
              <a:rPr b="1" lang="en-US" sz="8000" spc="-1" strike="noStrike">
                <a:solidFill>
                  <a:srgbClr val="ff3300"/>
                </a:solidFill>
                <a:latin typeface="宋体"/>
              </a:rPr>
              <a:t>i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刚  才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才 能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762120"/>
            <a:ext cx="61722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请</a:t>
            </a:r>
            <a:endParaRPr b="0" lang="en-US" sz="40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913760" y="466560"/>
            <a:ext cx="411264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宋体"/>
              </a:rPr>
              <a:t>qǐ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请  进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请  客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双</a:t>
            </a:r>
            <a:endParaRPr b="0" lang="en-US" sz="4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2659680" y="762120"/>
            <a:ext cx="44722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宋体"/>
              </a:rPr>
              <a:t>  </a:t>
            </a:r>
            <a:r>
              <a:rPr b="1" lang="en-US" sz="8000" spc="-1" strike="noStrike">
                <a:solidFill>
                  <a:srgbClr val="ff3300"/>
                </a:solidFill>
                <a:latin typeface="宋体"/>
              </a:rPr>
              <a:t>shuā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双眼睛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双小手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92000" y="1052280"/>
            <a:ext cx="6095880" cy="46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各</a:t>
            </a:r>
            <a:endParaRPr b="0" lang="en-US" sz="40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文本框 8200"/>
          <p:cNvSpPr/>
          <p:nvPr/>
        </p:nvSpPr>
        <p:spPr>
          <a:xfrm>
            <a:off x="1979640" y="57340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2370960" y="685800"/>
            <a:ext cx="411264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宋体"/>
              </a:rPr>
              <a:t>g</a:t>
            </a: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各  自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各  位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0"/>
          <p:cNvSpPr/>
          <p:nvPr/>
        </p:nvSpPr>
        <p:spPr>
          <a:xfrm>
            <a:off x="4800600" y="4419720"/>
            <a:ext cx="9144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457200" y="3352680"/>
            <a:ext cx="99072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4724280" y="3429000"/>
            <a:ext cx="914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457200" y="4419720"/>
            <a:ext cx="99072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4724280" y="5410080"/>
            <a:ext cx="91440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457200" y="5410080"/>
            <a:ext cx="99072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4419720" y="2438280"/>
            <a:ext cx="9144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57200" y="2362320"/>
            <a:ext cx="9907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33360" y="3045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扩展活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533520" y="2206800"/>
            <a:ext cx="8686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认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认真）队（少先队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准（准点）难（难题）先（先进）失（失去）备（备课）各（各自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34240" y="12952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黑体"/>
              </a:rPr>
              <a:t>读读比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712520" y="747720"/>
            <a:ext cx="54234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9600" spc="-1" strike="noStrike">
                <a:solidFill>
                  <a:srgbClr val="ff3300"/>
                </a:solidFill>
                <a:latin typeface="宋体"/>
              </a:rPr>
              <a:t>diū  shī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丢  失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900000" y="692280"/>
            <a:ext cx="6696360" cy="27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00cc"/>
                </a:solidFill>
                <a:latin typeface="Times New Roman"/>
              </a:rPr>
              <a:t>想想</a:t>
            </a:r>
            <a:r>
              <a:rPr b="1" lang="en-US" sz="7200" spc="-1" strike="noStrike">
                <a:solidFill>
                  <a:srgbClr val="cc00cc"/>
                </a:solidFill>
                <a:latin typeface="Times New Roman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同学们丢了什么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348000" y="4365720"/>
            <a:ext cx="31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</a:rPr>
              <a:t>垃圾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539640" y="549360"/>
            <a:ext cx="36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听得可专心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284720" y="981000"/>
            <a:ext cx="1366920" cy="360"/>
            <a:chOff x="4284720" y="981000"/>
            <a:chExt cx="1366920" cy="360"/>
          </a:xfrm>
        </p:grpSpPr>
        <p:sp>
          <p:nvSpPr>
            <p:cNvPr id="134" name="Line 5"/>
            <p:cNvSpPr/>
            <p:nvPr/>
          </p:nvSpPr>
          <p:spPr>
            <a:xfrm>
              <a:off x="4284720" y="981000"/>
              <a:ext cx="1366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4284720" y="981000"/>
              <a:ext cx="1366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Text Box 6"/>
          <p:cNvSpPr/>
          <p:nvPr/>
        </p:nvSpPr>
        <p:spPr>
          <a:xfrm>
            <a:off x="5867280" y="4046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认真好学的 孩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395280" y="170028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三个一群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五个一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140360" y="2205000"/>
            <a:ext cx="1584000" cy="360"/>
            <a:chOff x="4140360" y="2205000"/>
            <a:chExt cx="1584000" cy="360"/>
          </a:xfrm>
        </p:grpSpPr>
        <p:sp>
          <p:nvSpPr>
            <p:cNvPr id="139" name="Line 8"/>
            <p:cNvSpPr/>
            <p:nvPr/>
          </p:nvSpPr>
          <p:spPr>
            <a:xfrm>
              <a:off x="4140360" y="2205000"/>
              <a:ext cx="1584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4140360" y="2205000"/>
              <a:ext cx="158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Text Box 9"/>
          <p:cNvSpPr/>
          <p:nvPr/>
        </p:nvSpPr>
        <p:spPr>
          <a:xfrm>
            <a:off x="5867280" y="170028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团结友爱的孩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539640" y="3860640"/>
            <a:ext cx="324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468360" y="3429000"/>
            <a:ext cx="34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睁得大大的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摸着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一齐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924360" y="4076640"/>
            <a:ext cx="1871640" cy="360"/>
            <a:chOff x="3924360" y="4076640"/>
            <a:chExt cx="1871640" cy="360"/>
          </a:xfrm>
        </p:grpSpPr>
        <p:sp>
          <p:nvSpPr>
            <p:cNvPr id="145" name="Line 12"/>
            <p:cNvSpPr/>
            <p:nvPr/>
          </p:nvSpPr>
          <p:spPr>
            <a:xfrm>
              <a:off x="3924360" y="407664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3924360" y="4076640"/>
              <a:ext cx="1871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Text Box 13"/>
          <p:cNvSpPr/>
          <p:nvPr/>
        </p:nvSpPr>
        <p:spPr>
          <a:xfrm>
            <a:off x="5867280" y="342900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天真可爱的孩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539640" y="50846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脸红了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领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780000" y="5516640"/>
            <a:ext cx="2016000" cy="360"/>
            <a:chOff x="3780000" y="5516640"/>
            <a:chExt cx="2016000" cy="360"/>
          </a:xfrm>
        </p:grpSpPr>
        <p:sp>
          <p:nvSpPr>
            <p:cNvPr id="150" name="Line 15"/>
            <p:cNvSpPr/>
            <p:nvPr/>
          </p:nvSpPr>
          <p:spPr>
            <a:xfrm>
              <a:off x="3780000" y="551664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3780000" y="5516640"/>
              <a:ext cx="20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Text Box 16"/>
          <p:cNvSpPr/>
          <p:nvPr/>
        </p:nvSpPr>
        <p:spPr>
          <a:xfrm>
            <a:off x="5940360" y="4941720"/>
            <a:ext cx="23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知错就改的孩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684360" y="981000"/>
            <a:ext cx="43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</a:rPr>
              <a:t>思考</a:t>
            </a: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755640" y="2997360"/>
            <a:ext cx="734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唐老师和张爷爷为什么会心地笑了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611280" y="765000"/>
            <a:ext cx="853272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Times New Roman"/>
              </a:rPr>
              <a:t>想想做做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同学们身上发生过这样的事吗？今后你会怎样做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137160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3300"/>
                </a:solidFill>
                <a:latin typeface="Times New Roman"/>
                <a:ea typeface="隶书"/>
              </a:rPr>
              <a:t>我会写</a:t>
            </a:r>
            <a:r>
              <a:rPr b="1" lang="zh-CN" sz="8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工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266920" y="260280"/>
          <a:ext cx="6629400" cy="6324480"/>
        </p:xfrm>
        <a:graphic>
          <a:graphicData uri="http://schemas.openxmlformats.org/drawingml/2006/table">
            <a:tbl>
              <a:tblPr/>
              <a:tblGrid>
                <a:gridCol w="3268800"/>
                <a:gridCol w="3360600"/>
              </a:tblGrid>
              <a:tr h="3162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Rectangle 23"/>
          <p:cNvSpPr/>
          <p:nvPr/>
        </p:nvSpPr>
        <p:spPr>
          <a:xfrm>
            <a:off x="160020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7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工</a:t>
            </a:r>
            <a:endParaRPr b="0" lang="en-US" sz="40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12952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3300"/>
                </a:solidFill>
                <a:latin typeface="Times New Roman"/>
                <a:ea typeface="隶书"/>
              </a:rPr>
              <a:t>我会写</a:t>
            </a:r>
            <a:r>
              <a:rPr b="1" lang="zh-CN" sz="8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才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195640" y="-98280"/>
          <a:ext cx="6705360" cy="6629400"/>
        </p:xfrm>
        <a:graphic>
          <a:graphicData uri="http://schemas.openxmlformats.org/drawingml/2006/table">
            <a:tbl>
              <a:tblPr/>
              <a:tblGrid>
                <a:gridCol w="3306240"/>
                <a:gridCol w="3399120"/>
              </a:tblGrid>
              <a:tr h="3314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4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14"/>
          <p:cNvSpPr/>
          <p:nvPr/>
        </p:nvSpPr>
        <p:spPr>
          <a:xfrm>
            <a:off x="2057400" y="76320"/>
            <a:ext cx="59436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才</a:t>
            </a:r>
            <a:endParaRPr b="0" lang="en-US" sz="4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16002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3300"/>
                </a:solidFill>
                <a:latin typeface="Times New Roman"/>
                <a:ea typeface="隶书"/>
              </a:rPr>
              <a:t>我会写</a:t>
            </a:r>
            <a:r>
              <a:rPr b="1" lang="zh-CN" sz="8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专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916360" y="1125360"/>
          <a:ext cx="5562360" cy="5257800"/>
        </p:xfrm>
        <a:graphic>
          <a:graphicData uri="http://schemas.openxmlformats.org/drawingml/2006/table">
            <a:tbl>
              <a:tblPr/>
              <a:tblGrid>
                <a:gridCol w="2742840"/>
                <a:gridCol w="2819520"/>
              </a:tblGrid>
              <a:tr h="2629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Rectangle 14"/>
          <p:cNvSpPr/>
          <p:nvPr/>
        </p:nvSpPr>
        <p:spPr>
          <a:xfrm>
            <a:off x="2895480" y="1219320"/>
            <a:ext cx="54104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专</a:t>
            </a:r>
            <a:endParaRPr b="0" lang="en-US" sz="3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3733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3300"/>
                </a:solidFill>
                <a:latin typeface="Times New Roman"/>
                <a:ea typeface="隶书"/>
              </a:rPr>
              <a:t>我会写</a:t>
            </a:r>
            <a:r>
              <a:rPr b="1" lang="zh-CN" sz="8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916360" y="907920"/>
          <a:ext cx="5562360" cy="5257800"/>
        </p:xfrm>
        <a:graphic>
          <a:graphicData uri="http://schemas.openxmlformats.org/drawingml/2006/table">
            <a:tbl>
              <a:tblPr/>
              <a:tblGrid>
                <a:gridCol w="2742840"/>
                <a:gridCol w="2819520"/>
              </a:tblGrid>
              <a:tr h="2629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Rectangle 14"/>
          <p:cNvSpPr/>
          <p:nvPr/>
        </p:nvSpPr>
        <p:spPr>
          <a:xfrm>
            <a:off x="2590920" y="304920"/>
            <a:ext cx="609588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7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同</a:t>
            </a:r>
            <a:endParaRPr b="0" lang="en-US" sz="40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657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3300"/>
                </a:solidFill>
                <a:latin typeface="Times New Roman"/>
                <a:ea typeface="隶书"/>
              </a:rPr>
              <a:t>我会写</a:t>
            </a:r>
            <a:r>
              <a:rPr b="1" lang="zh-CN" sz="8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916360" y="333360"/>
          <a:ext cx="5943600" cy="5638680"/>
        </p:xfrm>
        <a:graphic>
          <a:graphicData uri="http://schemas.openxmlformats.org/drawingml/2006/table">
            <a:tbl>
              <a:tblPr/>
              <a:tblGrid>
                <a:gridCol w="2930400"/>
                <a:gridCol w="3013200"/>
              </a:tblGrid>
              <a:tr h="2819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9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Rectangle 14"/>
          <p:cNvSpPr/>
          <p:nvPr/>
        </p:nvSpPr>
        <p:spPr>
          <a:xfrm>
            <a:off x="2773440" y="909720"/>
            <a:ext cx="6095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双</a:t>
            </a:r>
            <a:endParaRPr b="0" lang="en-US" sz="4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文本框 8200"/>
          <p:cNvSpPr/>
          <p:nvPr/>
        </p:nvSpPr>
        <p:spPr>
          <a:xfrm>
            <a:off x="2124000" y="616572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3657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3300"/>
                </a:solidFill>
                <a:latin typeface="Times New Roman"/>
                <a:ea typeface="隶书"/>
              </a:rPr>
              <a:t>我会写</a:t>
            </a:r>
            <a:r>
              <a:rPr b="1" lang="zh-CN" sz="8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895480" y="1219320"/>
          <a:ext cx="5562720" cy="5257800"/>
        </p:xfrm>
        <a:graphic>
          <a:graphicData uri="http://schemas.openxmlformats.org/drawingml/2006/table">
            <a:tbl>
              <a:tblPr/>
              <a:tblGrid>
                <a:gridCol w="2743200"/>
                <a:gridCol w="2819520"/>
              </a:tblGrid>
              <a:tr h="2629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Rectangle 14"/>
          <p:cNvSpPr/>
          <p:nvPr/>
        </p:nvSpPr>
        <p:spPr>
          <a:xfrm>
            <a:off x="2895480" y="1371600"/>
            <a:ext cx="5486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7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级</a:t>
            </a:r>
            <a:endParaRPr b="0" lang="en-US" sz="40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685440"/>
            <a:ext cx="655308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级</a:t>
            </a:r>
            <a:endParaRPr b="0" lang="en-US" sz="4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6ECD-2BF3-41F0-B394-8515E1B8DE9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3657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3300"/>
                </a:solidFill>
                <a:latin typeface="Times New Roman"/>
                <a:ea typeface="隶书"/>
              </a:rPr>
              <a:t>我会写</a:t>
            </a:r>
            <a:r>
              <a:rPr b="1" lang="zh-CN" sz="8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队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050920" y="404640"/>
          <a:ext cx="6629400" cy="6095880"/>
        </p:xfrm>
        <a:graphic>
          <a:graphicData uri="http://schemas.openxmlformats.org/drawingml/2006/table">
            <a:tbl>
              <a:tblPr/>
              <a:tblGrid>
                <a:gridCol w="3268800"/>
                <a:gridCol w="3360600"/>
              </a:tblGrid>
              <a:tr h="3048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7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Rectangle 14"/>
          <p:cNvSpPr/>
          <p:nvPr/>
        </p:nvSpPr>
        <p:spPr>
          <a:xfrm>
            <a:off x="2266920" y="981000"/>
            <a:ext cx="59436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队</a:t>
            </a:r>
            <a:endParaRPr b="0" lang="en-US" sz="4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950120" y="1066680"/>
            <a:ext cx="5269320" cy="43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8800" spc="-1" strike="noStrike">
                <a:solidFill>
                  <a:srgbClr val="ff3300"/>
                </a:solidFill>
                <a:latin typeface="宋体"/>
              </a:rPr>
              <a:t>ni</a:t>
            </a:r>
            <a:r>
              <a:rPr b="1" lang="en-US" sz="8800" spc="-1" strike="noStrike">
                <a:solidFill>
                  <a:srgbClr val="ff3300"/>
                </a:solidFill>
                <a:latin typeface="Times New Roman"/>
              </a:rPr>
              <a:t>á</a:t>
            </a:r>
            <a:r>
              <a:rPr b="1" lang="en-US" sz="8800" spc="-1" strike="noStrike">
                <a:solidFill>
                  <a:srgbClr val="ff3300"/>
                </a:solidFill>
                <a:latin typeface="宋体"/>
              </a:rPr>
              <a:t>n  j</a:t>
            </a:r>
            <a:r>
              <a:rPr b="1" lang="en-US" sz="8800" spc="-1" strike="noStrike">
                <a:solidFill>
                  <a:srgbClr val="ff3300"/>
                </a:solidFill>
                <a:latin typeface="Times New Roman"/>
              </a:rPr>
              <a:t>í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18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 级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同</a:t>
            </a:r>
            <a:endParaRPr b="0" lang="en-US" sz="4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65040" y="85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3120480" y="304920"/>
            <a:ext cx="3129840" cy="72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宋体"/>
              </a:rPr>
              <a:t>t</a:t>
            </a: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ó</a:t>
            </a:r>
            <a:r>
              <a:rPr b="1" lang="en-US" sz="8000" spc="-1" strike="noStrike">
                <a:solidFill>
                  <a:srgbClr val="ff3300"/>
                </a:solidFill>
                <a:latin typeface="宋体"/>
              </a:rPr>
              <a:t>ng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同学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同学们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观</a:t>
            </a:r>
            <a:endParaRPr b="0" lang="en-US" sz="40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-249480" y="466560"/>
            <a:ext cx="942084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宋体"/>
              </a:rPr>
              <a:t>cān  guān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参 观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观 看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06:16:2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12Z</dcterms:modified>
  <cp:revision>5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