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9392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784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6000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9392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784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1FC4-AF75-4DC0-91B5-595144A79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D93B-E8C8-423F-89A4-6561039F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C8B1-7FF1-46C9-975B-D4D5F523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9562-6EBF-4D96-9A83-2CB924F1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9795-9650-4C2F-9422-041CAA73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60000" y="636120"/>
            <a:ext cx="83818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7D16-F819-48B5-92F4-7C0C251C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2D53-693E-43A0-8AAB-1A07C9B1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4158-EC73-43AE-AF32-25EC72A9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C92E-469D-4C35-9BB7-15C65796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98F9-7677-4495-8B23-3DE19D72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95FE-A6D8-4558-83C6-F55DCB40D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392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784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6000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392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784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915C-319A-4708-AE77-9067D406C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60000" y="636120"/>
            <a:ext cx="83818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19392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784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6000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19392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784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360000" y="636120"/>
            <a:ext cx="83818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19392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784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36000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19392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784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360000" y="636120"/>
            <a:ext cx="83818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60000" y="636120"/>
            <a:ext cx="83818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19392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784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36000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19392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784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360000" y="636120"/>
            <a:ext cx="83818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19392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784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36000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19392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784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60000" y="636120"/>
            <a:ext cx="83818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9392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784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6000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9392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784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125ca7"/>
                </a:solidFill>
                <a:latin typeface="Segoe Light"/>
              </a:rPr>
              <a:t>Click to edit the title text format</a:t>
            </a: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58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1" marL="287280" indent="6174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2" marL="515160" indent="3898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3" marL="705600" indent="1994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4" marL="946080" indent="-40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5" marL="946080" indent="-406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6" marL="946080" indent="-406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2BCD-230C-413E-BD37-C30C3F11AAE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FE05-89E1-4532-B929-DBC5330BF40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Silverlight_logo.png"/>
          <p:cNvPicPr/>
          <p:nvPr/>
        </p:nvPicPr>
        <p:blipFill>
          <a:blip r:embed="rId3"/>
          <a:stretch/>
        </p:blipFill>
        <p:spPr>
          <a:xfrm>
            <a:off x="380880" y="231840"/>
            <a:ext cx="2465640" cy="799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125ca7"/>
                </a:solidFill>
                <a:latin typeface="Segoe Light"/>
              </a:rPr>
              <a:t>Click to edit the title text format</a:t>
            </a: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58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1" marL="287280" indent="6174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2" marL="515160" indent="3898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3" marL="705600" indent="1994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4" marL="946080" indent="-40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5" marL="946080" indent="-406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6" marL="946080" indent="-406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blueband.tif"/>
          <p:cNvPicPr/>
          <p:nvPr/>
        </p:nvPicPr>
        <p:blipFill>
          <a:blip r:embed="rId3"/>
          <a:stretch/>
        </p:blipFill>
        <p:spPr>
          <a:xfrm>
            <a:off x="0" y="6016680"/>
            <a:ext cx="8128080" cy="4762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125ca7"/>
                </a:solidFill>
                <a:latin typeface="Segoe Light"/>
              </a:rPr>
              <a:t>Click to edit the title text format</a:t>
            </a: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58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1" marL="287280" indent="6174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2" marL="515160" indent="3898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3" marL="705600" indent="1994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4" marL="946080" indent="-40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5" marL="946080" indent="-406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6" marL="946080" indent="-406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" descr="blueband.tif"/>
          <p:cNvPicPr/>
          <p:nvPr/>
        </p:nvPicPr>
        <p:blipFill>
          <a:blip r:embed="rId3"/>
          <a:stretch/>
        </p:blipFill>
        <p:spPr>
          <a:xfrm>
            <a:off x="0" y="5384880"/>
            <a:ext cx="9144000" cy="14731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125ca7"/>
                </a:solidFill>
                <a:latin typeface="Segoe Light"/>
              </a:rPr>
              <a:t>Click to edit the title text format</a:t>
            </a: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58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1" marL="287280" indent="6174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2" marL="515160" indent="3898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3" marL="705600" indent="1994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4" marL="946080" indent="-40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5" marL="946080" indent="-406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6" marL="946080" indent="-406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125ca7"/>
                </a:solidFill>
                <a:latin typeface="Segoe Light"/>
              </a:rPr>
              <a:t>Click to edit the title text format</a:t>
            </a: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58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1" marL="287280" indent="6174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2" marL="515160" indent="3898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3" marL="705600" indent="1994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4" marL="946080" indent="-40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5" marL="946080" indent="-406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6" marL="946080" indent="-406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125ca7"/>
                </a:solidFill>
                <a:latin typeface="Segoe Light"/>
              </a:rPr>
              <a:t>Click to edit the title text format</a:t>
            </a: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58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1" marL="287280" indent="6174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2" marL="515160" indent="3898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3" marL="705600" indent="1994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4" marL="946080" indent="-40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5" marL="946080" indent="-406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6" marL="946080" indent="-406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73" name="文本框 6155"/>
          <p:cNvSpPr/>
          <p:nvPr/>
        </p:nvSpPr>
        <p:spPr>
          <a:xfrm>
            <a:off x="152280" y="62866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74" name="文本框 8"/>
          <p:cNvSpPr/>
          <p:nvPr/>
        </p:nvSpPr>
        <p:spPr>
          <a:xfrm>
            <a:off x="2160000" y="99072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Segoe"/>
              </a:rPr>
              <a:t>适用于各行的企业幻灯片完整版下载</a:t>
            </a:r>
            <a:endParaRPr b="0" lang="en-US" sz="40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16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7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54b0e2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8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A0C9-634F-49BA-9A22-3B52ADEDE585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16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3T18:56:26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6-01-24T03:34:50Z</dcterms:modified>
  <cp:revision>1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