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6C9-A3F2-44DC-B1FA-9DDF2557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2AA-E6E8-4A2F-B26A-A5ADD8890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E41B-5B5C-4DE8-9289-F4D17057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166-367E-4B9C-9031-BEAC38F00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7016-000B-4DEF-9B35-B5A4B25D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D9A3-256F-4AC7-8BA1-9B17193B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F102-5315-48EB-8B05-6659BCFC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CD87-3929-4CA1-829A-5BBC87FC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4FA3-3901-4BE7-95EF-61DC22A9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33CA-D590-4258-9CA3-506E3CCD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CBAC-C4B3-4978-9477-667D462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F16-3B71-4F41-8ED8-C00D03DA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D68A-CAF4-4BA3-A01A-91759CF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4C2D-C7D8-49FA-AE2C-C8E5B8EE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B8E6-736D-4700-8D58-53EA155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8E8C-5B5A-40DF-9BEE-98FC955D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D43-57D9-4A53-9215-15E5C68E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0A4-79DC-4308-A560-0D678613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0D2-6D63-4B56-BDDF-39D3D526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5FB-B622-4CCD-A41A-4F594E30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360-92CC-4FAC-843A-9E0B6F0B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729-7B23-4BE9-AAC9-602F4F16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111-1F3E-44D7-A689-DE000368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D27-6BB2-4451-9B6D-A79632B8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5B2A-9676-480B-ACAE-82BBE8D0CA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6AF5-4AAF-4E0A-B164-D04BAD48DDF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BFEE-C3E5-4BBF-8636-E57481B334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倒陀螺"/>
          <p:cNvGrpSpPr/>
          <p:nvPr/>
        </p:nvGrpSpPr>
        <p:grpSpPr>
          <a:xfrm>
            <a:off x="5219640" y="2286000"/>
            <a:ext cx="2286000" cy="2286000"/>
            <a:chOff x="5219640" y="2286000"/>
            <a:chExt cx="2286000" cy="2286000"/>
          </a:xfrm>
        </p:grpSpPr>
        <p:sp>
          <p:nvSpPr>
            <p:cNvPr id="83" name="倒陀螺"/>
            <p:cNvSpPr/>
            <p:nvPr/>
          </p:nvSpPr>
          <p:spPr>
            <a:xfrm>
              <a:off x="5219640" y="2286000"/>
              <a:ext cx="2286000" cy="22860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正陀螺" hidden="1"/>
            <p:cNvSpPr/>
            <p:nvPr/>
          </p:nvSpPr>
          <p:spPr>
            <a:xfrm>
              <a:off x="521964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倒陀螺 1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86" name="椭圆 08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27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07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28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06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29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05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30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04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31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椭圆 03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32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02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33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01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34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00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35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倒陀螺 2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105" name="椭圆 08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27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07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8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06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29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05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30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04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31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椭圆 03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32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02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33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01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34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00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35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倒陀螺 3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124" name="椭圆 08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27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07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28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06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29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05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0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椭圆 04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31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03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32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02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3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椭圆 01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34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00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35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倒陀螺 4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143" name="椭圆 08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27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07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28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06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椭圆 29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05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30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04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31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椭圆 03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椭圆 32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02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椭圆 33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01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34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00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椭圆 35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倒陀螺 5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162" name="椭圆 08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椭圆 27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07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28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06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29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05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椭圆 30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04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31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03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2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02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33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01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34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00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35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倒陀螺 6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181" name="椭圆 08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27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椭圆 07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椭圆 28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06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29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05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30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04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31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03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32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02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33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01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34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00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椭圆 35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倒陀螺 7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200" name="椭圆 08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27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07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28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椭圆 06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29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05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30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04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31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03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2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02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33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01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34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00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35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倒陀螺 8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219" name="椭圆 08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27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07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28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06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29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05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30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04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椭圆 31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03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32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02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33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01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34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00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35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倒陀螺 9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238" name="椭圆 08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27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07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28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椭圆 06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椭圆 29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05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椭圆 30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椭圆 04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31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03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32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02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33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01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34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00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35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倒陀螺 0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257" name="椭圆 09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28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08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29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07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30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06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31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05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32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04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33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03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34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02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35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01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00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倒陀螺"/>
          <p:cNvSpPr/>
          <p:nvPr/>
        </p:nvSpPr>
        <p:spPr>
          <a:xfrm>
            <a:off x="1079640" y="2286000"/>
            <a:ext cx="2286000" cy="2286000"/>
          </a:xfrm>
          <a:prstGeom prst="ellipse">
            <a:avLst/>
          </a:prstGeom>
          <a:solidFill>
            <a:srgbClr val="7f7f7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镜面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正陀螺"/>
          <p:cNvGrpSpPr/>
          <p:nvPr/>
        </p:nvGrpSpPr>
        <p:grpSpPr>
          <a:xfrm>
            <a:off x="5219640" y="2286000"/>
            <a:ext cx="2286000" cy="2286000"/>
            <a:chOff x="5219640" y="2286000"/>
            <a:chExt cx="2286000" cy="2286000"/>
          </a:xfrm>
        </p:grpSpPr>
        <p:sp>
          <p:nvSpPr>
            <p:cNvPr id="278" name="倒陀螺" hidden="1"/>
            <p:cNvSpPr/>
            <p:nvPr/>
          </p:nvSpPr>
          <p:spPr>
            <a:xfrm>
              <a:off x="521964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正陀螺"/>
            <p:cNvSpPr/>
            <p:nvPr/>
          </p:nvSpPr>
          <p:spPr>
            <a:xfrm>
              <a:off x="5219640" y="2286000"/>
              <a:ext cx="2286000" cy="22860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正陀螺 0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281" name="椭圆 09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28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椭圆 08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9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07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30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椭圆 06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31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椭圆 05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椭圆 32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04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 33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椭圆 03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椭圆 34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椭圆 02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椭圆 35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椭圆 01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000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正陀螺 9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00" name="椭圆 08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椭圆 27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椭圆 07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椭圆 28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椭圆 06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椭圆 29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椭圆 05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30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04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 31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03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32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椭圆 02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椭圆 33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椭圆 01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34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9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椭圆 00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椭圆 359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正陀螺 8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19" name="椭圆 08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椭圆 27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07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28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06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29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05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30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04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31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03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32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02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33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2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01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0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34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8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椭圆 00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椭圆 358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4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正陀螺 7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38" name="椭圆 08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27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椭圆 07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28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06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29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05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30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椭圆 04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椭圆 31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03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椭圆 32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02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33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2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01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0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34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00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椭圆 357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4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正陀螺 6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57" name="椭圆 08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27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07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28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06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椭圆 29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05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椭圆 30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椭圆 04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椭圆 31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椭圆 03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椭圆 32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02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5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33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1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01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9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34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7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椭圆 00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椭圆 356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3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正陀螺 5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76" name="椭圆 08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27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07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椭圆 28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椭圆 06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椭圆 29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椭圆 05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椭圆 30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椭圆 04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椭圆 31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03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椭圆 32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椭圆 02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椭圆 33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椭圆 01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34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椭圆 00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355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正陀螺 4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395" name="椭圆 08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5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27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椭圆 07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28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06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29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05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30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04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31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03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32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02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4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33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0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椭圆 01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椭圆 34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6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椭圆 00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椭圆 354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2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正陀螺 3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414" name="椭圆 08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椭圆 27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椭圆 07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椭圆 28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椭圆 06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椭圆 29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椭圆 05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椭圆 30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椭圆 04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椭圆 31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椭圆 03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32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02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3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33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椭圆 01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椭圆 34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椭圆 00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353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1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正陀螺 2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433" name="椭圆 08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椭圆 27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椭圆 07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椭圆 28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椭圆 06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椭圆 29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椭圆 05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30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04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31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03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椭圆 32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02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3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椭圆 33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9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01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7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34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5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00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352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正陀螺 1"/>
          <p:cNvGrpSpPr/>
          <p:nvPr/>
        </p:nvGrpSpPr>
        <p:grpSpPr>
          <a:xfrm>
            <a:off x="1079640" y="2286000"/>
            <a:ext cx="2286000" cy="2286000"/>
            <a:chOff x="1079640" y="2286000"/>
            <a:chExt cx="2286000" cy="2286000"/>
          </a:xfrm>
        </p:grpSpPr>
        <p:sp>
          <p:nvSpPr>
            <p:cNvPr id="452" name="椭圆 08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椭圆 27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椭圆 07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4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28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6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椭圆 06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椭圆 29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7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椭圆 05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3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椭圆 30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椭圆 04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椭圆 31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椭圆 03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椭圆 32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02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2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椭圆 33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198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\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椭圆 01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椭圆 34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04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00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椭圆 351"/>
            <p:cNvSpPr/>
            <p:nvPr/>
          </p:nvSpPr>
          <p:spPr>
            <a:xfrm>
              <a:off x="1079640" y="2286000"/>
              <a:ext cx="2286000" cy="2286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50000">
                  <a:srgbClr val="7f7f7f"/>
                </a:gs>
                <a:gs pos="100000">
                  <a:srgbClr val="7f7f7f"/>
                </a:gs>
              </a:gsLst>
              <a:lin ang="2106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正陀螺"/>
          <p:cNvSpPr/>
          <p:nvPr/>
        </p:nvSpPr>
        <p:spPr>
          <a:xfrm>
            <a:off x="1079640" y="2286000"/>
            <a:ext cx="2286000" cy="2286000"/>
          </a:xfrm>
          <a:prstGeom prst="ellipse">
            <a:avLst/>
          </a:prstGeom>
          <a:solidFill>
            <a:srgbClr val="7f7f7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陀螺运动幻灯片打包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46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6" dur="6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0" dur="1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4" dur="6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3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18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0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 repeatCount="indefinite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 repeatCount="indefinite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 repeatCount="indefinite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 repeatCount="indefinite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 repeatCount="indefinite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 repeatCount="indefinite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 repeatCount="indefinite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 repeatCount="indefinite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 repeatCount="indefinite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 repeatCount="indefinite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 repeatCount="indefinite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 repeatCount="indefinite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 repeatCount="indefinite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 repeatCount="indefinite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 repeatCount="indefinite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 repeatCount="indefinite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 repeatCount="indefinite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 repeatCount="indefinite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倒陀螺1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474" name="倒陀螺 1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475" name="椭圆 08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椭圆 27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椭圆 07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椭圆 28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椭圆 06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椭圆 29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椭圆 05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椭圆 30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椭圆 04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椭圆 31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03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椭圆 32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椭圆 02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椭圆 33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椭圆 01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椭圆 34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椭圆 00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椭圆 35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倒陀螺2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495" name="倒陀螺 2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496" name="椭圆 08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椭圆 27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椭圆 07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椭圆 28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椭圆 06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椭圆 29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椭圆 05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椭圆 30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04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椭圆 31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椭圆 03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椭圆 32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椭圆 02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椭圆 33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椭圆 01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椭圆 34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椭圆 00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椭圆 35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倒陀螺3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516" name="倒陀螺 3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517" name="椭圆 08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椭圆 27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椭圆 07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椭圆 28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椭圆 06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椭圆 29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05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椭圆 30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椭圆 04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椭圆 31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椭圆 03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椭圆 32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椭圆 02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椭圆 33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01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34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00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35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倒陀螺4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537" name="倒陀螺 4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538" name="椭圆 08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椭圆 27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07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28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06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29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椭圆 05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椭圆 30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椭圆 04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椭圆 31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椭圆 03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椭圆 32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椭圆 02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椭圆 33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椭圆 01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椭圆 34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椭圆 00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椭圆 35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倒陀螺5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558" name="倒陀螺 5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559" name="椭圆 08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椭圆 27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椭圆 07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椭圆 28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椭圆 06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椭圆 29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05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椭圆 30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椭圆 04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椭圆 31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椭圆 03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32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椭圆 02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椭圆 33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椭圆 01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椭圆 34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00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椭圆 35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倒陀螺6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579" name="倒陀螺 6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580" name="椭圆 08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椭圆 27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07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28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椭圆 06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椭圆 29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椭圆 05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30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04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31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03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椭圆 32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椭圆 02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椭圆 33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01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34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椭圆 00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35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倒陀螺7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600" name="倒陀螺 7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601" name="椭圆 08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椭圆 27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07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椭圆 28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椭圆 06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29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椭圆 05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椭圆 30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04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31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椭圆 03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32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02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椭圆 33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01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椭圆 34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椭圆 00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5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倒陀螺8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621" name="倒陀螺 8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622" name="椭圆 08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椭圆 27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07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椭圆 28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椭圆 06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29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椭圆 05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椭圆 30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椭圆 04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椭圆 31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椭圆 03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椭圆 32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椭圆 02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椭圆 33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椭圆 01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椭圆 34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椭圆 00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椭圆 35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倒陀螺9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642" name="倒陀螺 9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643" name="椭圆 08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椭圆 27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椭圆 07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椭圆 28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椭圆 06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椭圆 29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椭圆 05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椭圆 30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椭圆 04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椭圆 31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椭圆 03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椭圆 32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椭圆 02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椭圆 33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椭圆 01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椭圆 34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椭圆 00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椭圆 35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倒陀螺0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grpSp>
          <p:nvGrpSpPr>
            <p:cNvPr id="663" name="倒陀螺 0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664" name="椭圆 09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椭圆 28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椭圆 08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椭圆 29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椭圆 07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椭圆 30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椭圆 06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椭圆 31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椭圆 05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椭圆 32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椭圆 04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椭圆 33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椭圆 03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椭圆 34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椭圆 02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35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椭圆 01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椭圆 00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倒陀螺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684" name="倒陀螺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正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镜面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正陀螺0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688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9" name="正陀螺 0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690" name="椭圆 09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椭圆 28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椭圆 08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椭圆 29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椭圆 07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椭圆 30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椭圆 06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椭圆 31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椭圆 05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椭圆 32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椭圆 04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椭圆 33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椭圆 03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椭圆 34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椭圆 02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椭圆 35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椭圆 01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椭圆 000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8" name="正陀螺9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709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0" name="正陀螺 9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711" name="椭圆 08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椭圆 27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椭圆 07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椭圆 28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椭圆 06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椭圆 29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椭圆 05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椭圆 30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椭圆 04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椭圆 31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椭圆 03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椭圆 32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椭圆 02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椭圆 33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3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椭圆 01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1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椭圆 34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9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椭圆 00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椭圆 359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5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9" name="正陀螺8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730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1" name="正陀螺 8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732" name="椭圆 08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椭圆 27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椭圆 07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椭圆 28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椭圆 06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椭圆 29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椭圆 05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椭圆 30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椭圆 04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椭圆 31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椭圆 03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椭圆 32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椭圆 02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椭圆 33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2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椭圆 01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0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椭圆 34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8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椭圆 00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椭圆 358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4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0" name="正陀螺7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751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正陀螺 7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753" name="椭圆 08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椭圆 27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椭圆 07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椭圆 28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椭圆 06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椭圆 29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椭圆 05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椭圆 30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椭圆 04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椭圆 31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椭圆 03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椭圆 32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椭圆 02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椭圆 33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2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椭圆 01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0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椭圆 34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8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椭圆 00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椭圆 357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4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1" name="正陀螺6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772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3" name="正陀螺 6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774" name="椭圆 08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椭圆 27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椭圆 07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椭圆 28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椭圆 06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椭圆 29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椭圆 05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椭圆 30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椭圆 04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椭圆 31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椭圆 03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椭圆 32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椭圆 02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5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椭圆 33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1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椭圆 01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9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椭圆 34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7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椭圆 00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椭圆 356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3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2" name="正陀螺5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793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正陀螺 5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795" name="椭圆 08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椭圆 27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椭圆 07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椭圆 28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椭圆 06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椭圆 29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椭圆 05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椭圆 30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椭圆 04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椭圆 31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椭圆 03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椭圆 32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椭圆 02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椭圆 33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椭圆 01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椭圆 34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椭圆 00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椭圆 355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3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3" name="正陀螺4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814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正陀螺 4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816" name="椭圆 08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5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椭圆 27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椭圆 07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椭圆 28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椭圆 06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椭圆 29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椭圆 05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椭圆 30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椭圆 04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椭圆 31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椭圆 03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椭圆 32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椭圆 02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4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椭圆 33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0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椭圆 01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8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椭圆 34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6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椭圆 00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椭圆 354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24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正陀螺3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835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6" name="正陀螺 3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837" name="椭圆 08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椭圆 27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07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椭圆 28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椭圆 06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29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椭圆 05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椭圆 30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椭圆 04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椭圆 31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椭圆 03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椭圆 32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椭圆 02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3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椭圆 33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9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椭圆 01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椭圆 34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5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椭圆 00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椭圆 353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1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正陀螺2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856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正陀螺 2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858" name="椭圆 08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椭圆 27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椭圆 07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椭圆 28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椭圆 06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椭圆 29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椭圆 05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椭圆 30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椭圆 04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椭圆 31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椭圆 03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椭圆 32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椭圆 02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3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椭圆 33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9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椭圆 01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7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椭圆 34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5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椭圆 00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椭圆 352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12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6" name="正陀螺1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877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正陀螺 1"/>
            <p:cNvGrpSpPr/>
            <p:nvPr/>
          </p:nvGrpSpPr>
          <p:grpSpPr>
            <a:xfrm>
              <a:off x="3429000" y="2286000"/>
              <a:ext cx="2286000" cy="2286000"/>
              <a:chOff x="3429000" y="2286000"/>
              <a:chExt cx="2286000" cy="2286000"/>
            </a:xfrm>
          </p:grpSpPr>
          <p:sp>
            <p:nvSpPr>
              <p:cNvPr id="879" name="椭圆 08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椭圆 27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椭圆 07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4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椭圆 28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6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06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椭圆 29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7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椭圆 05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3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30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椭圆 04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椭圆 31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03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椭圆 32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椭圆 02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2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椭圆 33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198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  <a:ea typeface="宋体"/>
                  </a:rPr>
                  <a:t>\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椭圆 01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椭圆 34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04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椭圆 00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椭圆 351"/>
              <p:cNvSpPr/>
              <p:nvPr/>
            </p:nvSpPr>
            <p:spPr>
              <a:xfrm>
                <a:off x="3429000" y="2286000"/>
                <a:ext cx="2286000" cy="22860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50000">
                    <a:srgbClr val="7f7f7f"/>
                  </a:gs>
                  <a:gs pos="100000">
                    <a:srgbClr val="7f7f7f"/>
                  </a:gs>
                </a:gsLst>
                <a:lin ang="2106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7" name="正陀螺"/>
          <p:cNvGrpSpPr/>
          <p:nvPr/>
        </p:nvGrpSpPr>
        <p:grpSpPr>
          <a:xfrm>
            <a:off x="3429000" y="2286000"/>
            <a:ext cx="2286000" cy="2286000"/>
            <a:chOff x="3429000" y="2286000"/>
            <a:chExt cx="2286000" cy="2286000"/>
          </a:xfrm>
        </p:grpSpPr>
        <p:sp>
          <p:nvSpPr>
            <p:cNvPr id="898" name="倒陀螺" hidden="1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正陀螺"/>
            <p:cNvSpPr/>
            <p:nvPr/>
          </p:nvSpPr>
          <p:spPr>
            <a:xfrm>
              <a:off x="3429000" y="2286000"/>
              <a:ext cx="2286000" cy="2286000"/>
            </a:xfrm>
            <a:prstGeom prst="ellipse">
              <a:avLst/>
            </a:prstGeom>
            <a:solidFill>
              <a:srgbClr val="7f7f7f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实际运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文本框 452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86" dur="6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3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90" dur="1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92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 repeatCount="indefinite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97" dur="6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3000" fill="hold"/>
                                        <p:tgtEl>
                                          <p:spTgt spid="47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01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03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0" repeatCount="indefinite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08" dur="6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3000" fill="hold"/>
                                        <p:tgtEl>
                                          <p:spTgt spid="49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12" dur="1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14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0" repeatCount="indefinite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19" dur="6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3000" fill="hold"/>
                                        <p:tgtEl>
                                          <p:spTgt spid="51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23" dur="1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4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25" dur="3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 repeatCount="indefinite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30" dur="6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3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34" dur="1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36" dur="3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0" repeatCount="indefinite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41" dur="6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3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45" dur="1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47" dur="3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0" repeatCount="indefinite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52" dur="6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3000" fill="hold"/>
                                        <p:tgtEl>
                                          <p:spTgt spid="57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56" dur="1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58" dur="3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 repeatCount="indefinite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63" dur="6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30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67" dur="1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69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0" repeatCount="indefinite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74" dur="6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3000" fill="hold"/>
                                        <p:tgtEl>
                                          <p:spTgt spid="62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78" dur="1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80" dur="3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 repeatCount="indefinite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85" dur="6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3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189" dur="1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191" dur="3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196" dur="6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3000" fill="hold"/>
                                        <p:tgtEl>
                                          <p:spTgt spid="66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00000">
                                      <p:cBhvr>
                                        <p:cTn id="200" dur="1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-1800000">
                                      <p:cBhvr>
                                        <p:cTn id="202" dur="3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07" dur="6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9" dur="3000" fill="hold"/>
                                        <p:tgtEl>
                                          <p:spTgt spid="68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11" dur="1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13" dur="3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0" repeatCount="indefinite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18" dur="6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3000" fill="hold"/>
                                        <p:tgtEl>
                                          <p:spTgt spid="70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22" dur="1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24" dur="3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 repeatCount="indefinite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29" dur="6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3000" fill="hold"/>
                                        <p:tgtEl>
                                          <p:spTgt spid="72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33" dur="1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35" dur="3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 repeatCount="indefinite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40" dur="60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2" dur="3000" fill="hold"/>
                                        <p:tgtEl>
                                          <p:spTgt spid="75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44" dur="1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46" dur="3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10" repeatCount="indefinite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51" dur="6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3000" fill="hold"/>
                                        <p:tgtEl>
                                          <p:spTgt spid="77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55" dur="1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6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57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 repeatCount="indefinite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62" dur="6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3000" fill="hold"/>
                                        <p:tgtEl>
                                          <p:spTgt spid="7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66" dur="1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68" dur="3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 repeatCount="indefinite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73" dur="60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3000" fill="hold"/>
                                        <p:tgtEl>
                                          <p:spTgt spid="81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77" dur="1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8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79" dur="3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0" repeatCount="indefinite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84" dur="6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3000" fill="hold"/>
                                        <p:tgtEl>
                                          <p:spTgt spid="834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88" dur="1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290" dur="3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 repeatCount="indefinite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295" dur="6000" fill="hold"/>
                                        <p:tgtEl>
                                          <p:spTgt spid="8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3000" fill="hold"/>
                                        <p:tgtEl>
                                          <p:spTgt spid="85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299" dur="1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0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301" dur="3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0" repeatCount="indefinite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306" dur="6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3000" fill="hold"/>
                                        <p:tgtEl>
                                          <p:spTgt spid="8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10" dur="1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1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312" dur="3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21944 C 0.08472 0.21944 0.15503 0.17013 0.15503 0.10949 C 0.15503 0.04907 0.08472 -0.00047 -0.00243 -0.00047 C -0.08976 -0.00047 -0.16146 0.04907 -0.16146 0.10949 C -0.16146 0.17013 -0.08976 0.21944 -0.00243 0.21944 Z">
                                      <p:cBhvr>
                                        <p:cTn id="314" dur="6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dur="indefinite" autoRev="1" nodeType="withEffect" fill="remove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3000" fill="hold"/>
                                        <p:tgtEl>
                                          <p:spTgt spid="897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18" dur="1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9" dur="indefinite" autoRev="1" nodeType="withEffect" fill="remove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1800000">
                                      <p:cBhvr>
                                        <p:cTn id="320" dur="30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C731-BEDD-4158-BBBB-6352CB2AAC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未实现的效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45720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陀螺维持平衡的摇摆运动，因本人能力所限，只能做出左右摇摆的分运动效果，实际摇摆的效果无法与定轴转动效果同时实现，希望能人予以赐教，不胜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陀螺"/>
          <p:cNvSpPr/>
          <p:nvPr/>
        </p:nvSpPr>
        <p:spPr>
          <a:xfrm>
            <a:off x="1790640" y="1989000"/>
            <a:ext cx="1530360" cy="1528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正陀螺"/>
          <p:cNvSpPr/>
          <p:nvPr/>
        </p:nvSpPr>
        <p:spPr>
          <a:xfrm>
            <a:off x="179280" y="3154320"/>
            <a:ext cx="1530360" cy="1528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正陀螺"/>
          <p:cNvSpPr/>
          <p:nvPr/>
        </p:nvSpPr>
        <p:spPr>
          <a:xfrm>
            <a:off x="3402000" y="3154320"/>
            <a:ext cx="1528920" cy="1528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正陀螺"/>
          <p:cNvSpPr/>
          <p:nvPr/>
        </p:nvSpPr>
        <p:spPr>
          <a:xfrm>
            <a:off x="1790640" y="4317840"/>
            <a:ext cx="1530360" cy="1530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正陀螺"/>
          <p:cNvSpPr/>
          <p:nvPr/>
        </p:nvSpPr>
        <p:spPr>
          <a:xfrm>
            <a:off x="5938920" y="977760"/>
            <a:ext cx="2286000" cy="22860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y"/>
          <p:cNvSpPr/>
          <p:nvPr/>
        </p:nvSpPr>
        <p:spPr>
          <a:xfrm>
            <a:off x="6272280" y="4718160"/>
            <a:ext cx="1620720" cy="35856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实际效果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childTnLst>
                  <p:par>
                    <p:cTn id="323" fill="hold"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"/>
                            </p:stCondLst>
                            <p:childTnLst>
                              <p:par>
                                <p:cTn id="32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0" dur="1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"/>
                            </p:stCondLst>
                            <p:childTnLst>
                              <p:par>
                                <p:cTn id="3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"/>
                            </p:stCondLst>
                            <p:childTnLst>
                              <p:par>
                                <p:cTn id="3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38" dur="1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40"/>
                            </p:stCondLst>
                            <p:childTnLst>
                              <p:par>
                                <p:cTn id="3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"/>
                            </p:stCondLst>
                            <p:childTnLst>
                              <p:par>
                                <p:cTn id="34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46" dur="1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"/>
                            </p:stCondLst>
                            <p:childTnLst>
                              <p:par>
                                <p:cTn id="3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"/>
                            </p:stCondLst>
                            <p:childTnLst>
                              <p:par>
                                <p:cTn id="3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54" dur="1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80"/>
                            </p:stCondLst>
                            <p:childTnLst>
                              <p:par>
                                <p:cTn id="3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0"/>
                            </p:stCondLst>
                            <p:childTnLst>
                              <p:par>
                                <p:cTn id="3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62" dur="1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"/>
                            </p:stCondLst>
                            <p:childTnLst>
                              <p:par>
                                <p:cTn id="3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10"/>
                            </p:stCondLst>
                            <p:childTnLst>
                              <p:par>
                                <p:cTn id="3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0" dur="1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20"/>
                            </p:stCondLst>
                            <p:childTnLst>
                              <p:par>
                                <p:cTn id="3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0"/>
                            </p:stCondLst>
                            <p:childTnLst>
                              <p:par>
                                <p:cTn id="37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78" dur="1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0"/>
                            </p:stCondLst>
                            <p:childTnLst>
                              <p:par>
                                <p:cTn id="3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"/>
                            </p:stCondLst>
                            <p:childTnLst>
                              <p:par>
                                <p:cTn id="3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86" dur="1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0"/>
                            </p:stCondLst>
                            <p:childTnLst>
                              <p:par>
                                <p:cTn id="3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70"/>
                            </p:stCondLst>
                            <p:childTnLst>
                              <p:par>
                                <p:cTn id="39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394" dur="1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80"/>
                            </p:stCondLst>
                            <p:childTnLst>
                              <p:par>
                                <p:cTn id="3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90"/>
                            </p:stCondLst>
                            <p:childTnLst>
                              <p:par>
                                <p:cTn id="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02" dur="1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"/>
                            </p:stCondLst>
                            <p:childTnLst>
                              <p:par>
                                <p:cTn id="4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10"/>
                            </p:stCondLst>
                            <p:childTnLst>
                              <p:par>
                                <p:cTn id="40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10" dur="1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20"/>
                            </p:stCondLst>
                            <p:childTnLst>
                              <p:par>
                                <p:cTn id="4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30"/>
                            </p:stCondLst>
                            <p:childTnLst>
                              <p:par>
                                <p:cTn id="4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18" dur="1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40"/>
                            </p:stCondLst>
                            <p:childTnLst>
                              <p:par>
                                <p:cTn id="4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"/>
                            </p:stCondLst>
                            <p:childTnLst>
                              <p:par>
                                <p:cTn id="4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26" dur="1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60"/>
                            </p:stCondLst>
                            <p:childTnLst>
                              <p:par>
                                <p:cTn id="4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70"/>
                            </p:stCondLst>
                            <p:childTnLst>
                              <p:par>
                                <p:cTn id="4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34" dur="1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80"/>
                            </p:stCondLst>
                            <p:childTnLst>
                              <p:par>
                                <p:cTn id="4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90"/>
                            </p:stCondLst>
                            <p:childTnLst>
                              <p:par>
                                <p:cTn id="44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42" dur="1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"/>
                            </p:stCondLst>
                            <p:childTnLst>
                              <p:par>
                                <p:cTn id="4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0"/>
                            </p:stCondLst>
                            <p:childTnLst>
                              <p:par>
                                <p:cTn id="4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0" dur="1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20"/>
                            </p:stCondLst>
                            <p:childTnLst>
                              <p:par>
                                <p:cTn id="4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30"/>
                            </p:stCondLst>
                            <p:childTnLst>
                              <p:par>
                                <p:cTn id="45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58" dur="1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40"/>
                            </p:stCondLst>
                            <p:childTnLst>
                              <p:par>
                                <p:cTn id="4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"/>
                            </p:stCondLst>
                            <p:childTnLst>
                              <p:par>
                                <p:cTn id="46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66" dur="1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60"/>
                            </p:stCondLst>
                            <p:childTnLst>
                              <p:par>
                                <p:cTn id="4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70"/>
                            </p:stCondLst>
                            <p:childTnLst>
                              <p:par>
                                <p:cTn id="4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74" dur="1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80"/>
                            </p:stCondLst>
                            <p:childTnLst>
                              <p:par>
                                <p:cTn id="4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90"/>
                            </p:stCondLst>
                            <p:childTnLst>
                              <p:par>
                                <p:cTn id="4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82" dur="1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400"/>
                            </p:stCondLst>
                            <p:childTnLst>
                              <p:par>
                                <p:cTn id="4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410"/>
                            </p:stCondLst>
                            <p:childTnLst>
                              <p:par>
                                <p:cTn id="48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90" dur="1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20"/>
                            </p:stCondLst>
                            <p:childTnLst>
                              <p:par>
                                <p:cTn id="4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30"/>
                            </p:stCondLst>
                            <p:childTnLst>
                              <p:par>
                                <p:cTn id="49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498" dur="1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440"/>
                            </p:stCondLst>
                            <p:childTnLst>
                              <p:par>
                                <p:cTn id="5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50"/>
                            </p:stCondLst>
                            <p:childTnLst>
                              <p:par>
                                <p:cTn id="5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06" dur="1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60"/>
                            </p:stCondLst>
                            <p:childTnLst>
                              <p:par>
                                <p:cTn id="5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70"/>
                            </p:stCondLst>
                            <p:childTnLst>
                              <p:par>
                                <p:cTn id="51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14" dur="1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80"/>
                            </p:stCondLst>
                            <p:childTnLst>
                              <p:par>
                                <p:cTn id="5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490"/>
                            </p:stCondLst>
                            <p:childTnLst>
                              <p:par>
                                <p:cTn id="52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22" dur="1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10"/>
                            </p:stCondLst>
                            <p:childTnLst>
                              <p:par>
                                <p:cTn id="52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30" dur="1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20"/>
                            </p:stCondLst>
                            <p:childTnLst>
                              <p:par>
                                <p:cTn id="5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30"/>
                            </p:stCondLst>
                            <p:childTnLst>
                              <p:par>
                                <p:cTn id="5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38" dur="1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40"/>
                            </p:stCondLst>
                            <p:childTnLst>
                              <p:par>
                                <p:cTn id="5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"/>
                            </p:stCondLst>
                            <p:childTnLst>
                              <p:par>
                                <p:cTn id="54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46" dur="1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60"/>
                            </p:stCondLst>
                            <p:childTnLst>
                              <p:par>
                                <p:cTn id="5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70"/>
                            </p:stCondLst>
                            <p:childTnLst>
                              <p:par>
                                <p:cTn id="5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54" dur="1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80"/>
                            </p:stCondLst>
                            <p:childTnLst>
                              <p:par>
                                <p:cTn id="5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90"/>
                            </p:stCondLst>
                            <p:childTnLst>
                              <p:par>
                                <p:cTn id="5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62" dur="1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00"/>
                            </p:stCondLst>
                            <p:childTnLst>
                              <p:par>
                                <p:cTn id="5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610"/>
                            </p:stCondLst>
                            <p:childTnLst>
                              <p:par>
                                <p:cTn id="5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70" dur="1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20"/>
                            </p:stCondLst>
                            <p:childTnLst>
                              <p:par>
                                <p:cTn id="5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630"/>
                            </p:stCondLst>
                            <p:childTnLst>
                              <p:par>
                                <p:cTn id="57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78" dur="1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40"/>
                            </p:stCondLst>
                            <p:childTnLst>
                              <p:par>
                                <p:cTn id="5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"/>
                            </p:stCondLst>
                            <p:childTnLst>
                              <p:par>
                                <p:cTn id="5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86" dur="1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660"/>
                            </p:stCondLst>
                            <p:childTnLst>
                              <p:par>
                                <p:cTn id="5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670"/>
                            </p:stCondLst>
                            <p:childTnLst>
                              <p:par>
                                <p:cTn id="59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594" dur="1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80"/>
                            </p:stCondLst>
                            <p:childTnLst>
                              <p:par>
                                <p:cTn id="5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90"/>
                            </p:stCondLst>
                            <p:childTnLst>
                              <p:par>
                                <p:cTn id="6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02" dur="1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700"/>
                            </p:stCondLst>
                            <p:childTnLst>
                              <p:par>
                                <p:cTn id="6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710"/>
                            </p:stCondLst>
                            <p:childTnLst>
                              <p:par>
                                <p:cTn id="60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0" dur="1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720"/>
                            </p:stCondLst>
                            <p:childTnLst>
                              <p:par>
                                <p:cTn id="6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30"/>
                            </p:stCondLst>
                            <p:childTnLst>
                              <p:par>
                                <p:cTn id="6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18" dur="1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740"/>
                            </p:stCondLst>
                            <p:childTnLst>
                              <p:par>
                                <p:cTn id="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750"/>
                            </p:stCondLst>
                            <p:childTnLst>
                              <p:par>
                                <p:cTn id="6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26" dur="1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760"/>
                            </p:stCondLst>
                            <p:childTnLst>
                              <p:par>
                                <p:cTn id="6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770"/>
                            </p:stCondLst>
                            <p:childTnLst>
                              <p:par>
                                <p:cTn id="6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34" dur="1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780"/>
                            </p:stCondLst>
                            <p:childTnLst>
                              <p:par>
                                <p:cTn id="6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790"/>
                            </p:stCondLst>
                            <p:childTnLst>
                              <p:par>
                                <p:cTn id="64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42" dur="1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800"/>
                            </p:stCondLst>
                            <p:childTnLst>
                              <p:par>
                                <p:cTn id="6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810"/>
                            </p:stCondLst>
                            <p:childTnLst>
                              <p:par>
                                <p:cTn id="6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0" dur="1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820"/>
                            </p:stCondLst>
                            <p:childTnLst>
                              <p:par>
                                <p:cTn id="6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830"/>
                            </p:stCondLst>
                            <p:childTnLst>
                              <p:par>
                                <p:cTn id="65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58" dur="1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840"/>
                            </p:stCondLst>
                            <p:childTnLst>
                              <p:par>
                                <p:cTn id="6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850"/>
                            </p:stCondLst>
                            <p:childTnLst>
                              <p:par>
                                <p:cTn id="66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66" dur="1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860"/>
                            </p:stCondLst>
                            <p:childTnLst>
                              <p:par>
                                <p:cTn id="6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870"/>
                            </p:stCondLst>
                            <p:childTnLst>
                              <p:par>
                                <p:cTn id="6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74" dur="1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880"/>
                            </p:stCondLst>
                            <p:childTnLst>
                              <p:par>
                                <p:cTn id="6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890"/>
                            </p:stCondLst>
                            <p:childTnLst>
                              <p:par>
                                <p:cTn id="6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82" dur="1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900"/>
                            </p:stCondLst>
                            <p:childTnLst>
                              <p:par>
                                <p:cTn id="6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910"/>
                            </p:stCondLst>
                            <p:childTnLst>
                              <p:par>
                                <p:cTn id="68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90" dur="1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920"/>
                            </p:stCondLst>
                            <p:childTnLst>
                              <p:par>
                                <p:cTn id="6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930"/>
                            </p:stCondLst>
                            <p:childTnLst>
                              <p:par>
                                <p:cTn id="69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698" dur="1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940"/>
                            </p:stCondLst>
                            <p:childTnLst>
                              <p:par>
                                <p:cTn id="7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950"/>
                            </p:stCondLst>
                            <p:childTnLst>
                              <p:par>
                                <p:cTn id="7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06" dur="1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60"/>
                            </p:stCondLst>
                            <p:childTnLst>
                              <p:par>
                                <p:cTn id="7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70"/>
                            </p:stCondLst>
                            <p:childTnLst>
                              <p:par>
                                <p:cTn id="71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14" dur="1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980"/>
                            </p:stCondLst>
                            <p:childTnLst>
                              <p:par>
                                <p:cTn id="7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990"/>
                            </p:stCondLst>
                            <p:childTnLst>
                              <p:par>
                                <p:cTn id="72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22" dur="1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10"/>
                            </p:stCondLst>
                            <p:childTnLst>
                              <p:par>
                                <p:cTn id="72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0" dur="1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20"/>
                            </p:stCondLst>
                            <p:childTnLst>
                              <p:par>
                                <p:cTn id="7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30"/>
                            </p:stCondLst>
                            <p:childTnLst>
                              <p:par>
                                <p:cTn id="73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38" dur="1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40"/>
                            </p:stCondLst>
                            <p:childTnLst>
                              <p:par>
                                <p:cTn id="7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50"/>
                            </p:stCondLst>
                            <p:childTnLst>
                              <p:par>
                                <p:cTn id="74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46" dur="1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60"/>
                            </p:stCondLst>
                            <p:childTnLst>
                              <p:par>
                                <p:cTn id="7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70"/>
                            </p:stCondLst>
                            <p:childTnLst>
                              <p:par>
                                <p:cTn id="75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54" dur="1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80"/>
                            </p:stCondLst>
                            <p:childTnLst>
                              <p:par>
                                <p:cTn id="7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90"/>
                            </p:stCondLst>
                            <p:childTnLst>
                              <p:par>
                                <p:cTn id="76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62" dur="1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"/>
                            </p:stCondLst>
                            <p:childTnLst>
                              <p:par>
                                <p:cTn id="7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110"/>
                            </p:stCondLst>
                            <p:childTnLst>
                              <p:par>
                                <p:cTn id="76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70" dur="1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120"/>
                            </p:stCondLst>
                            <p:childTnLst>
                              <p:par>
                                <p:cTn id="7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130"/>
                            </p:stCondLst>
                            <p:childTnLst>
                              <p:par>
                                <p:cTn id="77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78" dur="1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140"/>
                            </p:stCondLst>
                            <p:childTnLst>
                              <p:par>
                                <p:cTn id="7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150"/>
                            </p:stCondLst>
                            <p:childTnLst>
                              <p:par>
                                <p:cTn id="7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86" dur="1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160"/>
                            </p:stCondLst>
                            <p:childTnLst>
                              <p:par>
                                <p:cTn id="7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170"/>
                            </p:stCondLst>
                            <p:childTnLst>
                              <p:par>
                                <p:cTn id="79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794" dur="1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180"/>
                            </p:stCondLst>
                            <p:childTnLst>
                              <p:par>
                                <p:cTn id="7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190"/>
                            </p:stCondLst>
                            <p:childTnLst>
                              <p:par>
                                <p:cTn id="8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02" dur="1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200"/>
                            </p:stCondLst>
                            <p:childTnLst>
                              <p:par>
                                <p:cTn id="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210"/>
                            </p:stCondLst>
                            <p:childTnLst>
                              <p:par>
                                <p:cTn id="80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10" dur="1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220"/>
                            </p:stCondLst>
                            <p:childTnLst>
                              <p:par>
                                <p:cTn id="8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230"/>
                            </p:stCondLst>
                            <p:childTnLst>
                              <p:par>
                                <p:cTn id="81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18" dur="1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240"/>
                            </p:stCondLst>
                            <p:childTnLst>
                              <p:par>
                                <p:cTn id="8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250"/>
                            </p:stCondLst>
                            <p:childTnLst>
                              <p:par>
                                <p:cTn id="8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26" dur="1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260"/>
                            </p:stCondLst>
                            <p:childTnLst>
                              <p:par>
                                <p:cTn id="8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1270"/>
                            </p:stCondLst>
                            <p:childTnLst>
                              <p:par>
                                <p:cTn id="83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34" dur="1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280"/>
                            </p:stCondLst>
                            <p:childTnLst>
                              <p:par>
                                <p:cTn id="83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290"/>
                            </p:stCondLst>
                            <p:childTnLst>
                              <p:par>
                                <p:cTn id="84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42" dur="1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300"/>
                            </p:stCondLst>
                            <p:childTnLst>
                              <p:par>
                                <p:cTn id="8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310"/>
                            </p:stCondLst>
                            <p:childTnLst>
                              <p:par>
                                <p:cTn id="84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50" dur="1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20"/>
                            </p:stCondLst>
                            <p:childTnLst>
                              <p:par>
                                <p:cTn id="8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330"/>
                            </p:stCondLst>
                            <p:childTnLst>
                              <p:par>
                                <p:cTn id="85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58" dur="1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1340"/>
                            </p:stCondLst>
                            <p:childTnLst>
                              <p:par>
                                <p:cTn id="8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350"/>
                            </p:stCondLst>
                            <p:childTnLst>
                              <p:par>
                                <p:cTn id="86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66" dur="1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360"/>
                            </p:stCondLst>
                            <p:childTnLst>
                              <p:par>
                                <p:cTn id="8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370"/>
                            </p:stCondLst>
                            <p:childTnLst>
                              <p:par>
                                <p:cTn id="8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74" dur="1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380"/>
                            </p:stCondLst>
                            <p:childTnLst>
                              <p:par>
                                <p:cTn id="8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390"/>
                            </p:stCondLst>
                            <p:childTnLst>
                              <p:par>
                                <p:cTn id="88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82" dur="1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400"/>
                            </p:stCondLst>
                            <p:childTnLst>
                              <p:par>
                                <p:cTn id="8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410"/>
                            </p:stCondLst>
                            <p:childTnLst>
                              <p:par>
                                <p:cTn id="889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0" dur="1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420"/>
                            </p:stCondLst>
                            <p:childTnLst>
                              <p:par>
                                <p:cTn id="8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430"/>
                            </p:stCondLst>
                            <p:childTnLst>
                              <p:par>
                                <p:cTn id="897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898" dur="1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440"/>
                            </p:stCondLst>
                            <p:childTnLst>
                              <p:par>
                                <p:cTn id="9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450"/>
                            </p:stCondLst>
                            <p:childTnLst>
                              <p:par>
                                <p:cTn id="90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in">
                                      <p:cBhvr additive="repl">
                                        <p:cTn id="906" dur="1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5:2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5:11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